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515-19E1-4838-AC54-F1B2680D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0DC-0B77-410A-896C-549D1206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334-60A7-4DEE-8E3B-1A45CBF2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339-5827-4A69-8B32-804BB2C3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3AB2-B4E7-4EA0-A368-0711C4B5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79D9-2A67-4399-96E7-E400AFF9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182A-996D-495F-92AB-86B7AC59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49EE-5182-4C2D-B693-8B6D37D9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56E0-8D65-4A70-881A-C2AD82CC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06DE-2ED8-4866-86B7-66C24A60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EF2D-D764-482B-A213-E8E005F1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5FB-AA75-441D-B475-27DF09F9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47A4-0B40-4D24-8A07-43A5F7BC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C383-4D4B-4570-A60A-B6624440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1FC6-5D73-4154-974C-8CCDD9E0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9ECC-6C1B-4225-91DB-5BF79513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B5FF-520D-4445-B84D-5EEEB7CE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6AE-D345-495A-831A-4494D00E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FEC-FD5E-4BC0-A7B1-1D3C3D7B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565-109A-4A40-AAAB-9EE8BD5E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0F6B-46C3-4D5F-9983-1C1AE50D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A43-EEF6-407A-9A4F-0EA3D0A0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A04-074C-477B-9CDC-69E20FD5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2D6-A2C7-4AE9-B074-DDD9C154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B28F-E067-4112-9A27-57853527CC17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4B3C-C904-4C9D-B62B-633FB769771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990720" y="6629400"/>
            <a:ext cx="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70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3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7EE8-9A22-4DA7-8CC0-08F596C797BD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A897-B325-4C70-9D44-D9D002474ED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Custom JSP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Arial"/>
              </a:rPr>
              <a:t>™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Ta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Scott Stanchfiel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oftware &amp; Systems Engine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GM, In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Copyright © 2002, Scott Stanchfield. All Rights Reserve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ke No Offense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grammers write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at’s why we hire them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tent writers write cont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at’s why we hire them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ifferent skill se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oth are necessar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A3D-52C3-4BC0-A58F-082E834F39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8E216-6C00-494C-94D8-A4B3970F2F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stom Tags Seal the De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grammer writes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usiness logi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ata logi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ustom tag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tent writer writes JS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nt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es custom tags to talk with cod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D1F-9CED-43A1-8742-F7D80B4BE7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19FBE-00DA-4072-9567-0392FE72F4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stom Tags Bridge the G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ustom tags are xml tag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asy for content writ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n be validated for correctnes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ag handlers execute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ritten as Java class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municate with business &amp; data logic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ides implementation detai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2DB-A615-4A55-AEFF-EE7785213D9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B26A5-C1B2-4227-A434-C63E4B065A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y “NO” To Scriptlets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criptlets are EVI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ol, but EVI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ixing code and cont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quires two people to maintain JS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ntent writ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gramm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quires coordina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ither person could make a mistak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53D-2857-44ED-9416-11766488E41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9314B-5F78-495B-BAFD-1A70314D82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ttom 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et your programmers program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et your writers write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Keep their source separate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836-3182-4F24-8961-70B9FC4DC8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06633-CED2-49A0-B5E0-8D04AFAD1F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a Custom Tag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xtends generation capabilities of JS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s an XML tag with a handl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utomatically translated to handler cal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suppor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mple substitution (macro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er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ata Acces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cop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900-F0FC-4396-B6FF-20F734F6D5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95767-795D-47B5-A88D-71E58F91F9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lementing Custom Ta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s is the programmer’s job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fine tags in Tag Library Descriptor (TLD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reate handler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ocument tags for content writers’ u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8EA-D97C-45DC-BEBC-9CC6F22FB15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5E1DC-DAF1-41CB-BFCD-F4FBA8F24A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ing Custom Ta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s is the content writer’s job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clare which tag libraries you need in JS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mbed tags like any other XML tag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Do not use scriptlets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C92-6E8B-4B91-9852-2AC40A35805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30FA2-0AB1-4BFD-BD09-D1AE70348B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Custom Tag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mpty tags have no bod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crunchyFrog&gt;&lt;/crunchyFrog&gt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crunchyFrog/&gt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trol tags tell page to use/skip bod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if condition=“x==4”&gt;</a:t>
            </a:r>
            <a:br>
              <a:rPr sz="2200"/>
            </a:b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!– some body --&gt;</a:t>
            </a:r>
            <a:br>
              <a:rPr sz="2200"/>
            </a:b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/if&gt;</a:t>
            </a:r>
            <a:endParaRPr b="0" lang="en-US" sz="2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terator tags tell page to repeat bod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forEachPerson name=“x”&gt;</a:t>
            </a:r>
            <a:br>
              <a:rPr sz="2200"/>
            </a:b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!– some body --&gt;</a:t>
            </a:r>
            <a:br>
              <a:rPr sz="2200"/>
            </a:br>
            <a:r>
              <a:rPr b="1" lang="en-US" sz="2200" spc="-1" strike="noStrike">
                <a:solidFill>
                  <a:srgbClr val="545472"/>
                </a:solidFill>
                <a:latin typeface="Courier New"/>
              </a:rPr>
              <a:t>&lt;/forEachPerson&gt;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511-17B6-44C2-ABD1-943A739D85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BB9C5-D3CB-4236-8FA3-29D66DC559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gs With No Body Knowled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ome tags don’t care what is inside th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mple tag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erator Tag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se tags can tell pag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examine bod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skip bod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loop over bod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A9C-2EEA-4535-BF70-59A9045DF1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55AAD-4235-46BB-BFAD-8CAADFC315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sentation Goal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952880"/>
            <a:ext cx="6934320" cy="304920"/>
          </a:xfrm>
          <a:custGeom>
            <a:avLst/>
            <a:gdLst/>
            <a:ahLst/>
            <a:rect l="l" t="t" r="r" b="b"/>
            <a:pathLst>
              <a:path w="3840" h="96">
                <a:moveTo>
                  <a:pt x="0" y="0"/>
                </a:moveTo>
                <a:lnTo>
                  <a:pt x="0" y="96"/>
                </a:lnTo>
                <a:lnTo>
                  <a:pt x="3840" y="96"/>
                </a:lnTo>
                <a:lnTo>
                  <a:pt x="384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2284920"/>
            <a:ext cx="6934320" cy="304920"/>
          </a:xfrm>
          <a:custGeom>
            <a:avLst/>
            <a:gdLst/>
            <a:ahLst/>
            <a:rect l="l" t="t" r="r" b="b"/>
            <a:pathLst>
              <a:path w="3840" h="96">
                <a:moveTo>
                  <a:pt x="0" y="0"/>
                </a:moveTo>
                <a:lnTo>
                  <a:pt x="0" y="96"/>
                </a:lnTo>
                <a:lnTo>
                  <a:pt x="3840" y="96"/>
                </a:lnTo>
                <a:lnTo>
                  <a:pt x="384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286000"/>
            <a:ext cx="6858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2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Arial"/>
              </a:rPr>
              <a:t>Stop writing code in your JSPs!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2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Arial"/>
              </a:rPr>
              <a:t>Separate your concerns with Custom Tags!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2CE-85FF-415B-9201-EB14C83751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70842-37F5-47CB-A341-06F32C3FEC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g Attribu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ustom tags can have attributes</a:t>
            </a:r>
            <a:br>
              <a:rPr sz="3200"/>
            </a:br>
            <a:br>
              <a:rPr sz="26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&lt;header name=“Scott”&gt;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ag handler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mus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have set methods for attributes per JavaBean spec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public void setName(String n) {…}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SP creates tag handler, sets attribut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E59-7896-4293-AA2C-C7A4B3DC618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1C5A7-16E4-4085-B3FF-0174D31831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Tag Life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600200"/>
            <a:ext cx="914400" cy="457200"/>
          </a:xfrm>
          <a:prstGeom prst="rect">
            <a:avLst/>
          </a:prstGeom>
          <a:solidFill>
            <a:srgbClr val="9595ff"/>
          </a:solidFill>
          <a:ln w="19080">
            <a:solidFill>
              <a:srgbClr val="898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JSP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23760" y="2035080"/>
            <a:ext cx="5134320" cy="567000"/>
            <a:chOff x="923760" y="2035080"/>
            <a:chExt cx="5134320" cy="567000"/>
          </a:xfrm>
        </p:grpSpPr>
        <p:sp>
          <p:nvSpPr>
            <p:cNvPr id="182" name=""/>
            <p:cNvSpPr/>
            <p:nvPr/>
          </p:nvSpPr>
          <p:spPr>
            <a:xfrm>
              <a:off x="4152960" y="2144880"/>
              <a:ext cx="1905120" cy="4572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Arial"/>
                </a:rPr>
                <a:t>Tag Handler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3480" y="203508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Create tag handler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184" name=""/>
            <p:cNvCxnSpPr>
              <a:stCxn id="185" idx="3"/>
              <a:endCxn id="182" idx="1"/>
            </p:cNvCxnSpPr>
            <p:nvPr/>
          </p:nvCxnSpPr>
          <p:spPr>
            <a:xfrm>
              <a:off x="1219320" y="2373120"/>
              <a:ext cx="292464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185" name=""/>
            <p:cNvSpPr/>
            <p:nvPr/>
          </p:nvSpPr>
          <p:spPr>
            <a:xfrm>
              <a:off x="923760" y="222084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0" idx="2"/>
              <a:endCxn id="185" idx="0"/>
            </p:cNvCxnSpPr>
            <p:nvPr/>
          </p:nvCxnSpPr>
          <p:spPr>
            <a:xfrm>
              <a:off x="1066320" y="2066760"/>
              <a:ext cx="1080" cy="14544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187" name=""/>
          <p:cNvGrpSpPr/>
          <p:nvPr/>
        </p:nvGrpSpPr>
        <p:grpSpPr>
          <a:xfrm>
            <a:off x="923760" y="2535120"/>
            <a:ext cx="4324680" cy="600120"/>
            <a:chOff x="923760" y="2535120"/>
            <a:chExt cx="4324680" cy="600120"/>
          </a:xfrm>
        </p:grpSpPr>
        <p:sp>
          <p:nvSpPr>
            <p:cNvPr id="188" name=""/>
            <p:cNvSpPr/>
            <p:nvPr/>
          </p:nvSpPr>
          <p:spPr>
            <a:xfrm>
              <a:off x="1293120" y="2633760"/>
              <a:ext cx="21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setPageContext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189" name=""/>
            <p:cNvCxnSpPr>
              <a:stCxn id="190" idx="3"/>
              <a:endCxn id="191" idx="1"/>
            </p:cNvCxnSpPr>
            <p:nvPr/>
          </p:nvCxnSpPr>
          <p:spPr>
            <a:xfrm>
              <a:off x="1218960" y="298260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190" name=""/>
            <p:cNvSpPr/>
            <p:nvPr/>
          </p:nvSpPr>
          <p:spPr>
            <a:xfrm>
              <a:off x="923760" y="28306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62600" y="28306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192" name=""/>
            <p:cNvCxnSpPr>
              <a:stCxn id="185" idx="2"/>
              <a:endCxn id="190" idx="0"/>
            </p:cNvCxnSpPr>
            <p:nvPr/>
          </p:nvCxnSpPr>
          <p:spPr>
            <a:xfrm>
              <a:off x="1066320" y="2535120"/>
              <a:ext cx="1080" cy="286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193" name=""/>
            <p:cNvCxnSpPr>
              <a:stCxn id="182" idx="2"/>
              <a:endCxn id="191" idx="0"/>
            </p:cNvCxnSpPr>
            <p:nvPr/>
          </p:nvCxnSpPr>
          <p:spPr>
            <a:xfrm>
              <a:off x="5105160" y="2611440"/>
              <a:ext cx="1080" cy="21024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194" name=""/>
          <p:cNvGrpSpPr/>
          <p:nvPr/>
        </p:nvGrpSpPr>
        <p:grpSpPr>
          <a:xfrm>
            <a:off x="923760" y="3090960"/>
            <a:ext cx="4324680" cy="501480"/>
            <a:chOff x="923760" y="3090960"/>
            <a:chExt cx="4324680" cy="501480"/>
          </a:xfrm>
        </p:grpSpPr>
        <p:sp>
          <p:nvSpPr>
            <p:cNvPr id="195" name=""/>
            <p:cNvSpPr/>
            <p:nvPr/>
          </p:nvSpPr>
          <p:spPr>
            <a:xfrm>
              <a:off x="1294200" y="3090960"/>
              <a:ext cx="144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setParent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196" name=""/>
            <p:cNvCxnSpPr>
              <a:stCxn id="197" idx="3"/>
              <a:endCxn id="198" idx="1"/>
            </p:cNvCxnSpPr>
            <p:nvPr/>
          </p:nvCxnSpPr>
          <p:spPr>
            <a:xfrm>
              <a:off x="1218960" y="343980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197" name=""/>
            <p:cNvSpPr/>
            <p:nvPr/>
          </p:nvSpPr>
          <p:spPr>
            <a:xfrm>
              <a:off x="923760" y="32878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62600" y="32878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199" name=""/>
            <p:cNvCxnSpPr>
              <a:stCxn id="190" idx="2"/>
              <a:endCxn id="197" idx="0"/>
            </p:cNvCxnSpPr>
            <p:nvPr/>
          </p:nvCxnSpPr>
          <p:spPr>
            <a:xfrm>
              <a:off x="1066320" y="3144960"/>
              <a:ext cx="1080" cy="133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200" name=""/>
            <p:cNvCxnSpPr>
              <a:stCxn id="191" idx="2"/>
              <a:endCxn id="198" idx="0"/>
            </p:cNvCxnSpPr>
            <p:nvPr/>
          </p:nvCxnSpPr>
          <p:spPr>
            <a:xfrm>
              <a:off x="5105160" y="3144960"/>
              <a:ext cx="1080" cy="133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201" name=""/>
          <p:cNvGrpSpPr/>
          <p:nvPr/>
        </p:nvGrpSpPr>
        <p:grpSpPr>
          <a:xfrm>
            <a:off x="923760" y="3581280"/>
            <a:ext cx="4324680" cy="468360"/>
            <a:chOff x="923760" y="3581280"/>
            <a:chExt cx="4324680" cy="468360"/>
          </a:xfrm>
        </p:grpSpPr>
        <p:sp>
          <p:nvSpPr>
            <p:cNvPr id="202" name=""/>
            <p:cNvSpPr/>
            <p:nvPr/>
          </p:nvSpPr>
          <p:spPr>
            <a:xfrm>
              <a:off x="1292760" y="3581280"/>
              <a:ext cx="293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Set attributes (setXXX()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4" idx="3"/>
              <a:endCxn id="205" idx="1"/>
            </p:cNvCxnSpPr>
            <p:nvPr/>
          </p:nvCxnSpPr>
          <p:spPr>
            <a:xfrm>
              <a:off x="1218960" y="389700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204" name=""/>
            <p:cNvSpPr/>
            <p:nvPr/>
          </p:nvSpPr>
          <p:spPr>
            <a:xfrm>
              <a:off x="923760" y="37450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62600" y="37450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197" idx="2"/>
              <a:endCxn id="204" idx="0"/>
            </p:cNvCxnSpPr>
            <p:nvPr/>
          </p:nvCxnSpPr>
          <p:spPr>
            <a:xfrm>
              <a:off x="1066320" y="3602160"/>
              <a:ext cx="1080" cy="133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207" name=""/>
            <p:cNvCxnSpPr>
              <a:stCxn id="198" idx="2"/>
              <a:endCxn id="205" idx="0"/>
            </p:cNvCxnSpPr>
            <p:nvPr/>
          </p:nvCxnSpPr>
          <p:spPr>
            <a:xfrm>
              <a:off x="5105160" y="3602160"/>
              <a:ext cx="1080" cy="133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208" name=""/>
          <p:cNvGrpSpPr/>
          <p:nvPr/>
        </p:nvGrpSpPr>
        <p:grpSpPr>
          <a:xfrm>
            <a:off x="923760" y="4016520"/>
            <a:ext cx="7292520" cy="795240"/>
            <a:chOff x="923760" y="4016520"/>
            <a:chExt cx="7292520" cy="795240"/>
          </a:xfrm>
        </p:grpSpPr>
        <p:sp>
          <p:nvSpPr>
            <p:cNvPr id="209" name=""/>
            <p:cNvSpPr/>
            <p:nvPr/>
          </p:nvSpPr>
          <p:spPr>
            <a:xfrm>
              <a:off x="1294200" y="401652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doStartTag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11" idx="3"/>
              <a:endCxn id="212" idx="1"/>
            </p:cNvCxnSpPr>
            <p:nvPr/>
          </p:nvCxnSpPr>
          <p:spPr>
            <a:xfrm>
              <a:off x="1218960" y="435420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1982520" y="430992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EVAL_BODY_INCLUD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15" idx="3"/>
              <a:endCxn id="216" idx="1"/>
            </p:cNvCxnSpPr>
            <p:nvPr/>
          </p:nvCxnSpPr>
          <p:spPr>
            <a:xfrm>
              <a:off x="1218960" y="465912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headEnd len="med" type="triangle" w="med"/>
            </a:ln>
          </p:spPr>
        </p:cxnSp>
        <p:sp>
          <p:nvSpPr>
            <p:cNvPr id="211" name=""/>
            <p:cNvSpPr/>
            <p:nvPr/>
          </p:nvSpPr>
          <p:spPr>
            <a:xfrm>
              <a:off x="923760" y="42022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62600" y="42022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23760" y="450684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62600" y="450684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62000" y="4309920"/>
              <a:ext cx="265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or return SKIP_BOD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18" name=""/>
            <p:cNvCxnSpPr>
              <a:stCxn id="204" idx="2"/>
              <a:endCxn id="211" idx="0"/>
            </p:cNvCxnSpPr>
            <p:nvPr/>
          </p:nvCxnSpPr>
          <p:spPr>
            <a:xfrm>
              <a:off x="1066320" y="4059360"/>
              <a:ext cx="1080" cy="133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219" name=""/>
            <p:cNvCxnSpPr>
              <a:stCxn id="205" idx="2"/>
              <a:endCxn id="212" idx="0"/>
            </p:cNvCxnSpPr>
            <p:nvPr/>
          </p:nvCxnSpPr>
          <p:spPr>
            <a:xfrm>
              <a:off x="5105160" y="4059360"/>
              <a:ext cx="1080" cy="133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220" name=""/>
          <p:cNvGrpSpPr/>
          <p:nvPr/>
        </p:nvGrpSpPr>
        <p:grpSpPr>
          <a:xfrm>
            <a:off x="923760" y="4767120"/>
            <a:ext cx="7277760" cy="806760"/>
            <a:chOff x="923760" y="4767120"/>
            <a:chExt cx="7277760" cy="806760"/>
          </a:xfrm>
        </p:grpSpPr>
        <p:sp>
          <p:nvSpPr>
            <p:cNvPr id="221" name=""/>
            <p:cNvSpPr/>
            <p:nvPr/>
          </p:nvSpPr>
          <p:spPr>
            <a:xfrm>
              <a:off x="1294920" y="4767120"/>
              <a:ext cx="15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doEndTag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223" idx="3"/>
              <a:endCxn id="224" idx="1"/>
            </p:cNvCxnSpPr>
            <p:nvPr/>
          </p:nvCxnSpPr>
          <p:spPr>
            <a:xfrm>
              <a:off x="1218960" y="511632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225" name=""/>
            <p:cNvSpPr/>
            <p:nvPr/>
          </p:nvSpPr>
          <p:spPr>
            <a:xfrm>
              <a:off x="3202920" y="5064120"/>
              <a:ext cx="167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EVAL_PAG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3"/>
              <a:endCxn id="228" idx="1"/>
            </p:cNvCxnSpPr>
            <p:nvPr/>
          </p:nvCxnSpPr>
          <p:spPr>
            <a:xfrm>
              <a:off x="1218960" y="542088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headEnd len="med" type="triangle" w="med"/>
            </a:ln>
          </p:spPr>
        </p:cxnSp>
        <p:sp>
          <p:nvSpPr>
            <p:cNvPr id="223" name=""/>
            <p:cNvSpPr/>
            <p:nvPr/>
          </p:nvSpPr>
          <p:spPr>
            <a:xfrm>
              <a:off x="923760" y="496404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62600" y="496404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3760" y="526896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2600" y="526896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62720" y="5064120"/>
              <a:ext cx="263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or return SKIP_PAG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30" name=""/>
            <p:cNvCxnSpPr>
              <a:stCxn id="215" idx="2"/>
              <a:endCxn id="223" idx="0"/>
            </p:cNvCxnSpPr>
            <p:nvPr/>
          </p:nvCxnSpPr>
          <p:spPr>
            <a:xfrm>
              <a:off x="1066320" y="4820760"/>
              <a:ext cx="1080" cy="1342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231" name=""/>
            <p:cNvCxnSpPr>
              <a:stCxn id="216" idx="2"/>
              <a:endCxn id="224" idx="0"/>
            </p:cNvCxnSpPr>
            <p:nvPr/>
          </p:nvCxnSpPr>
          <p:spPr>
            <a:xfrm>
              <a:off x="5105160" y="4820760"/>
              <a:ext cx="1080" cy="1342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232" name=""/>
          <p:cNvGrpSpPr/>
          <p:nvPr/>
        </p:nvGrpSpPr>
        <p:grpSpPr>
          <a:xfrm>
            <a:off x="923760" y="5583240"/>
            <a:ext cx="4324680" cy="893880"/>
            <a:chOff x="923760" y="5583240"/>
            <a:chExt cx="4324680" cy="893880"/>
          </a:xfrm>
        </p:grpSpPr>
        <p:sp>
          <p:nvSpPr>
            <p:cNvPr id="233" name=""/>
            <p:cNvSpPr/>
            <p:nvPr/>
          </p:nvSpPr>
          <p:spPr>
            <a:xfrm>
              <a:off x="1294200" y="562932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release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34" name=""/>
            <p:cNvCxnSpPr>
              <a:stCxn id="235" idx="3"/>
              <a:endCxn id="236" idx="1"/>
            </p:cNvCxnSpPr>
            <p:nvPr/>
          </p:nvCxnSpPr>
          <p:spPr>
            <a:xfrm>
              <a:off x="1218960" y="597816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235" name=""/>
            <p:cNvSpPr/>
            <p:nvPr/>
          </p:nvSpPr>
          <p:spPr>
            <a:xfrm>
              <a:off x="923760" y="582624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62600" y="582624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27" idx="2"/>
              <a:endCxn id="235" idx="0"/>
            </p:cNvCxnSpPr>
            <p:nvPr/>
          </p:nvCxnSpPr>
          <p:spPr>
            <a:xfrm>
              <a:off x="1066320" y="5583240"/>
              <a:ext cx="1080" cy="23400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238" name=""/>
            <p:cNvCxnSpPr>
              <a:stCxn id="228" idx="2"/>
              <a:endCxn id="236" idx="0"/>
            </p:cNvCxnSpPr>
            <p:nvPr/>
          </p:nvCxnSpPr>
          <p:spPr>
            <a:xfrm>
              <a:off x="5105160" y="5583240"/>
              <a:ext cx="1080" cy="23400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239" name=""/>
            <p:cNvCxnSpPr>
              <a:stCxn id="235" idx="2"/>
            </p:cNvCxnSpPr>
            <p:nvPr/>
          </p:nvCxnSpPr>
          <p:spPr>
            <a:xfrm>
              <a:off x="1066320" y="6140160"/>
              <a:ext cx="1080" cy="33732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D1C-5B7F-4F00-8D8F-EE259F819B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91D51-BE6E-4781-8012-E4A7DF9590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Tag Pseudoc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// in JSP sourc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&lt;myTag name=“Scott” /&gt;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// in generated servlet…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andler h = new MyTagHandler(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.setPageContext(pageContext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.setParent(someTagHandler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.setName(“Scott”)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f (h.doStartTag() == EVAL_BODY_INCLUDE)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// process body conten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.release()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f (h.doEndTag() == SKIP_PAGE)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// abort rest of page proces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A06-65E2-4509-B06E-9277F6386B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BDB0B-9ECE-44F9-BCA3-352366FE4A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Tag Metho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tPageContext(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SP passes its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pageContext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o the ta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tParent(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SP tells which tag contains this on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etParent(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ag handler can access the parent ta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The “parent” is the closest containing 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Tag Handl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37F-348A-404A-B2E7-63F7FEC4A4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D89E1-60FF-4F0D-85A1-C67672CF65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Tag Metho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360" y="28951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oStartTag(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JSP tells handler it’s processing the start ta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oEndTag(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JSP tells handler it’s processing the end ta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lease(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JSP is done with the handler (cleanup time!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949400"/>
            <a:ext cx="77724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33ca0"/>
                </a:solidFill>
                <a:latin typeface="Arial"/>
              </a:rPr>
              <a:t>The following are called after the page context and parent have been set…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724-58C9-4736-91D6-70F18B8C7F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B4776-42B9-4B37-A29D-C43CE9BAC0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oStartTag() Return Valu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VAL_BODY_INCLU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ells JSP to process the contents between the handler’s start &amp; end tag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KIP_BOD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ells JSP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o process the contents. All content up until the end tag is ignored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55E-5C09-4B72-A91E-C6970B2AA9B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DB649-955F-4ECB-96D5-9F3E416B3C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oEndTag() Return Valu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VAL_PAG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Keep processing rest of pag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KIP_PAG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o not process the rest of this page reques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7BF-646B-4229-BC9B-A1EB00C8B7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64779-2E02-4E09-B067-2694F7A19E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Replacement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ppose we wan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&lt;header/&gt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be replaced with some nice header tex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918-2A03-4B30-8E1E-E3C073EC7DE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0A057-DDF5-4F51-B7FC-D3E881F224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Header Tag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sampl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x.servlet.jsp.JspException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x.servlet.jsp.PageContex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x.servlet.jsp.tagext.Tag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SimpleHeader1Tag implements Tag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rivate Tag pare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rivate PageContext contex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ublic void release() {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2808-D4DB-4D05-92F5-8AC7278EEF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57F38-2A51-4E06-9F2B-0375DF4F45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Header Tag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PageContext(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PageContext context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his.context = contex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ublic void setParent(Tag parent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his.parent = pare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ublic Tag getParen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return pare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38D-0E8E-4708-8D04-0B075A146C0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9E9DB-A9E9-423B-A340-D16EDE93D4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arning Objectiv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fter I’m done blabbing, you might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nderstand page content vs. page gener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Be able to create custom tags tha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implify your pag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ide code from content write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llow content writers and programmers to work independentl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8D2-7846-442A-B169-B102130ABE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A4494-357B-430D-B5F6-0DAB0DFDA7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Header Tag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doStartTag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ry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ontext.getOut().println(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"&lt;h1&gt;A Sample Header&lt;/h1&gt;"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atch (Exception e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throw new JspException(e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return EVAL_BODY_INCLUD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public int doEndTag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return EVAL_PAG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3AEE-AE38-499F-B3AA-0FAB68A3E83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D438E-256F-42D6-8FC2-AA1CDDF315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Header T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oStartTag(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int the header text to the current strea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turn EVAL_BODY_INCLUD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cess body if there is on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oEndTag(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turn EVAL_PAG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eep processing rest of pa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332-CDA3-42C2-A30D-49E9FB70213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B6803-B0E8-4E11-975A-D1C15A93C9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Tag Library Descrip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?xml version="1.0" encoding="ISO-8859-1" ?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!DOCTYPE taglib PUBLIC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"-//Sun Microsystems, Inc.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//DTD JSP Tag Library 1.2//EN“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"http://java.sun.com/j2ee/dtd/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web-jsptaglibrary_1_2.dtd"&g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taglib&g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tlib-version&gt;1.0&lt;/tlib-version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jsp-version&gt;1.2&lt;/jsp-version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short-name&gt;mytags&lt;/short-nam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uri&gt;http://javadude.com/jsp/my-taglib&lt;/uri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description&gt;A sample taglib&lt;/description&gt;</a:t>
            </a:r>
            <a:br>
              <a:rPr sz="1800"/>
            </a:b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52C-5D03-4C5B-9903-4028DD87EAE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4E7A2-77C0-4E19-B197-25F101D65B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Tag Library Descrip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tag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nam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header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/nam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tag-class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sample.SimpleHeader1Tag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/tag-class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body-content&gt;JSP&lt;/body-content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description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Create a simple header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/description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/tag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taglib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7E5-A814-4D73-A8C5-0700BBEAC0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1541C-5B1C-4BC8-A03C-D9AAC3A1DF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ing the Simple H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&lt;%@ taglib uri="WEB-INF/jsp/my-taglib.tld“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   prefix="my" %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head&gt;. . .&lt;/hea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body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&lt;my:header/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p&gt;My id is 123&lt;/p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505320" y="3809880"/>
            <a:ext cx="346716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0AA-F6BF-4416-866A-CB8AFFE6480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50297-C8FC-4F43-AC18-B24B2A13CD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Web Application Stru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tomcat/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webapps/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sample/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    test.jsp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WEB-INF/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      my-taglib.tld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classes/</a:t>
            </a:r>
            <a:br>
              <a:rPr sz="2400"/>
            </a:br>
            <a:r>
              <a:rPr b="1" lang="en-US" sz="2400" spc="-1" strike="noStrike">
                <a:solidFill>
                  <a:srgbClr val="545472"/>
                </a:solidFill>
                <a:latin typeface="Courier New"/>
              </a:rPr>
              <a:t>          SimpleHeader1Tag.clas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49E-E929-4281-9963-A19C50F8B27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438CC-F1A2-449C-9AB4-6C53BA9F31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Header With a Nam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ppose we wan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&lt;header name=“Scott”/&gt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o be replaced with some nice header text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3DA-A1CC-436D-8E8F-0DE98FF66EB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84959-C3F7-4303-80C2-563B33B318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ed Header Tag Clas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ackage sampl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x.servlet.jsp.JspException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x.servlet.jsp.PageContex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x.servlet.jsp.tagext.Tag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class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SimpleHeader2Tag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implements Tag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Tag paren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PageContext contex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private String name; // An attribute!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00D-F8A2-4F35-8C81-625C27E510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C6958-C5FC-4A24-8B84-04990A3C40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ed Header Tag Clas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void release() {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void setPageContext(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      PageContext context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this.context = contex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void setParent(Tag parent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this.parent = paren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Tag getParent(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return paren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public String getName() {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return name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public void setName(String name) {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this.name = name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7FC-4896-4264-B494-1CC9F09F00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26029-D81A-4F3D-8455-BC3F50E09E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ed Header Tag Clas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int doStartTag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try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context.getOut().println(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"&lt;h1&gt;"+ getName() +"'s Home Page&lt;/h1&gt;"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catch (Exception e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throw new JspException(e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return EVAL_BODY_INCLUDE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int doEndTag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return EVAL_PAGE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C28-451F-4B7B-AF6A-2F409DA1C98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58B21-6119-4FF5-8D46-D28303B59A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peaker’s Qualific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ava Guru with 500 years of Java experien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ols recruiters easil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aught Java for four yea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poken at JavaOne for four yea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BOFs and Technical Presentatio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nages Swing and AWT FAQs at http://www.jGuru.co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ead author of</a:t>
            </a:r>
            <a:br>
              <a:rPr sz="2800"/>
            </a:b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Effective VisualAge for Java, Version 3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CD6-96DD-44C8-A037-4E8C1FDD55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21DFB-3FC7-49DC-91AA-3CBAB653DC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ed Header Descrip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tag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name&gt;header&lt;/nam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tag-class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sample.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SimpleHeader2Tag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tag-class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body-content&gt;JSP&lt;/body-content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description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A simple header with a name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description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&lt;attribute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&lt;name&gt;name&lt;/name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&lt;required&gt;true&lt;/required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&lt;rtexprvalue&gt;true&lt;/rtexprvalue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&lt;/attribut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/tag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316-ED95-4A6C-99EF-9E21AC2764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33CBF-D61E-4EE7-BFF3-3A24A8440D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ing the Named H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&lt;%@ taglib uri="WEB-INF/jsp/my-taglib.tld“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   prefix="my" %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head&gt;. . .&lt;/hea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body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&lt;my:header name=“Scott”/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p&gt;My id is 123&lt;/p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143160" y="3809880"/>
            <a:ext cx="346716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7BB-95CA-4743-88FB-A2DBB76D2D9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432D6-2A8C-4676-B3F8-D544499CA1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Conditional T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ustom tags can be used for conditions</a:t>
            </a:r>
            <a:br>
              <a:rPr sz="3200"/>
            </a:br>
            <a:br>
              <a:rPr sz="3200"/>
            </a:br>
            <a:r>
              <a:rPr b="1" lang="en-US" sz="2600" spc="-1" strike="noStrike">
                <a:solidFill>
                  <a:srgbClr val="545472"/>
                </a:solidFill>
                <a:latin typeface="Courier New"/>
              </a:rPr>
              <a:t>&lt;my:if condition=“x”&gt;</a:t>
            </a:r>
            <a:br>
              <a:rPr sz="2600"/>
            </a:br>
            <a:r>
              <a:rPr b="1" lang="en-US" sz="2600" spc="-1" strike="noStrike">
                <a:solidFill>
                  <a:srgbClr val="545472"/>
                </a:solidFill>
                <a:latin typeface="Courier New"/>
              </a:rPr>
              <a:t>  &lt;!-- some body content --&gt;</a:t>
            </a:r>
            <a:br>
              <a:rPr sz="2600"/>
            </a:br>
            <a:r>
              <a:rPr b="1" lang="en-US" sz="2600" spc="-1" strike="noStrike">
                <a:solidFill>
                  <a:srgbClr val="545472"/>
                </a:solidFill>
                <a:latin typeface="Courier New"/>
              </a:rPr>
              <a:t>&lt;/my:if&gt;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condition is an attribu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You can control inclusion of the bod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46A-F520-4426-B9C6-7D05BE3259A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87F4D-70C8-46E8-A715-4820551040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tional Tag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ackage sampl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x.servlet.jsp.JspException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x.servlet.jsp.tagext.TagSuppor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class MyIfTag extends TagSupport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String condition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int doStartTag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if (“true”.equals(condition))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// should add error checks!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return EVAL_BODY_INCLUDE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else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return SKIP_BODY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F7E-CC00-4257-9A5C-F8DE7F63DF4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B5916-2B9D-40EA-9378-A8DBD02134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tional Tag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String getCondition(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return condition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void setCondition(String condition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this.condition = condition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57C-AE21-4283-AFD9-5085E6E65E8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5828F-7522-426A-AA32-D815CFBB8C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Conditional Tag U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%@ taglib uri="WEB-INF/jsp/my-taglib.tld" prefix="my" %&g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body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my:headerWithName name="Scott"/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&lt;my:if condition=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'&lt;%= request.getParameter("showName") %&gt;'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p&gt;My name is Mikey!&lt;/p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&lt;/my:if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p&gt;My id is 123&lt;/p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EA7-38D1-40E6-B4D5-FBC4C6427AE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141A9-FBB3-4DC8-838D-F6105EC978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Conditional Tag U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876920" y="3600360"/>
            <a:ext cx="3876480" cy="25718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838080" y="2076480"/>
            <a:ext cx="387684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91F-1A64-4DAF-A7D7-2F14B3F298F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8D248-7D9B-4536-A8D0-AF0DB86FCA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 Tag Lifecyc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600200"/>
            <a:ext cx="914400" cy="457200"/>
          </a:xfrm>
          <a:prstGeom prst="rect">
            <a:avLst/>
          </a:prstGeom>
          <a:solidFill>
            <a:srgbClr val="9595ff"/>
          </a:solidFill>
          <a:ln w="19080">
            <a:solidFill>
              <a:srgbClr val="898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JSP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23760" y="2035080"/>
            <a:ext cx="5134320" cy="567000"/>
            <a:chOff x="923760" y="2035080"/>
            <a:chExt cx="5134320" cy="567000"/>
          </a:xfrm>
        </p:grpSpPr>
        <p:sp>
          <p:nvSpPr>
            <p:cNvPr id="297" name=""/>
            <p:cNvSpPr/>
            <p:nvPr/>
          </p:nvSpPr>
          <p:spPr>
            <a:xfrm>
              <a:off x="4152960" y="2144880"/>
              <a:ext cx="1905120" cy="4572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a7cc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Arial"/>
                </a:rPr>
                <a:t>Tag Handler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93480" y="203508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Create tag handler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300" idx="3"/>
              <a:endCxn id="297" idx="1"/>
            </p:cNvCxnSpPr>
            <p:nvPr/>
          </p:nvCxnSpPr>
          <p:spPr>
            <a:xfrm>
              <a:off x="1219320" y="2373120"/>
              <a:ext cx="292464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300" name=""/>
            <p:cNvSpPr/>
            <p:nvPr/>
          </p:nvSpPr>
          <p:spPr>
            <a:xfrm>
              <a:off x="923760" y="222084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01" name=""/>
            <p:cNvCxnSpPr>
              <a:stCxn id="295" idx="2"/>
              <a:endCxn id="300" idx="0"/>
            </p:cNvCxnSpPr>
            <p:nvPr/>
          </p:nvCxnSpPr>
          <p:spPr>
            <a:xfrm>
              <a:off x="1066320" y="2066760"/>
              <a:ext cx="1080" cy="14544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302" name=""/>
          <p:cNvGrpSpPr/>
          <p:nvPr/>
        </p:nvGrpSpPr>
        <p:grpSpPr>
          <a:xfrm>
            <a:off x="923760" y="2535120"/>
            <a:ext cx="4324680" cy="600120"/>
            <a:chOff x="923760" y="2535120"/>
            <a:chExt cx="4324680" cy="600120"/>
          </a:xfrm>
        </p:grpSpPr>
        <p:sp>
          <p:nvSpPr>
            <p:cNvPr id="303" name=""/>
            <p:cNvSpPr/>
            <p:nvPr/>
          </p:nvSpPr>
          <p:spPr>
            <a:xfrm>
              <a:off x="1291680" y="2633760"/>
              <a:ext cx="358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Set Context, Parent, attributes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04" name=""/>
            <p:cNvCxnSpPr>
              <a:stCxn id="305" idx="3"/>
              <a:endCxn id="306" idx="1"/>
            </p:cNvCxnSpPr>
            <p:nvPr/>
          </p:nvCxnSpPr>
          <p:spPr>
            <a:xfrm>
              <a:off x="1218960" y="298260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305" name=""/>
            <p:cNvSpPr/>
            <p:nvPr/>
          </p:nvSpPr>
          <p:spPr>
            <a:xfrm>
              <a:off x="923760" y="28306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62600" y="283068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07" name=""/>
            <p:cNvCxnSpPr>
              <a:stCxn id="300" idx="2"/>
              <a:endCxn id="305" idx="0"/>
            </p:cNvCxnSpPr>
            <p:nvPr/>
          </p:nvCxnSpPr>
          <p:spPr>
            <a:xfrm>
              <a:off x="1066320" y="2535120"/>
              <a:ext cx="1080" cy="286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308" name=""/>
            <p:cNvCxnSpPr>
              <a:stCxn id="297" idx="2"/>
              <a:endCxn id="306" idx="0"/>
            </p:cNvCxnSpPr>
            <p:nvPr/>
          </p:nvCxnSpPr>
          <p:spPr>
            <a:xfrm>
              <a:off x="5105160" y="2611440"/>
              <a:ext cx="1080" cy="21024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309" name=""/>
          <p:cNvGrpSpPr/>
          <p:nvPr/>
        </p:nvGrpSpPr>
        <p:grpSpPr>
          <a:xfrm>
            <a:off x="923760" y="3132000"/>
            <a:ext cx="7292520" cy="795600"/>
            <a:chOff x="923760" y="3132000"/>
            <a:chExt cx="7292520" cy="795600"/>
          </a:xfrm>
        </p:grpSpPr>
        <p:sp>
          <p:nvSpPr>
            <p:cNvPr id="310" name=""/>
            <p:cNvSpPr/>
            <p:nvPr/>
          </p:nvSpPr>
          <p:spPr>
            <a:xfrm>
              <a:off x="1294200" y="313200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doStartTag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11" name=""/>
            <p:cNvCxnSpPr>
              <a:stCxn id="312" idx="3"/>
              <a:endCxn id="313" idx="1"/>
            </p:cNvCxnSpPr>
            <p:nvPr/>
          </p:nvCxnSpPr>
          <p:spPr>
            <a:xfrm>
              <a:off x="1218960" y="347004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314" name=""/>
            <p:cNvSpPr/>
            <p:nvPr/>
          </p:nvSpPr>
          <p:spPr>
            <a:xfrm>
              <a:off x="1998360" y="342576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EVAL_BODY_INCLUD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15" name=""/>
            <p:cNvCxnSpPr>
              <a:stCxn id="316" idx="3"/>
              <a:endCxn id="317" idx="1"/>
            </p:cNvCxnSpPr>
            <p:nvPr/>
          </p:nvCxnSpPr>
          <p:spPr>
            <a:xfrm>
              <a:off x="1218960" y="377460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headEnd len="med" type="triangle" w="med"/>
            </a:ln>
          </p:spPr>
        </p:cxnSp>
        <p:sp>
          <p:nvSpPr>
            <p:cNvPr id="312" name=""/>
            <p:cNvSpPr/>
            <p:nvPr/>
          </p:nvSpPr>
          <p:spPr>
            <a:xfrm>
              <a:off x="923760" y="331776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62600" y="331776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23760" y="362268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62600" y="362268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62000" y="3425760"/>
              <a:ext cx="265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or return SKIP_BOD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05" idx="2"/>
              <a:endCxn id="312" idx="0"/>
            </p:cNvCxnSpPr>
            <p:nvPr/>
          </p:nvCxnSpPr>
          <p:spPr>
            <a:xfrm>
              <a:off x="1066320" y="3144960"/>
              <a:ext cx="1080" cy="1641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320" name=""/>
            <p:cNvCxnSpPr>
              <a:stCxn id="306" idx="2"/>
              <a:endCxn id="313" idx="0"/>
            </p:cNvCxnSpPr>
            <p:nvPr/>
          </p:nvCxnSpPr>
          <p:spPr>
            <a:xfrm>
              <a:off x="5105160" y="3144960"/>
              <a:ext cx="1080" cy="1641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321" name=""/>
          <p:cNvGrpSpPr/>
          <p:nvPr/>
        </p:nvGrpSpPr>
        <p:grpSpPr>
          <a:xfrm>
            <a:off x="923760" y="5114880"/>
            <a:ext cx="7277760" cy="873000"/>
            <a:chOff x="923760" y="5114880"/>
            <a:chExt cx="7277760" cy="873000"/>
          </a:xfrm>
        </p:grpSpPr>
        <p:sp>
          <p:nvSpPr>
            <p:cNvPr id="322" name=""/>
            <p:cNvSpPr/>
            <p:nvPr/>
          </p:nvSpPr>
          <p:spPr>
            <a:xfrm>
              <a:off x="1294920" y="5181480"/>
              <a:ext cx="15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doEndTag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23" name=""/>
            <p:cNvCxnSpPr>
              <a:stCxn id="324" idx="3"/>
              <a:endCxn id="325" idx="1"/>
            </p:cNvCxnSpPr>
            <p:nvPr/>
          </p:nvCxnSpPr>
          <p:spPr>
            <a:xfrm>
              <a:off x="1218960" y="553032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326" name=""/>
            <p:cNvSpPr/>
            <p:nvPr/>
          </p:nvSpPr>
          <p:spPr>
            <a:xfrm>
              <a:off x="3272760" y="5497560"/>
              <a:ext cx="167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EVAL_PAG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27" name=""/>
            <p:cNvCxnSpPr>
              <a:stCxn id="328" idx="3"/>
              <a:endCxn id="329" idx="1"/>
            </p:cNvCxnSpPr>
            <p:nvPr/>
          </p:nvCxnSpPr>
          <p:spPr>
            <a:xfrm>
              <a:off x="1218960" y="583524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headEnd len="med" type="triangle" w="med"/>
            </a:ln>
          </p:spPr>
        </p:cxnSp>
        <p:sp>
          <p:nvSpPr>
            <p:cNvPr id="324" name=""/>
            <p:cNvSpPr/>
            <p:nvPr/>
          </p:nvSpPr>
          <p:spPr>
            <a:xfrm>
              <a:off x="923760" y="537840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62600" y="537840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23760" y="568332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62600" y="5683320"/>
              <a:ext cx="285840" cy="30456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62720" y="5497560"/>
              <a:ext cx="263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or return SKIP_PAGE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31" name=""/>
            <p:cNvCxnSpPr>
              <a:stCxn id="332" idx="2"/>
              <a:endCxn id="324" idx="0"/>
            </p:cNvCxnSpPr>
            <p:nvPr/>
          </p:nvCxnSpPr>
          <p:spPr>
            <a:xfrm>
              <a:off x="1066320" y="5114880"/>
              <a:ext cx="1080" cy="2548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333" name=""/>
            <p:cNvCxnSpPr>
              <a:stCxn id="334" idx="2"/>
              <a:endCxn id="325" idx="0"/>
            </p:cNvCxnSpPr>
            <p:nvPr/>
          </p:nvCxnSpPr>
          <p:spPr>
            <a:xfrm>
              <a:off x="5105160" y="5114880"/>
              <a:ext cx="1080" cy="2548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</p:grpSp>
      <p:grpSp>
        <p:nvGrpSpPr>
          <p:cNvPr id="335" name=""/>
          <p:cNvGrpSpPr/>
          <p:nvPr/>
        </p:nvGrpSpPr>
        <p:grpSpPr>
          <a:xfrm>
            <a:off x="923760" y="5934240"/>
            <a:ext cx="4324680" cy="847440"/>
            <a:chOff x="923760" y="5934240"/>
            <a:chExt cx="4324680" cy="847440"/>
          </a:xfrm>
        </p:grpSpPr>
        <p:sp>
          <p:nvSpPr>
            <p:cNvPr id="336" name=""/>
            <p:cNvSpPr/>
            <p:nvPr/>
          </p:nvSpPr>
          <p:spPr>
            <a:xfrm>
              <a:off x="1294200" y="593424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release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>
              <a:stCxn id="338" idx="3"/>
              <a:endCxn id="339" idx="1"/>
            </p:cNvCxnSpPr>
            <p:nvPr/>
          </p:nvCxnSpPr>
          <p:spPr>
            <a:xfrm>
              <a:off x="1218960" y="628308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338" name=""/>
            <p:cNvSpPr/>
            <p:nvPr/>
          </p:nvSpPr>
          <p:spPr>
            <a:xfrm>
              <a:off x="923760" y="613080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62600" y="613080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40" name=""/>
            <p:cNvCxnSpPr>
              <a:stCxn id="328" idx="2"/>
              <a:endCxn id="338" idx="0"/>
            </p:cNvCxnSpPr>
            <p:nvPr/>
          </p:nvCxnSpPr>
          <p:spPr>
            <a:xfrm>
              <a:off x="1066320" y="5997600"/>
              <a:ext cx="1080" cy="124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341" name=""/>
            <p:cNvCxnSpPr>
              <a:stCxn id="329" idx="2"/>
              <a:endCxn id="339" idx="0"/>
            </p:cNvCxnSpPr>
            <p:nvPr/>
          </p:nvCxnSpPr>
          <p:spPr>
            <a:xfrm>
              <a:off x="5105160" y="5997600"/>
              <a:ext cx="1080" cy="12456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342" name=""/>
            <p:cNvCxnSpPr>
              <a:stCxn id="338" idx="2"/>
            </p:cNvCxnSpPr>
            <p:nvPr/>
          </p:nvCxnSpPr>
          <p:spPr>
            <a:xfrm>
              <a:off x="1066320" y="6444720"/>
              <a:ext cx="1080" cy="33732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</p:grpSp>
      <p:grpSp>
        <p:nvGrpSpPr>
          <p:cNvPr id="343" name=""/>
          <p:cNvGrpSpPr/>
          <p:nvPr/>
        </p:nvGrpSpPr>
        <p:grpSpPr>
          <a:xfrm>
            <a:off x="923760" y="3936960"/>
            <a:ext cx="7292520" cy="1168560"/>
            <a:chOff x="923760" y="3936960"/>
            <a:chExt cx="7292520" cy="1168560"/>
          </a:xfrm>
        </p:grpSpPr>
        <p:sp>
          <p:nvSpPr>
            <p:cNvPr id="332" name=""/>
            <p:cNvSpPr/>
            <p:nvPr/>
          </p:nvSpPr>
          <p:spPr>
            <a:xfrm>
              <a:off x="923760" y="480060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62600" y="480060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84480" y="4289400"/>
              <a:ext cx="175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doAfterBody()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45" name=""/>
            <p:cNvCxnSpPr>
              <a:stCxn id="346" idx="3"/>
              <a:endCxn id="347" idx="1"/>
            </p:cNvCxnSpPr>
            <p:nvPr/>
          </p:nvCxnSpPr>
          <p:spPr>
            <a:xfrm>
              <a:off x="1218960" y="464796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</p:cxnSp>
        <p:sp>
          <p:nvSpPr>
            <p:cNvPr id="348" name=""/>
            <p:cNvSpPr/>
            <p:nvPr/>
          </p:nvSpPr>
          <p:spPr>
            <a:xfrm>
              <a:off x="2287800" y="4591080"/>
              <a:ext cx="262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EVAL_BODY_AGAIN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49" name=""/>
            <p:cNvCxnSpPr/>
            <p:nvPr/>
          </p:nvCxnSpPr>
          <p:spPr>
            <a:xfrm>
              <a:off x="1218960" y="4952520"/>
              <a:ext cx="3734280" cy="1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  <a:headEnd len="med" type="triangle" w="med"/>
            </a:ln>
          </p:spPr>
        </p:cxnSp>
        <p:sp>
          <p:nvSpPr>
            <p:cNvPr id="346" name=""/>
            <p:cNvSpPr/>
            <p:nvPr/>
          </p:nvSpPr>
          <p:spPr>
            <a:xfrm>
              <a:off x="923760" y="449568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962600" y="4495680"/>
              <a:ext cx="285840" cy="30492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62000" y="4591080"/>
              <a:ext cx="265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45472"/>
                  </a:solidFill>
                  <a:latin typeface="Arial"/>
                </a:rPr>
                <a:t>or return SKIP_BODY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cxnSp>
          <p:nvCxnSpPr>
            <p:cNvPr id="351" name=""/>
            <p:cNvCxnSpPr>
              <a:stCxn id="316" idx="2"/>
              <a:endCxn id="346" idx="0"/>
            </p:cNvCxnSpPr>
            <p:nvPr/>
          </p:nvCxnSpPr>
          <p:spPr>
            <a:xfrm>
              <a:off x="1066320" y="3936960"/>
              <a:ext cx="1080" cy="550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cxnSp>
          <p:nvCxnSpPr>
            <p:cNvPr id="352" name=""/>
            <p:cNvCxnSpPr>
              <a:stCxn id="317" idx="2"/>
              <a:endCxn id="347" idx="0"/>
            </p:cNvCxnSpPr>
            <p:nvPr/>
          </p:nvCxnSpPr>
          <p:spPr>
            <a:xfrm>
              <a:off x="5105160" y="3936960"/>
              <a:ext cx="1080" cy="550080"/>
            </a:xfrm>
            <a:prstGeom prst="straightConnector1">
              <a:avLst/>
            </a:prstGeom>
            <a:ln w="9360">
              <a:solidFill>
                <a:srgbClr val="545472"/>
              </a:solidFill>
              <a:miter/>
            </a:ln>
          </p:spPr>
        </p:cxnSp>
        <p:sp>
          <p:nvSpPr>
            <p:cNvPr id="353" name=""/>
            <p:cNvSpPr/>
            <p:nvPr/>
          </p:nvSpPr>
          <p:spPr>
            <a:xfrm>
              <a:off x="1290960" y="3962520"/>
              <a:ext cx="38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660066"/>
                  </a:solidFill>
                  <a:latin typeface="Arial"/>
                </a:rPr>
                <a:t>JSP evaluates tag body contents</a:t>
              </a:r>
              <a:endParaRPr b="0" lang="en-US" sz="20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91A6-F5BB-4574-B96C-B7D6D035951D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15CEF-C157-41D4-ADE1-25631725B2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 Tag Pseudoc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// in JSP source</a:t>
            </a:r>
            <a:br>
              <a:rPr sz="1800"/>
            </a:br>
            <a:r>
              <a:rPr b="1" lang="en-US" sz="1800" spc="-1" strike="noStrike">
                <a:solidFill>
                  <a:srgbClr val="c7c7df"/>
                </a:solidFill>
                <a:latin typeface="Courier New"/>
              </a:rPr>
              <a:t>&lt;myForTag name=“Scott”&gt;. . .&lt;/myForTag&gt;</a:t>
            </a:r>
            <a:br>
              <a:rPr sz="1800"/>
            </a:b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// in generated servlet…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andler h = new MyTagHandler();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// set pageContext, parent, attribute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f (h.doStartTag() == EVAL_BODY_INCLUDE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// process body content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while(h.doAfterBody() == EVAL_BODY_AGAIN)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// process body content again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h.release()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f (h.doEndTag() == SKIP_PAGE)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660066"/>
                </a:solidFill>
                <a:latin typeface="Courier New"/>
              </a:rPr>
              <a:t>// abort rest of page proces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232-4CAE-4E69-8EF6-49B9858EFC2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21452-1177-475C-8FF3-09DCA6E05A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 Tag Metho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oAfterBody(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JSP is done processing body</a:t>
            </a:r>
            <a:br>
              <a:rPr sz="2800"/>
            </a:b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for this iter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an retur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VAL_BODY_AGAI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ells JSP to re-loop through the bod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KIP_BOD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ells JSP it should stop loop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E49-DD87-4041-B017-690993D8198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583A3-2926-4116-843B-155A851910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sentation Agend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y Do We Need Separation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 Custom Tag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mple Custom Tag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terator Tag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ayout Management Examp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605-F3C9-4BEB-88EB-90C9254FB4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59B0C-49BC-4188-A9C2-84789349A7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s and Variab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terator tags usually need to set variabl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ormally set in pageContext as attribu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eclare variables in TLD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ariables can be accessed in JSP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&lt;jsp:getProperty …&gt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&lt;jsp:setProperty …&gt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1764-4EB1-407A-BFF7-D7C332AED3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9AE3B-DE8D-479E-B434-4EDE44DBDD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riable Scop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YI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ariables have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scop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ESTE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nly alive between start/end ta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T_BEGI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live after start tag to end of pa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T_EN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live after end tag to end of pa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9E1-8799-4DDF-A79B-5F3270FBB15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FDA45-C201-451B-AF00-02AE3D6F6E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Iterator Ta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uppose we want to walk database row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Best to 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hide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 the database-ness!!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r examp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ol&gt;</a:t>
            </a:r>
            <a:br>
              <a:rPr sz="1800"/>
            </a:br>
            <a:r>
              <a:rPr b="0" lang="en-US" sz="1800" spc="-1" strike="noStrike">
                <a:solidFill>
                  <a:srgbClr val="8888ae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&lt;my:forEachPerson name=“person”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li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&lt;jsp:getProperty name=“person”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             property=“fullName”/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/li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&lt;/my:forEachPerson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ol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B34-E54C-4663-BDED-F8AF7A002E9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B15C9-DF89-4687-893F-BDE0D1FB56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Iterator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ackage sampl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x.servlet.jsp.JspException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x.servlet.jsp.tagext.BodyTagSuppor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import java.util.Iterator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class ForEachPersonTag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extends BodyTagSupport {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// BodyTagSupport handles context/paren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String id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String getId(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return id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void setId(String id) 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this.id = id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DC8-5219-451C-B7AE-32FAD29627D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2CE89-A6E0-412F-B502-F64900E4BA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Iterator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private PersonManager personManager = 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                  new PersonManager()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// PersonManager grabs People from database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//   and returns them in a List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Iterator peopl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int doStartTag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try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people = personManager.list().iterator(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catch (Exception e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throw new JspException(e.toString()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if (people.hasNext())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return EVAL_BODY_INCLUDE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else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return SKIP_BODY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0F8-4E89-4FC3-A54E-D2B7B1186EB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05467-F559-4E7E-AED3-15DBF80DD4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mple Iterator 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int doEndTag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return EVAL_PAGE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void doInitBody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// doStartTag() checked hasNext(). . .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pageContext.setAttribute(getId(),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                   people.next()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int doAfterBody() throws JspExcepti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if (!people.hasNext()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people = null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return SKIP_BODY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else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pageContext.setAttribute(getId(),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                       people.next()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return EVAL_BODY_AGAIN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 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172-2517-4D95-9DB5-5AEE3A9BF34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08007-FE1F-420A-AC07-05D5F0DCFB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Simple Person Obj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ackage sample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public class Person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String name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String phone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rivate String fax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Person(String name, String phone, 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      String fax) {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setName(name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setPhone(phone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setFax(fax)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String getName() {…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public void setName(String name) {…}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. . .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054-10EC-4CCF-A939-8CF4164FAF85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D8A80-EF7A-4F25-A9F9-6D15D9E816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 Tag 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tag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name&gt;forEachPerson&lt;/nam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tag-class&gt;sample.ForEachPersonTag&lt;/tag-class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body-content&gt;JSP&lt;/body-content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description&gt;Iterate through all People&lt;/description&g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&lt;variable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&lt;name-from-attribute&gt;id&lt;/name-from-attribute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&lt;variable-class&gt;sample.Person&lt;/variable-class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&lt;/variable&g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attribut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name&gt;id&lt;/nam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required&gt;true&lt;/require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/attribut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tag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952-0327-43C9-AD0E-1A7F9247A54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C8173-5B4C-4B3F-A759-FEA34514A1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 Tag U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%@ taglib uri="WEB-INF/jsp/people-taglib.tld“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 prefix="people" %&gt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body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h1&gt;People in the database&lt;/h1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table border="1"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tr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&lt;th&gt;Name&lt;/th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&lt;th&gt;Phone&lt;/th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&lt;th&gt;Fax&lt;/th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&lt;/tr&gt;</a:t>
            </a:r>
            <a:br>
              <a:rPr sz="1800"/>
            </a:b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99B-6B4F-4672-9429-954F04BF0DC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053B8-7770-4304-9E32-9C430AB4F9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 Tag U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&lt;people:forEachPerson id="person"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&lt;tr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&lt;t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&lt;jsp:getProperty name="person“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                   property="name"/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t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&lt;t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&lt;jsp:getProperty name="person“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                   property="phone"/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t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&lt;t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&lt;jsp:getProperty name="person“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                   property="fax"/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td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    &lt;/tr&gt;</a:t>
            </a:r>
            <a:br>
              <a:rPr sz="1800"/>
            </a:br>
            <a:r>
              <a:rPr b="1" lang="en-US" sz="1800" spc="-1" strike="noStrike">
                <a:solidFill>
                  <a:srgbClr val="8888ae"/>
                </a:solidFill>
                <a:latin typeface="Courier New"/>
              </a:rPr>
              <a:t>    &lt;/people:forEachPerson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  &lt;/table&gt;</a:t>
            </a:r>
            <a:br>
              <a:rPr sz="1800"/>
            </a:br>
            <a:r>
              <a:rPr b="1" lang="en-US" sz="1800" spc="-1" strike="noStrike">
                <a:solidFill>
                  <a:srgbClr val="545472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B2F-2192-4F67-AA5E-44A4AA40E3E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5855F-F7B4-42E2-BE28-E1F765FF24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tes on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ll examples in this session assum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rvlet API v2.3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JSP v1.2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ll examples were tested using Apache Tomcat 4.0.1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amples will be available a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ttp://javadude.com/articl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e the JavaOne sec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metimes cut/paste messes up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CDB-F60A-4267-8993-BB84D984CF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F97E3-9D55-418E-BC76-68BB194208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terator Tag U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2624040" y="2181240"/>
            <a:ext cx="3895920" cy="36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68C-CF5D-43D4-979D-7953588B3AD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CAFC1-584E-40CA-AB89-66013770AE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her Capabil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ryCatchFinall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ags implementing this interface are told when problems occur in JSP process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alida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ag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g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FF3-CE5A-4D5A-A72C-0E04F40743D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1598F-0C50-458F-A28E-2840645AF6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yout Management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placement can have interesting effec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ags can examine their parents and body tex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following will demonstra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mple replacem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naging body tex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hecking parent tag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503-4210-4FF1-A92C-6946AEFC17B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52174-7BA3-48CE-AE4D-9A7AB0CD77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grammers and Content Writ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o different job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ave different skill set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ustom Tags are your friend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viding a bridge between JSP and cod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ustom tags can act a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acro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terato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ditional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345-B444-417C-AF26-1377581BAE8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F7633-C621-4758-A0D9-3C43CCB47D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f You Only Remember One Thing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330280"/>
            <a:ext cx="70102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Arial"/>
              </a:rPr>
              <a:t>Separate! Separate! Separate!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Arial"/>
              </a:rPr>
              <a:t>Custom Tags are easy, and provide that separation!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472"/>
                </a:solidFill>
                <a:latin typeface="Arial"/>
              </a:rPr>
              <a:t>(ok… so that’s two things…)</a:t>
            </a:r>
            <a:endParaRPr b="0" lang="en-US" sz="3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E44-DE3E-4D56-B1CE-27B1ACF08C65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946AB-5C6E-420B-BC2A-86874AA565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Do We Need Separation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de and Content don’t mix well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grammers write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ntent writers write cont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f mixed, programmers and content writers colli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92A-0558-4D13-A2A9-A4519D54FD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99D47-C3EF-4E16-B80E-F31D9DBF4A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JSP is a Good Start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rvlets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looked lik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cod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JSP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looks lik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HTML/XM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riendlier to non-programm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n change content w/o programm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ut not friendly enough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n contain code (cause confusion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ften requires programmer assistanc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F36-67FC-4F82-B0A5-F870AE95AF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F5998-2963-4D11-877A-0609EE3A65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st-Effective Hi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ood programmer/good writ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t many (I’m one…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$$$$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ood programm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$$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Good writ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$$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ustom JSP Tags -- Scott Stanchfie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9FA-462B-4CE0-91BF-9455970ADD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D46F2-96C7-4749-90D1-A3E5ABC0A9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21:02:18Z</dcterms:created>
  <dc:creator>Andrew Penick</dc:creator>
  <dc:description/>
  <dc:language>en-US</dc:language>
  <cp:lastModifiedBy>Scott Stanchfield</cp:lastModifiedBy>
  <dcterms:modified xsi:type="dcterms:W3CDTF">2002-04-08T01:03:18Z</dcterms:modified>
  <cp:revision>336</cp:revision>
  <dc:subject/>
  <dc:title>No Slide Title</dc:title>
</cp:coreProperties>
</file>