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20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79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53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60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161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0345-D5B1-427F-9F89-A59F4B362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4375-F601-4EE2-9F8E-355E3DC3C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9087-C4A1-4223-A44D-AB6536F96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89E6-E1B2-4F8D-80BF-12B3CE4EE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BB245-E275-4D43-AC7F-4153C2179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60FBB-43C8-4F2F-8712-CE7BF7C28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300CD-CFB1-4FE7-AA21-0C0E5EABB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7B6F8-75B1-4F2D-8C0F-7F64E976D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78323-4DC1-47C0-806B-6A1907947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6F056-7748-431F-AA98-62E3CB8C8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59745-3A39-4D64-A065-C699BD54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19B5-0FCC-4825-8648-4BFAB6390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9F2C6-E258-4FB6-A6A7-754641EC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FAFC3-DDF2-4087-9399-9FE46D98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E5A5C-62AC-4AA3-A282-A98926ED3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3EF0B-B9A5-4C4B-8388-ECF0A81E3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41FD0-378A-4FF1-90FD-2E1437D51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6012-F62E-4DC8-A8DB-D0B2E4C8E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89C7-0498-4436-867D-E5F257B74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30E0-46C9-476B-8174-CC9083127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A90E-4526-4B41-9B66-AB2C0A0EC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1B8A-2CEF-496A-A583-7BB4766D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5982-C623-4241-A5A2-3A69F136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7352-B89B-4B3A-AEBB-B517E712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06AFD-C950-408C-90B1-9D2D5CF45638}" type="datetime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1713B-6761-44E0-847A-3673241F3CAD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1AA5C-87F3-4976-94DE-00AE4BD8ABA5}" type="datetime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CA831-989F-4E72-9789-20A4A8DB9F8D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2.png"/><Relationship Id="rId7" Type="http://schemas.openxmlformats.org/officeDocument/2006/relationships/image" Target="../media/image9.png"/><Relationship Id="rId8" Type="http://schemas.openxmlformats.org/officeDocument/2006/relationships/image" Target="../media/image48.png"/><Relationship Id="rId9" Type="http://schemas.openxmlformats.org/officeDocument/2006/relationships/image" Target="../media/image49.png"/><Relationship Id="rId10" Type="http://schemas.openxmlformats.org/officeDocument/2006/relationships/image" Target="../media/image50.png"/><Relationship Id="rId11" Type="http://schemas.openxmlformats.org/officeDocument/2006/relationships/image" Target="../media/image51.png"/><Relationship Id="rId12" Type="http://schemas.openxmlformats.org/officeDocument/2006/relationships/image" Target="../media/image52.png"/><Relationship Id="rId13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2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2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2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7.png"/><Relationship Id="rId5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6.png"/><Relationship Id="rId5" Type="http://schemas.openxmlformats.org/officeDocument/2006/relationships/slideLayout" Target="../slideLayouts/slideLayout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16.png"/><Relationship Id="rId5" Type="http://schemas.openxmlformats.org/officeDocument/2006/relationships/image" Target="../media/image56.png"/><Relationship Id="rId6" Type="http://schemas.openxmlformats.org/officeDocument/2006/relationships/slideLayout" Target="../slideLayouts/slideLayout3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9.png"/><Relationship Id="rId8" Type="http://schemas.openxmlformats.org/officeDocument/2006/relationships/image" Target="../media/image56.png"/><Relationship Id="rId9" Type="http://schemas.openxmlformats.org/officeDocument/2006/relationships/slideLayout" Target="../slideLayouts/slideLayout3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58.png"/><Relationship Id="rId5" Type="http://schemas.openxmlformats.org/officeDocument/2006/relationships/image" Target="../media/image58.png"/><Relationship Id="rId6" Type="http://schemas.openxmlformats.org/officeDocument/2006/relationships/image" Target="../media/image58.png"/><Relationship Id="rId7" Type="http://schemas.openxmlformats.org/officeDocument/2006/relationships/image" Target="../media/image8.png"/><Relationship Id="rId8" Type="http://schemas.openxmlformats.org/officeDocument/2006/relationships/image" Target="../media/image16.png"/><Relationship Id="rId9" Type="http://schemas.openxmlformats.org/officeDocument/2006/relationships/image" Target="../media/image56.png"/><Relationship Id="rId10" Type="http://schemas.openxmlformats.org/officeDocument/2006/relationships/slideLayout" Target="../slideLayouts/slideLayout3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59.png"/><Relationship Id="rId6" Type="http://schemas.openxmlformats.org/officeDocument/2006/relationships/slideLayout" Target="../slideLayouts/slideLayout3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59.png"/><Relationship Id="rId10" Type="http://schemas.openxmlformats.org/officeDocument/2006/relationships/slideLayout" Target="../slideLayouts/slideLayout3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6.png"/><Relationship Id="rId6" Type="http://schemas.openxmlformats.org/officeDocument/2006/relationships/image" Target="../media/image9.png"/><Relationship Id="rId7" Type="http://schemas.openxmlformats.org/officeDocument/2006/relationships/image" Target="../media/image59.png"/><Relationship Id="rId8" Type="http://schemas.openxmlformats.org/officeDocument/2006/relationships/slideLayout" Target="../slideLayouts/slideLayout3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59.png"/><Relationship Id="rId12" Type="http://schemas.openxmlformats.org/officeDocument/2006/relationships/slideLayout" Target="../slideLayouts/slideLayout3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3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3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3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3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3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2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2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44.png"/><Relationship Id="rId8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2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ffective Layout Manage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Scott Stanchfield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oftware Engineer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WeGo Systems, Inc.</a:t>
            </a:r>
            <a:br>
              <a:rPr sz="3200"/>
            </a:b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5472"/>
                </a:solidFill>
                <a:latin typeface="Tahoma"/>
              </a:rPr>
              <a:t>Copyright © 2001, Scott Stanchfield. All Rights Reserved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52EA4-5630-40E7-9D60-2C4676F35C57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6B83861-A987-4DA6-BA72-36220A12A74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hy Do We Need Layout Managers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GUI Sin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952560" indent="-495360">
              <a:spcBef>
                <a:spcPts val="700"/>
              </a:spcBef>
              <a:buClr>
                <a:srgbClr val="545472"/>
              </a:buClr>
              <a:buSzPct val="8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Not respecting user siz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952560" indent="-495360">
              <a:spcBef>
                <a:spcPts val="700"/>
              </a:spcBef>
              <a:buClr>
                <a:srgbClr val="545472"/>
              </a:buClr>
              <a:buSzPct val="8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ssuming Look and feel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952560" indent="-495360">
              <a:spcBef>
                <a:spcPts val="700"/>
              </a:spcBef>
              <a:buClr>
                <a:srgbClr val="545472"/>
              </a:buClr>
              <a:buSzPct val="8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ssuming one languag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533520" indent="-53352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riendlier, adaptable user interfac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F403-C8D9-4692-B225-A30C9CBAC13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8A9F12-17D4-4190-8268-D39E004BEB8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oxLayou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ll components start at preferred siz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f more room availabl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Components that are not at maximum grow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f not enough room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Components that are not at minimum shrink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8828-38DC-4590-8482-F39BD4D88A96}" type="slidenum">
              <a:t>10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FC66A2-CDF4-4E8B-A810-1EF913BF2E6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oxBea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http://javadude.com/tools/boxbean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ree!!!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Helps use BoxLayout in GUI Builder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323B-9257-4146-8146-4F021BF2D0B5}" type="slidenum">
              <a:t>10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1B5F0E-1A13-4957-B7A9-DC7384974D6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oxBea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BoxAdapter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Decorator to fix siz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Horizontal, Vertical Strut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nvisible fixed spacing component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Horizontal, Vertical Glu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nvisible filler spacing component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455" name="boxadapter" descr=""/>
          <p:cNvPicPr/>
          <p:nvPr/>
        </p:nvPicPr>
        <p:blipFill>
          <a:blip r:embed="rId8"/>
          <a:stretch/>
        </p:blipFill>
        <p:spPr>
          <a:xfrm>
            <a:off x="3505320" y="20574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56" name="boxhstrut" descr=""/>
          <p:cNvPicPr/>
          <p:nvPr/>
        </p:nvPicPr>
        <p:blipFill>
          <a:blip r:embed="rId9"/>
          <a:stretch/>
        </p:blipFill>
        <p:spPr>
          <a:xfrm>
            <a:off x="5943600" y="3657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57" name="boxvstrut" descr=""/>
          <p:cNvPicPr/>
          <p:nvPr/>
        </p:nvPicPr>
        <p:blipFill>
          <a:blip r:embed="rId10"/>
          <a:stretch/>
        </p:blipFill>
        <p:spPr>
          <a:xfrm>
            <a:off x="6324480" y="3662280"/>
            <a:ext cx="304920" cy="295200"/>
          </a:xfrm>
          <a:prstGeom prst="rect">
            <a:avLst/>
          </a:prstGeom>
          <a:ln w="0">
            <a:noFill/>
          </a:ln>
        </p:spPr>
      </p:pic>
      <p:pic>
        <p:nvPicPr>
          <p:cNvPr id="458" name="boxhglue" descr=""/>
          <p:cNvPicPr/>
          <p:nvPr/>
        </p:nvPicPr>
        <p:blipFill>
          <a:blip r:embed="rId11"/>
          <a:stretch/>
        </p:blipFill>
        <p:spPr>
          <a:xfrm>
            <a:off x="5638680" y="5181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59" name="boxvglue" descr=""/>
          <p:cNvPicPr/>
          <p:nvPr/>
        </p:nvPicPr>
        <p:blipFill>
          <a:blip r:embed="rId12"/>
          <a:stretch/>
        </p:blipFill>
        <p:spPr>
          <a:xfrm>
            <a:off x="6019920" y="5181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98CA-20D5-404A-9373-6D134F5F8267}" type="slidenum">
              <a:t>10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76F9B3-F529-4935-937C-5C49074FF14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oxAdapt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mple decorator container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djusts maximum/minimum size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roperties (boolean)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tretchHorizonta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tretchVertica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hrinkHorizonta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hrinkVertica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462" name="boxadapter" descr=""/>
          <p:cNvPicPr/>
          <p:nvPr/>
        </p:nvPicPr>
        <p:blipFill>
          <a:blip r:embed="rId9"/>
          <a:stretch/>
        </p:blipFill>
        <p:spPr>
          <a:xfrm>
            <a:off x="6254640" y="1225440"/>
            <a:ext cx="603360" cy="60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2667-76EF-49B3-A27C-5371F145B6B8}" type="slidenum">
              <a:t>10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428663-674F-4CA2-84E0-B1CE62ECF33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tru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Invisible fixed-size componen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rovides fixed spacing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roperty (int)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ixel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465" name="boxhstrut" descr=""/>
          <p:cNvPicPr/>
          <p:nvPr/>
        </p:nvPicPr>
        <p:blipFill>
          <a:blip r:embed="rId6"/>
          <a:stretch/>
        </p:blipFill>
        <p:spPr>
          <a:xfrm>
            <a:off x="5562720" y="12193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66" name="boxvstrut" descr=""/>
          <p:cNvPicPr/>
          <p:nvPr/>
        </p:nvPicPr>
        <p:blipFill>
          <a:blip r:embed="rId7"/>
          <a:stretch/>
        </p:blipFill>
        <p:spPr>
          <a:xfrm>
            <a:off x="6400800" y="1219320"/>
            <a:ext cx="609480" cy="59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2D1F-AFD1-4F2B-B3F8-2980CBA1D4B9}" type="slidenum">
              <a:t>10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332108-ADBF-463D-BDEB-9974C06B731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lu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Invisible maximizing componen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rovides variable spacing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469" name="boxhglue" descr=""/>
          <p:cNvPicPr/>
          <p:nvPr/>
        </p:nvPicPr>
        <p:blipFill>
          <a:blip r:embed="rId4"/>
          <a:stretch/>
        </p:blipFill>
        <p:spPr>
          <a:xfrm>
            <a:off x="5340240" y="1225440"/>
            <a:ext cx="603360" cy="603360"/>
          </a:xfrm>
          <a:prstGeom prst="rect">
            <a:avLst/>
          </a:prstGeom>
          <a:ln w="0">
            <a:noFill/>
          </a:ln>
        </p:spPr>
      </p:pic>
      <p:pic>
        <p:nvPicPr>
          <p:cNvPr id="470" name="boxvglue" descr=""/>
          <p:cNvPicPr/>
          <p:nvPr/>
        </p:nvPicPr>
        <p:blipFill>
          <a:blip r:embed="rId5"/>
          <a:stretch/>
        </p:blipFill>
        <p:spPr>
          <a:xfrm>
            <a:off x="6178680" y="1225440"/>
            <a:ext cx="603000" cy="60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37CD-D14E-4466-B424-AB2965BAECCE}" type="slidenum">
              <a:t>10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C23D60-CBEB-42FD-B3B6-E132BAAE584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oxBeans in a GUI Build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At “design time”, red lines disclose box bean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473" name="box1" descr=""/>
          <p:cNvPicPr/>
          <p:nvPr/>
        </p:nvPicPr>
        <p:blipFill>
          <a:blip r:embed="rId3"/>
          <a:stretch/>
        </p:blipFill>
        <p:spPr>
          <a:xfrm>
            <a:off x="2363760" y="2630520"/>
            <a:ext cx="5484960" cy="3389400"/>
          </a:xfrm>
          <a:prstGeom prst="rect">
            <a:avLst/>
          </a:prstGeom>
          <a:ln w="9360">
            <a:solidFill>
              <a:srgbClr val="545472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235C-CE5D-4121-ABD0-116F56B58B2F}" type="slidenum">
              <a:t>10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714798-D64E-4CD8-A5B1-849EF5A3C38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box2" descr=""/>
          <p:cNvPicPr/>
          <p:nvPr/>
        </p:nvPicPr>
        <p:blipFill>
          <a:blip r:embed="rId2"/>
          <a:stretch/>
        </p:blipFill>
        <p:spPr>
          <a:xfrm>
            <a:off x="2436840" y="2662200"/>
            <a:ext cx="5411880" cy="3333960"/>
          </a:xfrm>
          <a:prstGeom prst="rect">
            <a:avLst/>
          </a:prstGeom>
          <a:ln w="9360">
            <a:solidFill>
              <a:srgbClr val="545472"/>
            </a:solidFill>
            <a:miter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oxBeans in a GUI Build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Drop components insid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0567-BF50-4AE5-949A-CE5FFE759F7D}" type="slidenum">
              <a:t>10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16D2DA-2D29-454F-8AC2-A9CC26FEE2A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ig Bad Evil GridBagLayou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Manages all components at onc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Usually breaks 7</a:t>
            </a:r>
            <a:r>
              <a:rPr b="0" lang="en-US" sz="2800" spc="-1" strike="noStrike" u="sng">
                <a:solidFill>
                  <a:srgbClr val="545472"/>
                </a:solidFill>
                <a:uFillTx/>
                <a:latin typeface="Tahoma"/>
              </a:rPr>
              <a:t>+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2 rule!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11 constraints per componen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Breaks 7</a:t>
            </a:r>
            <a:r>
              <a:rPr b="0" lang="en-US" sz="2800" spc="-1" strike="noStrike" u="sng">
                <a:solidFill>
                  <a:srgbClr val="545472"/>
                </a:solidFill>
                <a:uFillTx/>
                <a:latin typeface="Tahoma"/>
              </a:rPr>
              <a:t>+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2 rule!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Most flexible (at complexity cost)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Most GUIs can be created via nesting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2956-7395-4C0A-8F0B-5599BDDF97CE}" type="slidenum">
              <a:t>10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191C0A-EFBB-4420-908D-A98DC3D2D73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ig Bad Evil GridBagLayou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Why is it evil?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Overly complex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onstraints can be inconsistent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teep learning curv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DD18-08CE-4B6C-9BD7-FB17348B4B79}" type="slidenum">
              <a:t>10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6A1B76-0F3B-49A5-8963-B108D7660B4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UI Sin #1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t Respecting User Siz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My name won’t fit!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59" name="sin1a" descr=""/>
          <p:cNvPicPr/>
          <p:nvPr/>
        </p:nvPicPr>
        <p:blipFill>
          <a:blip r:embed="rId3"/>
          <a:stretch/>
        </p:blipFill>
        <p:spPr>
          <a:xfrm>
            <a:off x="1447920" y="2693880"/>
            <a:ext cx="4360680" cy="3249720"/>
          </a:xfrm>
          <a:prstGeom prst="rect">
            <a:avLst/>
          </a:prstGeom>
          <a:ln w="9360">
            <a:solidFill>
              <a:srgbClr val="545472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E0AA-758E-4DAC-8C25-2917515CAC8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0EC536-D655-4F52-BC6D-E572D431E3D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ig Bad Evil GridBagLayou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But </a:t>
            </a:r>
            <a:r>
              <a:rPr b="0" lang="en-US" sz="2800" spc="-1" strike="noStrike">
                <a:solidFill>
                  <a:srgbClr val="8888ae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know it well. It works for </a:t>
            </a:r>
            <a:r>
              <a:rPr b="0" lang="en-US" sz="2800" spc="-1" strike="noStrike">
                <a:solidFill>
                  <a:srgbClr val="8888ae"/>
                </a:solidFill>
                <a:latin typeface="Tahoma"/>
              </a:rPr>
              <a:t>me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.”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nk about the maintenance programmer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ey must know it at least as well as you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Hard to visualize all constraints (7</a:t>
            </a:r>
            <a:r>
              <a:rPr b="0" lang="en-US" sz="2400" spc="-1" strike="noStrike" u="sng">
                <a:solidFill>
                  <a:srgbClr val="545472"/>
                </a:solidFill>
                <a:uFillTx/>
                <a:latin typeface="Tahoma"/>
              </a:rPr>
              <a:t>+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2)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Unless you want to maintain forever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Avoid Big Bad Evil GridBagLayout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Use nesting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Write Simpler Custom Layout Manager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8E4D-A5D5-44B0-9C91-DD8D3827F0CC}" type="slidenum">
              <a:t>1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21B4A1-B000-42AD-92E9-7A041A2E936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ig Bad Evil GridBagLayou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Divides GUI into a grid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olumns might not be same width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Rows might not be same height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omponents can span columns, row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omponents start at preferred siz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Extra space divided by weight constraint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84D0-B3C7-4639-BBAF-506C4DD552B4}" type="slidenum">
              <a:t>1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4A8776-9CE7-41C7-879B-30A063549EF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ample GU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486" name="gridbag1" descr=""/>
          <p:cNvPicPr/>
          <p:nvPr/>
        </p:nvPicPr>
        <p:blipFill>
          <a:blip r:embed="rId2"/>
          <a:stretch/>
        </p:blipFill>
        <p:spPr>
          <a:xfrm>
            <a:off x="1152360" y="2019240"/>
            <a:ext cx="6837480" cy="4000680"/>
          </a:xfrm>
          <a:prstGeom prst="rect">
            <a:avLst/>
          </a:prstGeom>
          <a:ln w="9360">
            <a:solidFill>
              <a:srgbClr val="545472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BA92-73EA-484D-8D45-0D904A19F6DA}" type="slidenum">
              <a:t>1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85DDFB-EF30-4AA7-8024-5B1EB285979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roup Nested GU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1152360" y="2019240"/>
            <a:ext cx="6837480" cy="4000680"/>
            <a:chOff x="1152360" y="2019240"/>
            <a:chExt cx="6837480" cy="4000680"/>
          </a:xfrm>
        </p:grpSpPr>
        <p:pic>
          <p:nvPicPr>
            <p:cNvPr id="489" name="gridbag1" descr=""/>
            <p:cNvPicPr/>
            <p:nvPr/>
          </p:nvPicPr>
          <p:blipFill>
            <a:blip r:embed="rId2"/>
            <a:stretch/>
          </p:blipFill>
          <p:spPr>
            <a:xfrm>
              <a:off x="1152360" y="2019240"/>
              <a:ext cx="6837480" cy="4000680"/>
            </a:xfrm>
            <a:prstGeom prst="rect">
              <a:avLst/>
            </a:prstGeom>
            <a:ln w="9360">
              <a:solidFill>
                <a:srgbClr val="545472"/>
              </a:solidFill>
              <a:miter/>
            </a:ln>
          </p:spPr>
        </p:pic>
        <p:sp>
          <p:nvSpPr>
            <p:cNvPr id="490" name=""/>
            <p:cNvSpPr/>
            <p:nvPr/>
          </p:nvSpPr>
          <p:spPr>
            <a:xfrm>
              <a:off x="5638680" y="5371920"/>
              <a:ext cx="2210040" cy="533520"/>
            </a:xfrm>
            <a:prstGeom prst="rect">
              <a:avLst/>
            </a:prstGeom>
            <a:solidFill>
              <a:srgbClr val="a7ccd9">
                <a:alpha val="50000"/>
              </a:srgbClr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68BB-7D20-41EA-B565-7E4FDE055356}" type="slidenum">
              <a:t>1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1E9884-A3FA-48EC-9ED8-4FF81FB5D5A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ivide Into Cel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990720" y="1828800"/>
            <a:ext cx="7162560" cy="4648320"/>
            <a:chOff x="990720" y="1828800"/>
            <a:chExt cx="7162560" cy="4648320"/>
          </a:xfrm>
        </p:grpSpPr>
        <p:grpSp>
          <p:nvGrpSpPr>
            <p:cNvPr id="493" name=""/>
            <p:cNvGrpSpPr/>
            <p:nvPr/>
          </p:nvGrpSpPr>
          <p:grpSpPr>
            <a:xfrm>
              <a:off x="1152360" y="2057400"/>
              <a:ext cx="6837480" cy="4000680"/>
              <a:chOff x="1152360" y="2057400"/>
              <a:chExt cx="6837480" cy="4000680"/>
            </a:xfrm>
          </p:grpSpPr>
          <p:pic>
            <p:nvPicPr>
              <p:cNvPr id="494" name="gridbag1" descr=""/>
              <p:cNvPicPr/>
              <p:nvPr/>
            </p:nvPicPr>
            <p:blipFill>
              <a:blip r:embed="rId2"/>
              <a:stretch/>
            </p:blipFill>
            <p:spPr>
              <a:xfrm>
                <a:off x="1152360" y="2057400"/>
                <a:ext cx="6837480" cy="4000680"/>
              </a:xfrm>
              <a:prstGeom prst="rect">
                <a:avLst/>
              </a:prstGeom>
              <a:ln w="9360">
                <a:solidFill>
                  <a:srgbClr val="545472"/>
                </a:solidFill>
                <a:miter/>
              </a:ln>
            </p:spPr>
          </p:pic>
          <p:sp>
            <p:nvSpPr>
              <p:cNvPr id="495" name=""/>
              <p:cNvSpPr/>
              <p:nvPr/>
            </p:nvSpPr>
            <p:spPr>
              <a:xfrm>
                <a:off x="5638680" y="5410080"/>
                <a:ext cx="2210040" cy="533520"/>
              </a:xfrm>
              <a:prstGeom prst="rect">
                <a:avLst/>
              </a:prstGeom>
              <a:solidFill>
                <a:srgbClr val="a7ccd9">
                  <a:alpha val="50000"/>
                </a:srgbClr>
              </a:solidFill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496" name=""/>
            <p:cNvSpPr/>
            <p:nvPr/>
          </p:nvSpPr>
          <p:spPr>
            <a:xfrm>
              <a:off x="2514600" y="1828800"/>
              <a:ext cx="0" cy="4648320"/>
            </a:xfrm>
            <a:prstGeom prst="line">
              <a:avLst/>
            </a:prstGeom>
            <a:ln w="63360">
              <a:solidFill>
                <a:srgbClr val="888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724280" y="1828800"/>
              <a:ext cx="0" cy="4648320"/>
            </a:xfrm>
            <a:prstGeom prst="line">
              <a:avLst/>
            </a:prstGeom>
            <a:ln w="63360">
              <a:solidFill>
                <a:srgbClr val="888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715000" y="1828800"/>
              <a:ext cx="0" cy="4648320"/>
            </a:xfrm>
            <a:prstGeom prst="line">
              <a:avLst/>
            </a:prstGeom>
            <a:ln w="63360">
              <a:solidFill>
                <a:srgbClr val="888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V="1">
              <a:off x="990720" y="3048120"/>
              <a:ext cx="7162560" cy="1440"/>
            </a:xfrm>
            <a:prstGeom prst="line">
              <a:avLst/>
            </a:prstGeom>
            <a:ln w="63360">
              <a:solidFill>
                <a:srgbClr val="888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990720" y="3656160"/>
              <a:ext cx="7162560" cy="1440"/>
            </a:xfrm>
            <a:prstGeom prst="line">
              <a:avLst/>
            </a:prstGeom>
            <a:ln w="63360">
              <a:solidFill>
                <a:srgbClr val="888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>
              <a:off x="990720" y="4265640"/>
              <a:ext cx="7162560" cy="1440"/>
            </a:xfrm>
            <a:prstGeom prst="line">
              <a:avLst/>
            </a:prstGeom>
            <a:ln w="63360">
              <a:solidFill>
                <a:srgbClr val="888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990720" y="4874760"/>
              <a:ext cx="7162560" cy="1800"/>
            </a:xfrm>
            <a:prstGeom prst="line">
              <a:avLst/>
            </a:prstGeom>
            <a:ln w="63360">
              <a:solidFill>
                <a:srgbClr val="888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1004-61B8-4A6E-82EB-7CA6D989D5D0}" type="slidenum">
              <a:t>1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6C3BFF-650C-4CC6-8437-678FCDA1213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nnotate for Resize Behavio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990720" y="1828800"/>
            <a:ext cx="7162560" cy="4648320"/>
            <a:chOff x="990720" y="1828800"/>
            <a:chExt cx="7162560" cy="4648320"/>
          </a:xfrm>
        </p:grpSpPr>
        <p:grpSp>
          <p:nvGrpSpPr>
            <p:cNvPr id="505" name=""/>
            <p:cNvGrpSpPr/>
            <p:nvPr/>
          </p:nvGrpSpPr>
          <p:grpSpPr>
            <a:xfrm>
              <a:off x="990720" y="1828800"/>
              <a:ext cx="7162560" cy="4648320"/>
              <a:chOff x="990720" y="1828800"/>
              <a:chExt cx="7162560" cy="4648320"/>
            </a:xfrm>
          </p:grpSpPr>
          <p:grpSp>
            <p:nvGrpSpPr>
              <p:cNvPr id="506" name=""/>
              <p:cNvGrpSpPr/>
              <p:nvPr/>
            </p:nvGrpSpPr>
            <p:grpSpPr>
              <a:xfrm>
                <a:off x="1152360" y="2057400"/>
                <a:ext cx="6837480" cy="4000680"/>
                <a:chOff x="1152360" y="2057400"/>
                <a:chExt cx="6837480" cy="4000680"/>
              </a:xfrm>
            </p:grpSpPr>
            <p:pic>
              <p:nvPicPr>
                <p:cNvPr id="507" name="gridbag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152360" y="2057400"/>
                  <a:ext cx="6837480" cy="4000680"/>
                </a:xfrm>
                <a:prstGeom prst="rect">
                  <a:avLst/>
                </a:prstGeom>
                <a:ln w="9360">
                  <a:solidFill>
                    <a:srgbClr val="545472"/>
                  </a:solidFill>
                  <a:miter/>
                </a:ln>
              </p:spPr>
            </p:pic>
            <p:sp>
              <p:nvSpPr>
                <p:cNvPr id="508" name=""/>
                <p:cNvSpPr/>
                <p:nvPr/>
              </p:nvSpPr>
              <p:spPr>
                <a:xfrm>
                  <a:off x="5638680" y="5410080"/>
                  <a:ext cx="2210040" cy="533520"/>
                </a:xfrm>
                <a:prstGeom prst="rect">
                  <a:avLst/>
                </a:prstGeom>
                <a:solidFill>
                  <a:srgbClr val="a7ccd9">
                    <a:alpha val="50000"/>
                  </a:srgbClr>
                </a:solidFill>
                <a:ln w="93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9" name=""/>
              <p:cNvSpPr/>
              <p:nvPr/>
            </p:nvSpPr>
            <p:spPr>
              <a:xfrm>
                <a:off x="2514600" y="1828800"/>
                <a:ext cx="0" cy="4648320"/>
              </a:xfrm>
              <a:prstGeom prst="line">
                <a:avLst/>
              </a:prstGeom>
              <a:ln w="63360">
                <a:solidFill>
                  <a:srgbClr val="8888a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724280" y="1828800"/>
                <a:ext cx="0" cy="4648320"/>
              </a:xfrm>
              <a:prstGeom prst="line">
                <a:avLst/>
              </a:prstGeom>
              <a:ln w="63360">
                <a:solidFill>
                  <a:srgbClr val="8888a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715000" y="1828800"/>
                <a:ext cx="0" cy="4648320"/>
              </a:xfrm>
              <a:prstGeom prst="line">
                <a:avLst/>
              </a:prstGeom>
              <a:ln w="63360">
                <a:solidFill>
                  <a:srgbClr val="8888a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V="1">
                <a:off x="990720" y="3048120"/>
                <a:ext cx="7162560" cy="1440"/>
              </a:xfrm>
              <a:prstGeom prst="line">
                <a:avLst/>
              </a:prstGeom>
              <a:ln w="63360">
                <a:solidFill>
                  <a:srgbClr val="8888a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V="1">
                <a:off x="990720" y="3656160"/>
                <a:ext cx="7162560" cy="1440"/>
              </a:xfrm>
              <a:prstGeom prst="line">
                <a:avLst/>
              </a:prstGeom>
              <a:ln w="63360">
                <a:solidFill>
                  <a:srgbClr val="8888a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V="1">
                <a:off x="990720" y="4265640"/>
                <a:ext cx="7162560" cy="1440"/>
              </a:xfrm>
              <a:prstGeom prst="line">
                <a:avLst/>
              </a:prstGeom>
              <a:ln w="63360">
                <a:solidFill>
                  <a:srgbClr val="8888a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V="1">
                <a:off x="990720" y="4874760"/>
                <a:ext cx="7162560" cy="1800"/>
              </a:xfrm>
              <a:prstGeom prst="line">
                <a:avLst/>
              </a:prstGeom>
              <a:ln w="63360">
                <a:solidFill>
                  <a:srgbClr val="8888a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516" name=""/>
            <p:cNvSpPr/>
            <p:nvPr/>
          </p:nvSpPr>
          <p:spPr>
            <a:xfrm>
              <a:off x="2590920" y="2743200"/>
              <a:ext cx="518148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666880" y="3352680"/>
              <a:ext cx="510552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600200" y="5486400"/>
              <a:ext cx="61722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666880" y="3962520"/>
              <a:ext cx="190512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867280" y="3962520"/>
              <a:ext cx="190512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666880" y="4572000"/>
              <a:ext cx="190512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031000" y="25527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66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031000" y="31622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66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088400" y="37814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66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888000" y="37720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66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659400" y="43909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66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335920" y="37908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66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135520" y="25909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66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135520" y="31622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66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135520" y="37940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66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135520" y="4403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66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3581280" y="5105520"/>
              <a:ext cx="1800" cy="838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1E86-6513-4E0A-812D-7CD1FDAA1888}" type="slidenum">
              <a:t>1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900628-0EA4-4F44-AD14-4D9EFC1ECF1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termine Positio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gridx, gridy specify upper-left-most cell containing componen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A929-10BE-4D48-9F8C-E7F3072DA9A8}" type="slidenum">
              <a:t>1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56F314-6892-4EB8-A004-5C48888D5E1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termine Positio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990720" y="1828800"/>
            <a:ext cx="7162560" cy="4648320"/>
            <a:chOff x="990720" y="1828800"/>
            <a:chExt cx="7162560" cy="4648320"/>
          </a:xfrm>
        </p:grpSpPr>
        <p:grpSp>
          <p:nvGrpSpPr>
            <p:cNvPr id="537" name=""/>
            <p:cNvGrpSpPr/>
            <p:nvPr/>
          </p:nvGrpSpPr>
          <p:grpSpPr>
            <a:xfrm>
              <a:off x="990720" y="1828800"/>
              <a:ext cx="7162560" cy="4648320"/>
              <a:chOff x="990720" y="1828800"/>
              <a:chExt cx="7162560" cy="4648320"/>
            </a:xfrm>
          </p:grpSpPr>
          <p:grpSp>
            <p:nvGrpSpPr>
              <p:cNvPr id="538" name=""/>
              <p:cNvGrpSpPr/>
              <p:nvPr/>
            </p:nvGrpSpPr>
            <p:grpSpPr>
              <a:xfrm>
                <a:off x="990720" y="1828800"/>
                <a:ext cx="7162560" cy="4648320"/>
                <a:chOff x="990720" y="1828800"/>
                <a:chExt cx="7162560" cy="4648320"/>
              </a:xfrm>
            </p:grpSpPr>
            <p:grpSp>
              <p:nvGrpSpPr>
                <p:cNvPr id="539" name=""/>
                <p:cNvGrpSpPr/>
                <p:nvPr/>
              </p:nvGrpSpPr>
              <p:grpSpPr>
                <a:xfrm>
                  <a:off x="1152360" y="2057400"/>
                  <a:ext cx="6837480" cy="4000680"/>
                  <a:chOff x="1152360" y="2057400"/>
                  <a:chExt cx="6837480" cy="4000680"/>
                </a:xfrm>
              </p:grpSpPr>
              <p:pic>
                <p:nvPicPr>
                  <p:cNvPr id="540" name="gridbag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2360" y="2057400"/>
                    <a:ext cx="6837480" cy="4000680"/>
                  </a:xfrm>
                  <a:prstGeom prst="rect">
                    <a:avLst/>
                  </a:prstGeom>
                  <a:ln w="9360">
                    <a:solidFill>
                      <a:srgbClr val="545472"/>
                    </a:solidFill>
                    <a:miter/>
                  </a:ln>
                </p:spPr>
              </p:pic>
              <p:sp>
                <p:nvSpPr>
                  <p:cNvPr id="541" name=""/>
                  <p:cNvSpPr/>
                  <p:nvPr/>
                </p:nvSpPr>
                <p:spPr>
                  <a:xfrm>
                    <a:off x="5638680" y="5410080"/>
                    <a:ext cx="2210040" cy="533520"/>
                  </a:xfrm>
                  <a:prstGeom prst="rect">
                    <a:avLst/>
                  </a:prstGeom>
                  <a:solidFill>
                    <a:srgbClr val="a7ccd9">
                      <a:alpha val="50000"/>
                    </a:srgbClr>
                  </a:solidFill>
                  <a:ln w="9360">
                    <a:solidFill>
                      <a:srgbClr val="54547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2" name=""/>
                <p:cNvSpPr/>
                <p:nvPr/>
              </p:nvSpPr>
              <p:spPr>
                <a:xfrm>
                  <a:off x="2514600" y="1828800"/>
                  <a:ext cx="0" cy="4648320"/>
                </a:xfrm>
                <a:prstGeom prst="line">
                  <a:avLst/>
                </a:prstGeom>
                <a:ln w="63360">
                  <a:solidFill>
                    <a:srgbClr val="8888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4724280" y="1828800"/>
                  <a:ext cx="0" cy="4648320"/>
                </a:xfrm>
                <a:prstGeom prst="line">
                  <a:avLst/>
                </a:prstGeom>
                <a:ln w="63360">
                  <a:solidFill>
                    <a:srgbClr val="8888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5715000" y="1828800"/>
                  <a:ext cx="0" cy="4648320"/>
                </a:xfrm>
                <a:prstGeom prst="line">
                  <a:avLst/>
                </a:prstGeom>
                <a:ln w="63360">
                  <a:solidFill>
                    <a:srgbClr val="8888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 flipV="1">
                  <a:off x="990720" y="3048120"/>
                  <a:ext cx="7162560" cy="1440"/>
                </a:xfrm>
                <a:prstGeom prst="line">
                  <a:avLst/>
                </a:prstGeom>
                <a:ln w="63360">
                  <a:solidFill>
                    <a:srgbClr val="8888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 flipV="1">
                  <a:off x="990720" y="3656160"/>
                  <a:ext cx="7162560" cy="1440"/>
                </a:xfrm>
                <a:prstGeom prst="line">
                  <a:avLst/>
                </a:prstGeom>
                <a:ln w="63360">
                  <a:solidFill>
                    <a:srgbClr val="8888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V="1">
                  <a:off x="990720" y="4265640"/>
                  <a:ext cx="7162560" cy="1440"/>
                </a:xfrm>
                <a:prstGeom prst="line">
                  <a:avLst/>
                </a:prstGeom>
                <a:ln w="63360">
                  <a:solidFill>
                    <a:srgbClr val="8888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 flipV="1">
                  <a:off x="990720" y="4874760"/>
                  <a:ext cx="7162560" cy="1800"/>
                </a:xfrm>
                <a:prstGeom prst="line">
                  <a:avLst/>
                </a:prstGeom>
                <a:ln w="63360">
                  <a:solidFill>
                    <a:srgbClr val="8888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9" name=""/>
              <p:cNvSpPr/>
              <p:nvPr/>
            </p:nvSpPr>
            <p:spPr>
              <a:xfrm>
                <a:off x="2590920" y="2743200"/>
                <a:ext cx="5181480" cy="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2666880" y="3352680"/>
                <a:ext cx="5105520" cy="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600200" y="5486400"/>
                <a:ext cx="6172200" cy="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666880" y="3962520"/>
                <a:ext cx="1905120" cy="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867280" y="3962520"/>
                <a:ext cx="1905120" cy="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666880" y="4572000"/>
                <a:ext cx="1905120" cy="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031000" y="255276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0066"/>
                    </a:solidFill>
                    <a:latin typeface="Courier New"/>
                  </a:rPr>
                  <a:t>I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031000" y="316224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0066"/>
                    </a:solidFill>
                    <a:latin typeface="Courier New"/>
                  </a:rPr>
                  <a:t>I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088400" y="378144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0066"/>
                    </a:solidFill>
                    <a:latin typeface="Courier New"/>
                  </a:rPr>
                  <a:t>I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888000" y="377208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0066"/>
                    </a:solidFill>
                    <a:latin typeface="Courier New"/>
                  </a:rPr>
                  <a:t>I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659400" y="439092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0066"/>
                    </a:solidFill>
                    <a:latin typeface="Courier New"/>
                  </a:rPr>
                  <a:t>I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335920" y="3790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0066"/>
                    </a:solidFill>
                    <a:latin typeface="Courier New"/>
                  </a:rPr>
                  <a:t>I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2135520" y="259092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0066"/>
                    </a:solidFill>
                    <a:latin typeface="Courier New"/>
                  </a:rPr>
                  <a:t>I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2135520" y="316224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0066"/>
                    </a:solidFill>
                    <a:latin typeface="Courier New"/>
                  </a:rPr>
                  <a:t>I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135520" y="379404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0066"/>
                    </a:solidFill>
                    <a:latin typeface="Courier New"/>
                  </a:rPr>
                  <a:t>I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135520" y="440388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0066"/>
                    </a:solidFill>
                    <a:latin typeface="Courier New"/>
                  </a:rPr>
                  <a:t>I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V="1">
                <a:off x="3581280" y="5105520"/>
                <a:ext cx="1800" cy="83808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566" name=""/>
            <p:cNvSpPr/>
            <p:nvPr/>
          </p:nvSpPr>
          <p:spPr>
            <a:xfrm>
              <a:off x="1225800" y="2518560"/>
              <a:ext cx="307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597400" y="2518560"/>
              <a:ext cx="307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225800" y="3128040"/>
              <a:ext cx="307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97400" y="3128040"/>
              <a:ext cx="307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25800" y="3737880"/>
              <a:ext cx="307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597400" y="3737880"/>
              <a:ext cx="307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883400" y="3737880"/>
              <a:ext cx="307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874120" y="3737880"/>
              <a:ext cx="307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225800" y="4347360"/>
              <a:ext cx="307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597760" y="4347360"/>
              <a:ext cx="43380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226160" y="4956840"/>
              <a:ext cx="43380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9E98-CAE7-4A13-93E5-0E7B9A9303A4}" type="slidenum">
              <a:t>1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01C2AD-C712-46F1-A0F1-0C0ACBD2D46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termine Positio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838080" y="1733400"/>
          <a:ext cx="7848720" cy="4395960"/>
        </p:xfrm>
        <a:graphic>
          <a:graphicData uri="http://schemas.openxmlformats.org/drawingml/2006/table">
            <a:tbl>
              <a:tblPr/>
              <a:tblGrid>
                <a:gridCol w="2057400"/>
                <a:gridCol w="533520"/>
                <a:gridCol w="533520"/>
                <a:gridCol w="533160"/>
                <a:gridCol w="457200"/>
                <a:gridCol w="533520"/>
                <a:gridCol w="533520"/>
                <a:gridCol w="533160"/>
                <a:gridCol w="533520"/>
                <a:gridCol w="533520"/>
                <a:gridCol w="533160"/>
                <a:gridCol w="533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ridx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ridy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ridWidth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ridHeight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fill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anchor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ipadx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ipady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inset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weightx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weighty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F8AB-5890-4D7F-8D4E-EC2B7E1E5BD2}" type="slidenum">
              <a:t>1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14FA79-7904-4DFE-91B0-565D1F0B3BE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termine Cell Bound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gridwidth, gridheight specify how many cells the component span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8F4A-E099-49D1-BD13-FE293C84CD1D}" type="slidenum">
              <a:t>1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B0E344-AA72-450E-801A-27F82DB39EA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sin1a" descr=""/>
          <p:cNvPicPr/>
          <p:nvPr/>
        </p:nvPicPr>
        <p:blipFill>
          <a:blip r:embed="rId2"/>
          <a:stretch/>
        </p:blipFill>
        <p:spPr>
          <a:xfrm>
            <a:off x="1447920" y="2693880"/>
            <a:ext cx="4360680" cy="3249720"/>
          </a:xfrm>
          <a:prstGeom prst="rect">
            <a:avLst/>
          </a:prstGeom>
          <a:ln w="9360">
            <a:solidFill>
              <a:srgbClr val="545472"/>
            </a:solidFill>
            <a:miter/>
          </a:ln>
        </p:spPr>
      </p:pic>
      <p:sp>
        <p:nvSpPr>
          <p:cNvPr id="161" name=""/>
          <p:cNvSpPr/>
          <p:nvPr/>
        </p:nvSpPr>
        <p:spPr>
          <a:xfrm>
            <a:off x="5715000" y="3657600"/>
            <a:ext cx="1905120" cy="485640"/>
          </a:xfrm>
          <a:custGeom>
            <a:avLst/>
            <a:gdLst>
              <a:gd name="textAreaLeft" fmla="*/ 297720 w 1905120"/>
              <a:gd name="textAreaRight" fmla="*/ 1667160 w 19051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UI Sin #1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t Respecting User Siz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My name </a:t>
            </a:r>
            <a:r>
              <a:rPr b="0" lang="en-US" sz="3200" spc="-1" strike="noStrike">
                <a:solidFill>
                  <a:srgbClr val="8888ae"/>
                </a:solidFill>
                <a:latin typeface="Tahoma"/>
              </a:rPr>
              <a:t>still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won’t fit!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447920" y="2697120"/>
            <a:ext cx="6253200" cy="3781800"/>
            <a:chOff x="1447920" y="2697120"/>
            <a:chExt cx="6253200" cy="3781800"/>
          </a:xfrm>
        </p:grpSpPr>
        <p:pic>
          <p:nvPicPr>
            <p:cNvPr id="165" name="sin1b" descr=""/>
            <p:cNvPicPr/>
            <p:nvPr/>
          </p:nvPicPr>
          <p:blipFill>
            <a:blip r:embed="rId4"/>
            <a:stretch/>
          </p:blipFill>
          <p:spPr>
            <a:xfrm>
              <a:off x="1447920" y="2697120"/>
              <a:ext cx="6253200" cy="3254400"/>
            </a:xfrm>
            <a:prstGeom prst="rect">
              <a:avLst/>
            </a:prstGeom>
            <a:ln w="9360">
              <a:solidFill>
                <a:srgbClr val="545472"/>
              </a:solidFill>
              <a:miter/>
            </a:ln>
          </p:spPr>
        </p:pic>
        <p:sp>
          <p:nvSpPr>
            <p:cNvPr id="166" name=""/>
            <p:cNvSpPr/>
            <p:nvPr/>
          </p:nvSpPr>
          <p:spPr>
            <a:xfrm>
              <a:off x="4567680" y="5897520"/>
              <a:ext cx="3119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45472"/>
                  </a:solidFill>
                  <a:latin typeface="Arial"/>
                </a:rPr>
                <a:t>grrrrrrrrrrrrrrrrr…</a:t>
              </a:r>
              <a:endParaRPr b="0" lang="en-US" sz="3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DD0E-20E4-4D76-8185-1CFAE246F27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09E630-687C-4880-BDFE-130948B1591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termine Cell Bound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990720" y="1828800"/>
            <a:ext cx="7162560" cy="4648320"/>
            <a:chOff x="990720" y="1828800"/>
            <a:chExt cx="7162560" cy="4648320"/>
          </a:xfrm>
        </p:grpSpPr>
        <p:grpSp>
          <p:nvGrpSpPr>
            <p:cNvPr id="583" name=""/>
            <p:cNvGrpSpPr/>
            <p:nvPr/>
          </p:nvGrpSpPr>
          <p:grpSpPr>
            <a:xfrm>
              <a:off x="990720" y="1828800"/>
              <a:ext cx="7162560" cy="4648320"/>
              <a:chOff x="990720" y="1828800"/>
              <a:chExt cx="7162560" cy="4648320"/>
            </a:xfrm>
          </p:grpSpPr>
          <p:grpSp>
            <p:nvGrpSpPr>
              <p:cNvPr id="584" name=""/>
              <p:cNvGrpSpPr/>
              <p:nvPr/>
            </p:nvGrpSpPr>
            <p:grpSpPr>
              <a:xfrm>
                <a:off x="990720" y="1828800"/>
                <a:ext cx="7162560" cy="4648320"/>
                <a:chOff x="990720" y="1828800"/>
                <a:chExt cx="7162560" cy="4648320"/>
              </a:xfrm>
            </p:grpSpPr>
            <p:grpSp>
              <p:nvGrpSpPr>
                <p:cNvPr id="585" name=""/>
                <p:cNvGrpSpPr/>
                <p:nvPr/>
              </p:nvGrpSpPr>
              <p:grpSpPr>
                <a:xfrm>
                  <a:off x="1152360" y="2057400"/>
                  <a:ext cx="6837480" cy="4000680"/>
                  <a:chOff x="1152360" y="2057400"/>
                  <a:chExt cx="6837480" cy="4000680"/>
                </a:xfrm>
              </p:grpSpPr>
              <p:pic>
                <p:nvPicPr>
                  <p:cNvPr id="586" name="gridbag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2360" y="2057400"/>
                    <a:ext cx="6837480" cy="4000680"/>
                  </a:xfrm>
                  <a:prstGeom prst="rect">
                    <a:avLst/>
                  </a:prstGeom>
                  <a:ln w="9360">
                    <a:solidFill>
                      <a:srgbClr val="545472"/>
                    </a:solidFill>
                    <a:miter/>
                  </a:ln>
                </p:spPr>
              </p:pic>
              <p:sp>
                <p:nvSpPr>
                  <p:cNvPr id="587" name=""/>
                  <p:cNvSpPr/>
                  <p:nvPr/>
                </p:nvSpPr>
                <p:spPr>
                  <a:xfrm>
                    <a:off x="5638680" y="5410080"/>
                    <a:ext cx="2210040" cy="533520"/>
                  </a:xfrm>
                  <a:prstGeom prst="rect">
                    <a:avLst/>
                  </a:prstGeom>
                  <a:solidFill>
                    <a:srgbClr val="a7ccd9">
                      <a:alpha val="50000"/>
                    </a:srgbClr>
                  </a:solidFill>
                  <a:ln w="9360">
                    <a:solidFill>
                      <a:srgbClr val="54547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88" name=""/>
                <p:cNvSpPr/>
                <p:nvPr/>
              </p:nvSpPr>
              <p:spPr>
                <a:xfrm>
                  <a:off x="2514600" y="1828800"/>
                  <a:ext cx="0" cy="4648320"/>
                </a:xfrm>
                <a:prstGeom prst="line">
                  <a:avLst/>
                </a:prstGeom>
                <a:ln w="63360">
                  <a:solidFill>
                    <a:srgbClr val="8888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4724280" y="1828800"/>
                  <a:ext cx="0" cy="4648320"/>
                </a:xfrm>
                <a:prstGeom prst="line">
                  <a:avLst/>
                </a:prstGeom>
                <a:ln w="63360">
                  <a:solidFill>
                    <a:srgbClr val="8888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5715000" y="1828800"/>
                  <a:ext cx="0" cy="4648320"/>
                </a:xfrm>
                <a:prstGeom prst="line">
                  <a:avLst/>
                </a:prstGeom>
                <a:ln w="63360">
                  <a:solidFill>
                    <a:srgbClr val="8888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 flipV="1">
                  <a:off x="990720" y="3048120"/>
                  <a:ext cx="7162560" cy="1440"/>
                </a:xfrm>
                <a:prstGeom prst="line">
                  <a:avLst/>
                </a:prstGeom>
                <a:ln w="63360">
                  <a:solidFill>
                    <a:srgbClr val="8888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 flipV="1">
                  <a:off x="990720" y="3656160"/>
                  <a:ext cx="7162560" cy="1440"/>
                </a:xfrm>
                <a:prstGeom prst="line">
                  <a:avLst/>
                </a:prstGeom>
                <a:ln w="63360">
                  <a:solidFill>
                    <a:srgbClr val="8888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 flipV="1">
                  <a:off x="990720" y="4265640"/>
                  <a:ext cx="7162560" cy="1440"/>
                </a:xfrm>
                <a:prstGeom prst="line">
                  <a:avLst/>
                </a:prstGeom>
                <a:ln w="63360">
                  <a:solidFill>
                    <a:srgbClr val="8888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 flipV="1">
                  <a:off x="990720" y="4874760"/>
                  <a:ext cx="7162560" cy="1800"/>
                </a:xfrm>
                <a:prstGeom prst="line">
                  <a:avLst/>
                </a:prstGeom>
                <a:ln w="63360">
                  <a:solidFill>
                    <a:srgbClr val="8888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5" name=""/>
              <p:cNvSpPr/>
              <p:nvPr/>
            </p:nvSpPr>
            <p:spPr>
              <a:xfrm>
                <a:off x="2590920" y="2743200"/>
                <a:ext cx="5181480" cy="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666880" y="3352680"/>
                <a:ext cx="5105520" cy="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600200" y="5486400"/>
                <a:ext cx="6172200" cy="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666880" y="3962520"/>
                <a:ext cx="1905120" cy="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867280" y="3962520"/>
                <a:ext cx="1905120" cy="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2666880" y="4572000"/>
                <a:ext cx="1905120" cy="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031000" y="255276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0066"/>
                    </a:solidFill>
                    <a:latin typeface="Courier New"/>
                  </a:rPr>
                  <a:t>I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031000" y="316224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0066"/>
                    </a:solidFill>
                    <a:latin typeface="Courier New"/>
                  </a:rPr>
                  <a:t>I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7088400" y="378144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0066"/>
                    </a:solidFill>
                    <a:latin typeface="Courier New"/>
                  </a:rPr>
                  <a:t>I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888000" y="377208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0066"/>
                    </a:solidFill>
                    <a:latin typeface="Courier New"/>
                  </a:rPr>
                  <a:t>I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3659400" y="439092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0066"/>
                    </a:solidFill>
                    <a:latin typeface="Courier New"/>
                  </a:rPr>
                  <a:t>I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5335920" y="3790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0066"/>
                    </a:solidFill>
                    <a:latin typeface="Courier New"/>
                  </a:rPr>
                  <a:t>I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135520" y="259092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0066"/>
                    </a:solidFill>
                    <a:latin typeface="Courier New"/>
                  </a:rPr>
                  <a:t>I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135520" y="316224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0066"/>
                    </a:solidFill>
                    <a:latin typeface="Courier New"/>
                  </a:rPr>
                  <a:t>I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135520" y="379404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0066"/>
                    </a:solidFill>
                    <a:latin typeface="Courier New"/>
                  </a:rPr>
                  <a:t>I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135520" y="440388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0066"/>
                    </a:solidFill>
                    <a:latin typeface="Courier New"/>
                  </a:rPr>
                  <a:t>I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V="1">
                <a:off x="3581280" y="5105520"/>
                <a:ext cx="1800" cy="83808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612" name=""/>
            <p:cNvSpPr/>
            <p:nvPr/>
          </p:nvSpPr>
          <p:spPr>
            <a:xfrm>
              <a:off x="1225800" y="2518560"/>
              <a:ext cx="307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597400" y="2518560"/>
              <a:ext cx="307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225800" y="3128040"/>
              <a:ext cx="307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597400" y="3128040"/>
              <a:ext cx="307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225800" y="3737880"/>
              <a:ext cx="307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597400" y="3737880"/>
              <a:ext cx="307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883400" y="3737880"/>
              <a:ext cx="307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874120" y="3737880"/>
              <a:ext cx="307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25800" y="4347360"/>
              <a:ext cx="307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597760" y="4347360"/>
              <a:ext cx="43380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226160" y="4956840"/>
              <a:ext cx="43380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A2FA-D0EF-42BA-BC99-EEEAC3364325}" type="slidenum">
              <a:t>1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565106-EBC5-4E36-88D2-0FE24249304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termine Cell Bound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624" name=""/>
          <p:cNvGraphicFramePr/>
          <p:nvPr/>
        </p:nvGraphicFramePr>
        <p:xfrm>
          <a:off x="838080" y="1733400"/>
          <a:ext cx="7848720" cy="4395960"/>
        </p:xfrm>
        <a:graphic>
          <a:graphicData uri="http://schemas.openxmlformats.org/drawingml/2006/table">
            <a:tbl>
              <a:tblPr/>
              <a:tblGrid>
                <a:gridCol w="2057400"/>
                <a:gridCol w="533520"/>
                <a:gridCol w="533520"/>
                <a:gridCol w="533160"/>
                <a:gridCol w="457200"/>
                <a:gridCol w="533520"/>
                <a:gridCol w="533520"/>
                <a:gridCol w="533160"/>
                <a:gridCol w="533520"/>
                <a:gridCol w="533520"/>
                <a:gridCol w="533160"/>
                <a:gridCol w="533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ridx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ridy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ridWidth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ridHeight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fill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anchor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ipadx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ipady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inset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weightx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weighty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E9B9-7E02-4FBF-8A9E-C89237E3601A}" type="slidenum">
              <a:t>1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2E8215-3474-48A7-8E31-C52404235EC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termine Fill and Ancho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Fill specifies if the component should expand inside its cell group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NONE, HORIZONTAL, VERTICA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nchor specifies where component lives in cell group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NORTH, SOUTH, EAST, WEST, CENTER, NORTHEAST, SOUTHEAST, NORTHWEST, SOUTHWEST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8E43-69F5-4DCC-A406-DA12F46A0EB3}" type="slidenum">
              <a:t>1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9EB879-B727-4820-B4A7-C0B2617C542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termine Fill and Ancho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990720" y="1828800"/>
            <a:ext cx="7162560" cy="4648320"/>
            <a:chOff x="990720" y="1828800"/>
            <a:chExt cx="7162560" cy="4648320"/>
          </a:xfrm>
        </p:grpSpPr>
        <p:grpSp>
          <p:nvGrpSpPr>
            <p:cNvPr id="629" name=""/>
            <p:cNvGrpSpPr/>
            <p:nvPr/>
          </p:nvGrpSpPr>
          <p:grpSpPr>
            <a:xfrm>
              <a:off x="990720" y="1828800"/>
              <a:ext cx="7162560" cy="4648320"/>
              <a:chOff x="990720" y="1828800"/>
              <a:chExt cx="7162560" cy="4648320"/>
            </a:xfrm>
          </p:grpSpPr>
          <p:grpSp>
            <p:nvGrpSpPr>
              <p:cNvPr id="630" name=""/>
              <p:cNvGrpSpPr/>
              <p:nvPr/>
            </p:nvGrpSpPr>
            <p:grpSpPr>
              <a:xfrm>
                <a:off x="990720" y="1828800"/>
                <a:ext cx="7162560" cy="4648320"/>
                <a:chOff x="990720" y="1828800"/>
                <a:chExt cx="7162560" cy="4648320"/>
              </a:xfrm>
            </p:grpSpPr>
            <p:grpSp>
              <p:nvGrpSpPr>
                <p:cNvPr id="631" name=""/>
                <p:cNvGrpSpPr/>
                <p:nvPr/>
              </p:nvGrpSpPr>
              <p:grpSpPr>
                <a:xfrm>
                  <a:off x="1152360" y="2057400"/>
                  <a:ext cx="6837480" cy="4000680"/>
                  <a:chOff x="1152360" y="2057400"/>
                  <a:chExt cx="6837480" cy="4000680"/>
                </a:xfrm>
              </p:grpSpPr>
              <p:pic>
                <p:nvPicPr>
                  <p:cNvPr id="632" name="gridbag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2360" y="2057400"/>
                    <a:ext cx="6837480" cy="4000680"/>
                  </a:xfrm>
                  <a:prstGeom prst="rect">
                    <a:avLst/>
                  </a:prstGeom>
                  <a:ln w="9360">
                    <a:solidFill>
                      <a:srgbClr val="545472"/>
                    </a:solidFill>
                    <a:miter/>
                  </a:ln>
                </p:spPr>
              </p:pic>
              <p:sp>
                <p:nvSpPr>
                  <p:cNvPr id="633" name=""/>
                  <p:cNvSpPr/>
                  <p:nvPr/>
                </p:nvSpPr>
                <p:spPr>
                  <a:xfrm>
                    <a:off x="5638680" y="5410080"/>
                    <a:ext cx="2210040" cy="533520"/>
                  </a:xfrm>
                  <a:prstGeom prst="rect">
                    <a:avLst/>
                  </a:prstGeom>
                  <a:solidFill>
                    <a:srgbClr val="a7ccd9">
                      <a:alpha val="50000"/>
                    </a:srgbClr>
                  </a:solidFill>
                  <a:ln w="9360">
                    <a:solidFill>
                      <a:srgbClr val="54547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34" name=""/>
                <p:cNvSpPr/>
                <p:nvPr/>
              </p:nvSpPr>
              <p:spPr>
                <a:xfrm>
                  <a:off x="2514600" y="1828800"/>
                  <a:ext cx="0" cy="4648320"/>
                </a:xfrm>
                <a:prstGeom prst="line">
                  <a:avLst/>
                </a:prstGeom>
                <a:ln w="63360">
                  <a:solidFill>
                    <a:srgbClr val="8888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4724280" y="1828800"/>
                  <a:ext cx="0" cy="4648320"/>
                </a:xfrm>
                <a:prstGeom prst="line">
                  <a:avLst/>
                </a:prstGeom>
                <a:ln w="63360">
                  <a:solidFill>
                    <a:srgbClr val="8888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5715000" y="1828800"/>
                  <a:ext cx="0" cy="4648320"/>
                </a:xfrm>
                <a:prstGeom prst="line">
                  <a:avLst/>
                </a:prstGeom>
                <a:ln w="63360">
                  <a:solidFill>
                    <a:srgbClr val="8888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 flipV="1">
                  <a:off x="990720" y="3048120"/>
                  <a:ext cx="7162560" cy="1440"/>
                </a:xfrm>
                <a:prstGeom prst="line">
                  <a:avLst/>
                </a:prstGeom>
                <a:ln w="63360">
                  <a:solidFill>
                    <a:srgbClr val="8888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 flipV="1">
                  <a:off x="990720" y="3656160"/>
                  <a:ext cx="7162560" cy="1440"/>
                </a:xfrm>
                <a:prstGeom prst="line">
                  <a:avLst/>
                </a:prstGeom>
                <a:ln w="63360">
                  <a:solidFill>
                    <a:srgbClr val="8888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 flipV="1">
                  <a:off x="990720" y="4265640"/>
                  <a:ext cx="7162560" cy="1440"/>
                </a:xfrm>
                <a:prstGeom prst="line">
                  <a:avLst/>
                </a:prstGeom>
                <a:ln w="63360">
                  <a:solidFill>
                    <a:srgbClr val="8888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 flipV="1">
                  <a:off x="990720" y="4874760"/>
                  <a:ext cx="7162560" cy="1800"/>
                </a:xfrm>
                <a:prstGeom prst="line">
                  <a:avLst/>
                </a:prstGeom>
                <a:ln w="63360">
                  <a:solidFill>
                    <a:srgbClr val="8888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1" name=""/>
              <p:cNvSpPr/>
              <p:nvPr/>
            </p:nvSpPr>
            <p:spPr>
              <a:xfrm>
                <a:off x="2590920" y="2743200"/>
                <a:ext cx="5181480" cy="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666880" y="3352680"/>
                <a:ext cx="5105520" cy="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600200" y="5486400"/>
                <a:ext cx="6172200" cy="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2666880" y="3962520"/>
                <a:ext cx="1905120" cy="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5867280" y="3962520"/>
                <a:ext cx="1905120" cy="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2666880" y="4572000"/>
                <a:ext cx="1905120" cy="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5031000" y="255276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0066"/>
                    </a:solidFill>
                    <a:latin typeface="Courier New"/>
                  </a:rPr>
                  <a:t>I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031000" y="316224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0066"/>
                    </a:solidFill>
                    <a:latin typeface="Courier New"/>
                  </a:rPr>
                  <a:t>I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7088400" y="378144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0066"/>
                    </a:solidFill>
                    <a:latin typeface="Courier New"/>
                  </a:rPr>
                  <a:t>I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888000" y="377208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0066"/>
                    </a:solidFill>
                    <a:latin typeface="Courier New"/>
                  </a:rPr>
                  <a:t>I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659400" y="439092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0066"/>
                    </a:solidFill>
                    <a:latin typeface="Courier New"/>
                  </a:rPr>
                  <a:t>I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335920" y="3790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0066"/>
                    </a:solidFill>
                    <a:latin typeface="Courier New"/>
                  </a:rPr>
                  <a:t>I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2135520" y="259092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0066"/>
                    </a:solidFill>
                    <a:latin typeface="Courier New"/>
                  </a:rPr>
                  <a:t>I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135520" y="316224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0066"/>
                    </a:solidFill>
                    <a:latin typeface="Courier New"/>
                  </a:rPr>
                  <a:t>I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2135520" y="379404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0066"/>
                    </a:solidFill>
                    <a:latin typeface="Courier New"/>
                  </a:rPr>
                  <a:t>I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135520" y="440388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0066"/>
                    </a:solidFill>
                    <a:latin typeface="Courier New"/>
                  </a:rPr>
                  <a:t>I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flipV="1">
                <a:off x="3581280" y="5105520"/>
                <a:ext cx="1800" cy="83808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658" name=""/>
            <p:cNvSpPr/>
            <p:nvPr/>
          </p:nvSpPr>
          <p:spPr>
            <a:xfrm>
              <a:off x="1225800" y="2518560"/>
              <a:ext cx="307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597400" y="2518560"/>
              <a:ext cx="307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225800" y="3128040"/>
              <a:ext cx="307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597400" y="3128040"/>
              <a:ext cx="307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225800" y="3737880"/>
              <a:ext cx="307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597400" y="3737880"/>
              <a:ext cx="307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883400" y="3737880"/>
              <a:ext cx="307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874120" y="3737880"/>
              <a:ext cx="307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225800" y="4347360"/>
              <a:ext cx="307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597760" y="4347360"/>
              <a:ext cx="43380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226160" y="4956840"/>
              <a:ext cx="43380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E605-954E-4283-949C-7D698F8E4732}" type="slidenum">
              <a:t>1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A1A082-F7FF-42E2-B3BA-E4EBB4CF07A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termine Fill and Ancho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670" name=""/>
          <p:cNvGraphicFramePr/>
          <p:nvPr/>
        </p:nvGraphicFramePr>
        <p:xfrm>
          <a:off x="838080" y="1733400"/>
          <a:ext cx="7848720" cy="4395960"/>
        </p:xfrm>
        <a:graphic>
          <a:graphicData uri="http://schemas.openxmlformats.org/drawingml/2006/table">
            <a:tbl>
              <a:tblPr/>
              <a:tblGrid>
                <a:gridCol w="2057400"/>
                <a:gridCol w="533520"/>
                <a:gridCol w="533520"/>
                <a:gridCol w="533160"/>
                <a:gridCol w="457200"/>
                <a:gridCol w="533520"/>
                <a:gridCol w="533520"/>
                <a:gridCol w="533160"/>
                <a:gridCol w="533520"/>
                <a:gridCol w="457200"/>
                <a:gridCol w="533520"/>
                <a:gridCol w="609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ridx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ridy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ridWidth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ridHeight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fill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N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N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N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N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N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N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anchor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W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W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W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W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W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S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ipadx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ipady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inset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weightx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weighty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0D3F-9CFE-41DD-98AA-707A3348FA0B}" type="slidenum">
              <a:t>1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A73F8D-7302-456D-9292-18BB4974A5E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t Spac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ipadx, ipady specify additional “preferred size” for the componen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omponent starts out that much bigger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insets reserves space (top, left, bottom, right) inside cell group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17D4-5078-4A8B-9360-AB7649874A4E}" type="slidenum">
              <a:t>1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4EEE5F-23AD-4B8D-B75C-611FB70A020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t Spac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990720" y="1828800"/>
            <a:ext cx="7162560" cy="4648320"/>
            <a:chOff x="990720" y="1828800"/>
            <a:chExt cx="7162560" cy="4648320"/>
          </a:xfrm>
        </p:grpSpPr>
        <p:grpSp>
          <p:nvGrpSpPr>
            <p:cNvPr id="675" name=""/>
            <p:cNvGrpSpPr/>
            <p:nvPr/>
          </p:nvGrpSpPr>
          <p:grpSpPr>
            <a:xfrm>
              <a:off x="990720" y="1828800"/>
              <a:ext cx="7162560" cy="4648320"/>
              <a:chOff x="990720" y="1828800"/>
              <a:chExt cx="7162560" cy="4648320"/>
            </a:xfrm>
          </p:grpSpPr>
          <p:grpSp>
            <p:nvGrpSpPr>
              <p:cNvPr id="676" name=""/>
              <p:cNvGrpSpPr/>
              <p:nvPr/>
            </p:nvGrpSpPr>
            <p:grpSpPr>
              <a:xfrm>
                <a:off x="990720" y="1828800"/>
                <a:ext cx="7162560" cy="4648320"/>
                <a:chOff x="990720" y="1828800"/>
                <a:chExt cx="7162560" cy="4648320"/>
              </a:xfrm>
            </p:grpSpPr>
            <p:grpSp>
              <p:nvGrpSpPr>
                <p:cNvPr id="677" name=""/>
                <p:cNvGrpSpPr/>
                <p:nvPr/>
              </p:nvGrpSpPr>
              <p:grpSpPr>
                <a:xfrm>
                  <a:off x="1152360" y="2057400"/>
                  <a:ext cx="6837480" cy="4000680"/>
                  <a:chOff x="1152360" y="2057400"/>
                  <a:chExt cx="6837480" cy="4000680"/>
                </a:xfrm>
              </p:grpSpPr>
              <p:pic>
                <p:nvPicPr>
                  <p:cNvPr id="678" name="gridbag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2360" y="2057400"/>
                    <a:ext cx="6837480" cy="4000680"/>
                  </a:xfrm>
                  <a:prstGeom prst="rect">
                    <a:avLst/>
                  </a:prstGeom>
                  <a:ln w="9360">
                    <a:solidFill>
                      <a:srgbClr val="545472"/>
                    </a:solidFill>
                    <a:miter/>
                  </a:ln>
                </p:spPr>
              </p:pic>
              <p:sp>
                <p:nvSpPr>
                  <p:cNvPr id="679" name=""/>
                  <p:cNvSpPr/>
                  <p:nvPr/>
                </p:nvSpPr>
                <p:spPr>
                  <a:xfrm>
                    <a:off x="5638680" y="5410080"/>
                    <a:ext cx="2210040" cy="533520"/>
                  </a:xfrm>
                  <a:prstGeom prst="rect">
                    <a:avLst/>
                  </a:prstGeom>
                  <a:solidFill>
                    <a:srgbClr val="a7ccd9">
                      <a:alpha val="50000"/>
                    </a:srgbClr>
                  </a:solidFill>
                  <a:ln w="9360">
                    <a:solidFill>
                      <a:srgbClr val="54547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80" name=""/>
                <p:cNvSpPr/>
                <p:nvPr/>
              </p:nvSpPr>
              <p:spPr>
                <a:xfrm>
                  <a:off x="2514600" y="1828800"/>
                  <a:ext cx="0" cy="4648320"/>
                </a:xfrm>
                <a:prstGeom prst="line">
                  <a:avLst/>
                </a:prstGeom>
                <a:ln w="63360">
                  <a:solidFill>
                    <a:srgbClr val="8888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4724280" y="1828800"/>
                  <a:ext cx="0" cy="4648320"/>
                </a:xfrm>
                <a:prstGeom prst="line">
                  <a:avLst/>
                </a:prstGeom>
                <a:ln w="63360">
                  <a:solidFill>
                    <a:srgbClr val="8888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5715000" y="1828800"/>
                  <a:ext cx="0" cy="4648320"/>
                </a:xfrm>
                <a:prstGeom prst="line">
                  <a:avLst/>
                </a:prstGeom>
                <a:ln w="63360">
                  <a:solidFill>
                    <a:srgbClr val="8888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 flipV="1">
                  <a:off x="990720" y="3048120"/>
                  <a:ext cx="7162560" cy="1440"/>
                </a:xfrm>
                <a:prstGeom prst="line">
                  <a:avLst/>
                </a:prstGeom>
                <a:ln w="63360">
                  <a:solidFill>
                    <a:srgbClr val="8888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 flipV="1">
                  <a:off x="990720" y="3656160"/>
                  <a:ext cx="7162560" cy="1440"/>
                </a:xfrm>
                <a:prstGeom prst="line">
                  <a:avLst/>
                </a:prstGeom>
                <a:ln w="63360">
                  <a:solidFill>
                    <a:srgbClr val="8888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 flipV="1">
                  <a:off x="990720" y="4265640"/>
                  <a:ext cx="7162560" cy="1440"/>
                </a:xfrm>
                <a:prstGeom prst="line">
                  <a:avLst/>
                </a:prstGeom>
                <a:ln w="63360">
                  <a:solidFill>
                    <a:srgbClr val="8888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 flipV="1">
                  <a:off x="990720" y="4874760"/>
                  <a:ext cx="7162560" cy="1800"/>
                </a:xfrm>
                <a:prstGeom prst="line">
                  <a:avLst/>
                </a:prstGeom>
                <a:ln w="63360">
                  <a:solidFill>
                    <a:srgbClr val="8888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7" name=""/>
              <p:cNvSpPr/>
              <p:nvPr/>
            </p:nvSpPr>
            <p:spPr>
              <a:xfrm>
                <a:off x="2590920" y="2743200"/>
                <a:ext cx="5181480" cy="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666880" y="3352680"/>
                <a:ext cx="5105520" cy="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600200" y="5486400"/>
                <a:ext cx="6172200" cy="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666880" y="3962520"/>
                <a:ext cx="1905120" cy="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867280" y="3962520"/>
                <a:ext cx="1905120" cy="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2666880" y="4572000"/>
                <a:ext cx="1905120" cy="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031000" y="255276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0066"/>
                    </a:solidFill>
                    <a:latin typeface="Courier New"/>
                  </a:rPr>
                  <a:t>I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031000" y="316224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0066"/>
                    </a:solidFill>
                    <a:latin typeface="Courier New"/>
                  </a:rPr>
                  <a:t>I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7088400" y="378144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0066"/>
                    </a:solidFill>
                    <a:latin typeface="Courier New"/>
                  </a:rPr>
                  <a:t>I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888000" y="377208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0066"/>
                    </a:solidFill>
                    <a:latin typeface="Courier New"/>
                  </a:rPr>
                  <a:t>I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3659400" y="439092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0066"/>
                    </a:solidFill>
                    <a:latin typeface="Courier New"/>
                  </a:rPr>
                  <a:t>I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335920" y="3790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0066"/>
                    </a:solidFill>
                    <a:latin typeface="Courier New"/>
                  </a:rPr>
                  <a:t>I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135520" y="259092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0066"/>
                    </a:solidFill>
                    <a:latin typeface="Courier New"/>
                  </a:rPr>
                  <a:t>I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2135520" y="316224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0066"/>
                    </a:solidFill>
                    <a:latin typeface="Courier New"/>
                  </a:rPr>
                  <a:t>I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2135520" y="379404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0066"/>
                    </a:solidFill>
                    <a:latin typeface="Courier New"/>
                  </a:rPr>
                  <a:t>I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2135520" y="440388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0066"/>
                    </a:solidFill>
                    <a:latin typeface="Courier New"/>
                  </a:rPr>
                  <a:t>I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V="1">
                <a:off x="3581280" y="5105520"/>
                <a:ext cx="1800" cy="83808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704" name=""/>
            <p:cNvSpPr/>
            <p:nvPr/>
          </p:nvSpPr>
          <p:spPr>
            <a:xfrm>
              <a:off x="1225800" y="2518560"/>
              <a:ext cx="307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597400" y="2518560"/>
              <a:ext cx="307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25800" y="3128040"/>
              <a:ext cx="307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597400" y="3128040"/>
              <a:ext cx="307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25800" y="3737880"/>
              <a:ext cx="307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597400" y="3737880"/>
              <a:ext cx="307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883400" y="3737880"/>
              <a:ext cx="307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874120" y="3737880"/>
              <a:ext cx="307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225800" y="4347360"/>
              <a:ext cx="307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597760" y="4347360"/>
              <a:ext cx="43380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226160" y="4956840"/>
              <a:ext cx="43380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495F-DFA0-4321-8E13-B2A963518EC9}" type="slidenum">
              <a:t>1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7CDF33-213D-4FB4-8004-495DD38CD01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t Spac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716" name=""/>
          <p:cNvGraphicFramePr/>
          <p:nvPr/>
        </p:nvGraphicFramePr>
        <p:xfrm>
          <a:off x="838080" y="1733400"/>
          <a:ext cx="7848720" cy="4395960"/>
        </p:xfrm>
        <a:graphic>
          <a:graphicData uri="http://schemas.openxmlformats.org/drawingml/2006/table">
            <a:tbl>
              <a:tblPr/>
              <a:tblGrid>
                <a:gridCol w="2057400"/>
                <a:gridCol w="533520"/>
                <a:gridCol w="533520"/>
                <a:gridCol w="533160"/>
                <a:gridCol w="457200"/>
                <a:gridCol w="533520"/>
                <a:gridCol w="533520"/>
                <a:gridCol w="533160"/>
                <a:gridCol w="533520"/>
                <a:gridCol w="457200"/>
                <a:gridCol w="533520"/>
                <a:gridCol w="609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ridx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ridy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ridWidth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ridHeight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fill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N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N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N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N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N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N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anchor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W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W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W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W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W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S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ipadx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ipady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inset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weightx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weighty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ADAF-5AF1-4CFD-BB61-9CE55CB7C3F8}" type="slidenum">
              <a:t>1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EFB58C-F42D-49FE-8847-34667B23ADE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termine Weigh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weightx, weighty specify how additional space (over preferredSize) should be allocated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Ratio of all components spanning a row or column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an be any number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C372-5E72-4431-81AC-D3A1D7A94E48}" type="slidenum">
              <a:t>1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81D65B-419E-4BCC-A1FD-64E6F008DB8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termine Weigh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990720" y="1828800"/>
            <a:ext cx="7162560" cy="4648320"/>
            <a:chOff x="990720" y="1828800"/>
            <a:chExt cx="7162560" cy="4648320"/>
          </a:xfrm>
        </p:grpSpPr>
        <p:grpSp>
          <p:nvGrpSpPr>
            <p:cNvPr id="721" name=""/>
            <p:cNvGrpSpPr/>
            <p:nvPr/>
          </p:nvGrpSpPr>
          <p:grpSpPr>
            <a:xfrm>
              <a:off x="990720" y="1828800"/>
              <a:ext cx="7162560" cy="4648320"/>
              <a:chOff x="990720" y="1828800"/>
              <a:chExt cx="7162560" cy="4648320"/>
            </a:xfrm>
          </p:grpSpPr>
          <p:grpSp>
            <p:nvGrpSpPr>
              <p:cNvPr id="722" name=""/>
              <p:cNvGrpSpPr/>
              <p:nvPr/>
            </p:nvGrpSpPr>
            <p:grpSpPr>
              <a:xfrm>
                <a:off x="990720" y="1828800"/>
                <a:ext cx="7162560" cy="4648320"/>
                <a:chOff x="990720" y="1828800"/>
                <a:chExt cx="7162560" cy="4648320"/>
              </a:xfrm>
            </p:grpSpPr>
            <p:grpSp>
              <p:nvGrpSpPr>
                <p:cNvPr id="723" name=""/>
                <p:cNvGrpSpPr/>
                <p:nvPr/>
              </p:nvGrpSpPr>
              <p:grpSpPr>
                <a:xfrm>
                  <a:off x="1152360" y="2057400"/>
                  <a:ext cx="6837480" cy="4000680"/>
                  <a:chOff x="1152360" y="2057400"/>
                  <a:chExt cx="6837480" cy="4000680"/>
                </a:xfrm>
              </p:grpSpPr>
              <p:pic>
                <p:nvPicPr>
                  <p:cNvPr id="724" name="gridbag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2360" y="2057400"/>
                    <a:ext cx="6837480" cy="4000680"/>
                  </a:xfrm>
                  <a:prstGeom prst="rect">
                    <a:avLst/>
                  </a:prstGeom>
                  <a:ln w="9360">
                    <a:solidFill>
                      <a:srgbClr val="545472"/>
                    </a:solidFill>
                    <a:miter/>
                  </a:ln>
                </p:spPr>
              </p:pic>
              <p:sp>
                <p:nvSpPr>
                  <p:cNvPr id="725" name=""/>
                  <p:cNvSpPr/>
                  <p:nvPr/>
                </p:nvSpPr>
                <p:spPr>
                  <a:xfrm>
                    <a:off x="5638680" y="5410080"/>
                    <a:ext cx="2210040" cy="533520"/>
                  </a:xfrm>
                  <a:prstGeom prst="rect">
                    <a:avLst/>
                  </a:prstGeom>
                  <a:solidFill>
                    <a:srgbClr val="a7ccd9">
                      <a:alpha val="50000"/>
                    </a:srgbClr>
                  </a:solidFill>
                  <a:ln w="9360">
                    <a:solidFill>
                      <a:srgbClr val="54547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26" name=""/>
                <p:cNvSpPr/>
                <p:nvPr/>
              </p:nvSpPr>
              <p:spPr>
                <a:xfrm>
                  <a:off x="2514600" y="1828800"/>
                  <a:ext cx="0" cy="4648320"/>
                </a:xfrm>
                <a:prstGeom prst="line">
                  <a:avLst/>
                </a:prstGeom>
                <a:ln w="63360">
                  <a:solidFill>
                    <a:srgbClr val="8888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4724280" y="1828800"/>
                  <a:ext cx="0" cy="4648320"/>
                </a:xfrm>
                <a:prstGeom prst="line">
                  <a:avLst/>
                </a:prstGeom>
                <a:ln w="63360">
                  <a:solidFill>
                    <a:srgbClr val="8888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5715000" y="1828800"/>
                  <a:ext cx="0" cy="4648320"/>
                </a:xfrm>
                <a:prstGeom prst="line">
                  <a:avLst/>
                </a:prstGeom>
                <a:ln w="63360">
                  <a:solidFill>
                    <a:srgbClr val="8888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 flipV="1">
                  <a:off x="990720" y="3048120"/>
                  <a:ext cx="7162560" cy="1440"/>
                </a:xfrm>
                <a:prstGeom prst="line">
                  <a:avLst/>
                </a:prstGeom>
                <a:ln w="63360">
                  <a:solidFill>
                    <a:srgbClr val="8888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 flipV="1">
                  <a:off x="990720" y="3656160"/>
                  <a:ext cx="7162560" cy="1440"/>
                </a:xfrm>
                <a:prstGeom prst="line">
                  <a:avLst/>
                </a:prstGeom>
                <a:ln w="63360">
                  <a:solidFill>
                    <a:srgbClr val="8888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 flipV="1">
                  <a:off x="990720" y="4265640"/>
                  <a:ext cx="7162560" cy="1440"/>
                </a:xfrm>
                <a:prstGeom prst="line">
                  <a:avLst/>
                </a:prstGeom>
                <a:ln w="63360">
                  <a:solidFill>
                    <a:srgbClr val="8888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 flipV="1">
                  <a:off x="990720" y="4874760"/>
                  <a:ext cx="7162560" cy="1800"/>
                </a:xfrm>
                <a:prstGeom prst="line">
                  <a:avLst/>
                </a:prstGeom>
                <a:ln w="63360">
                  <a:solidFill>
                    <a:srgbClr val="8888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3" name=""/>
              <p:cNvSpPr/>
              <p:nvPr/>
            </p:nvSpPr>
            <p:spPr>
              <a:xfrm>
                <a:off x="2590920" y="2743200"/>
                <a:ext cx="5181480" cy="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2666880" y="3352680"/>
                <a:ext cx="5105520" cy="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1600200" y="5486400"/>
                <a:ext cx="6172200" cy="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2666880" y="3962520"/>
                <a:ext cx="1905120" cy="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867280" y="3962520"/>
                <a:ext cx="1905120" cy="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2666880" y="4572000"/>
                <a:ext cx="1905120" cy="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031000" y="255276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0066"/>
                    </a:solidFill>
                    <a:latin typeface="Courier New"/>
                  </a:rPr>
                  <a:t>I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031000" y="316224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0066"/>
                    </a:solidFill>
                    <a:latin typeface="Courier New"/>
                  </a:rPr>
                  <a:t>I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088400" y="378144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0066"/>
                    </a:solidFill>
                    <a:latin typeface="Courier New"/>
                  </a:rPr>
                  <a:t>I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3888000" y="377208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0066"/>
                    </a:solidFill>
                    <a:latin typeface="Courier New"/>
                  </a:rPr>
                  <a:t>I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3659400" y="439092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0066"/>
                    </a:solidFill>
                    <a:latin typeface="Courier New"/>
                  </a:rPr>
                  <a:t>I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335920" y="3790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0066"/>
                    </a:solidFill>
                    <a:latin typeface="Courier New"/>
                  </a:rPr>
                  <a:t>I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2135520" y="259092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0066"/>
                    </a:solidFill>
                    <a:latin typeface="Courier New"/>
                  </a:rPr>
                  <a:t>I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2135520" y="316224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0066"/>
                    </a:solidFill>
                    <a:latin typeface="Courier New"/>
                  </a:rPr>
                  <a:t>I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2135520" y="379404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0066"/>
                    </a:solidFill>
                    <a:latin typeface="Courier New"/>
                  </a:rPr>
                  <a:t>I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135520" y="440388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0066"/>
                    </a:solidFill>
                    <a:latin typeface="Courier New"/>
                  </a:rPr>
                  <a:t>I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V="1">
                <a:off x="3581280" y="5105520"/>
                <a:ext cx="1800" cy="83808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750" name=""/>
            <p:cNvSpPr/>
            <p:nvPr/>
          </p:nvSpPr>
          <p:spPr>
            <a:xfrm>
              <a:off x="1225800" y="2518560"/>
              <a:ext cx="307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597400" y="2518560"/>
              <a:ext cx="307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225800" y="3128040"/>
              <a:ext cx="307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597400" y="3128040"/>
              <a:ext cx="307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225800" y="3737880"/>
              <a:ext cx="307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597400" y="3737880"/>
              <a:ext cx="307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883400" y="3737880"/>
              <a:ext cx="307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874120" y="3737880"/>
              <a:ext cx="307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225800" y="4347360"/>
              <a:ext cx="307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597760" y="4347360"/>
              <a:ext cx="43380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226160" y="4956840"/>
              <a:ext cx="43380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8E89-320F-412F-B00A-8A71D0E3BD76}" type="slidenum">
              <a:t>1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6DFCA1-BDE6-472A-9E48-760092CDD21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UI Sin #2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ssuming Look and Fe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Looks good on </a:t>
            </a:r>
            <a:r>
              <a:rPr b="0" lang="en-US" sz="3200" spc="-1" strike="noStrike">
                <a:solidFill>
                  <a:srgbClr val="8888ae"/>
                </a:solidFill>
                <a:latin typeface="Tahoma"/>
              </a:rPr>
              <a:t>my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machine…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I assume Windows L&amp;F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69" name="sin2a" descr=""/>
          <p:cNvPicPr/>
          <p:nvPr/>
        </p:nvPicPr>
        <p:blipFill>
          <a:blip r:embed="rId4"/>
          <a:stretch/>
        </p:blipFill>
        <p:spPr>
          <a:xfrm>
            <a:off x="2679840" y="2773440"/>
            <a:ext cx="3784320" cy="2636640"/>
          </a:xfrm>
          <a:prstGeom prst="rect">
            <a:avLst/>
          </a:prstGeom>
          <a:ln w="9360">
            <a:solidFill>
              <a:srgbClr val="545472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F232-8C6E-4EE1-B694-AD8742205A2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03C65F-B5C1-4641-B670-408ABBF8B22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termine Weigh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762" name=""/>
          <p:cNvGraphicFramePr/>
          <p:nvPr/>
        </p:nvGraphicFramePr>
        <p:xfrm>
          <a:off x="838080" y="1733400"/>
          <a:ext cx="7848720" cy="4395960"/>
        </p:xfrm>
        <a:graphic>
          <a:graphicData uri="http://schemas.openxmlformats.org/drawingml/2006/table">
            <a:tbl>
              <a:tblPr/>
              <a:tblGrid>
                <a:gridCol w="2057400"/>
                <a:gridCol w="533520"/>
                <a:gridCol w="533520"/>
                <a:gridCol w="533160"/>
                <a:gridCol w="457200"/>
                <a:gridCol w="533520"/>
                <a:gridCol w="533520"/>
                <a:gridCol w="533160"/>
                <a:gridCol w="533520"/>
                <a:gridCol w="457200"/>
                <a:gridCol w="533520"/>
                <a:gridCol w="609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ridx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ridy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ridWidth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ridHeight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fill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N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N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N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N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N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N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anchor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W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W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W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W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W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S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ipadx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ipady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inset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weightx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weighty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1F77-87C4-48C7-9BB3-CA9A64FEAD41}" type="slidenum">
              <a:t>1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EEE949-4CDF-4FA9-B77E-8F76427A755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ample GridBag Co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GridBagConstraints gbc </a:t>
            </a: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=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7c7df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GridBagConstraints();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gbc</a:t>
            </a: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.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gridx </a:t>
            </a: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=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gbc</a:t>
            </a: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.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gridy = </a:t>
            </a: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gbc</a:t>
            </a: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.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gridwidth  </a:t>
            </a: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=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3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gbc</a:t>
            </a: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.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gridheight </a:t>
            </a: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=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gbc</a:t>
            </a: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.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anchor </a:t>
            </a: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=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GridBagConstraints</a:t>
            </a: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.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CENTER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gbc</a:t>
            </a: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.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fill   </a:t>
            </a: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=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GridBagConstraints</a:t>
            </a: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.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HORIZONTAL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gbc</a:t>
            </a: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.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ipadx  </a:t>
            </a: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=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gbc</a:t>
            </a: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.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ipady </a:t>
            </a: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= 0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gbc</a:t>
            </a: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.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insets </a:t>
            </a: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=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c7c7df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Insets(</a:t>
            </a: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0,0,0,0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)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gbc</a:t>
            </a: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.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weightx </a:t>
            </a: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=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gbc</a:t>
            </a: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.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weighty </a:t>
            </a: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=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0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;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Panel p </a:t>
            </a: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=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new Panel(</a:t>
            </a:r>
            <a:r>
              <a:rPr b="1" lang="en-US" sz="1800" spc="-1" strike="noStrike">
                <a:solidFill>
                  <a:srgbClr val="c7c7df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GridBagLayout())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p</a:t>
            </a: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.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add(</a:t>
            </a:r>
            <a:r>
              <a:rPr b="1" lang="en-US" sz="1800" spc="-1" strike="noStrike">
                <a:solidFill>
                  <a:srgbClr val="c7c7df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TextField(), gbc); </a:t>
            </a:r>
            <a:r>
              <a:rPr b="1" lang="en-US" sz="1800" spc="-1" strike="noStrike">
                <a:solidFill>
                  <a:srgbClr val="660066"/>
                </a:solidFill>
                <a:latin typeface="Courier New"/>
              </a:rPr>
              <a:t>// that’s </a:t>
            </a:r>
            <a:r>
              <a:rPr b="1" i="1" lang="en-US" sz="1800" spc="-1" strike="noStrike">
                <a:solidFill>
                  <a:srgbClr val="660066"/>
                </a:solidFill>
                <a:latin typeface="Courier New"/>
              </a:rPr>
              <a:t>one</a:t>
            </a:r>
            <a:r>
              <a:rPr b="1" lang="en-US" sz="1800" spc="-1" strike="noStrike">
                <a:solidFill>
                  <a:srgbClr val="660066"/>
                </a:solidFill>
                <a:latin typeface="Courier New"/>
              </a:rPr>
              <a:t>!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0879-3FEC-44A4-8686-1F3D5125E558}" type="slidenum">
              <a:t>1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A2523B-9338-41FF-B89D-A2DCA51140A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ample Layout Desig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766" name="ftp1" descr=""/>
          <p:cNvPicPr/>
          <p:nvPr/>
        </p:nvPicPr>
        <p:blipFill>
          <a:blip r:embed="rId2"/>
          <a:stretch/>
        </p:blipFill>
        <p:spPr>
          <a:xfrm>
            <a:off x="2165400" y="1893960"/>
            <a:ext cx="4692600" cy="4278240"/>
          </a:xfrm>
          <a:prstGeom prst="rect">
            <a:avLst/>
          </a:prstGeom>
          <a:ln w="9360">
            <a:solidFill>
              <a:srgbClr val="545472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782C-3426-4827-B6AB-A3955C1323DB}" type="slidenum">
              <a:t>13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3FE40A-E2D1-489E-AFC3-6CA05F992C8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atch for Commonality!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768" name="ftp1" descr=""/>
          <p:cNvPicPr/>
          <p:nvPr/>
        </p:nvPicPr>
        <p:blipFill>
          <a:blip r:embed="rId2"/>
          <a:stretch/>
        </p:blipFill>
        <p:spPr>
          <a:xfrm>
            <a:off x="2122560" y="1893960"/>
            <a:ext cx="4692600" cy="4278240"/>
          </a:xfrm>
          <a:prstGeom prst="rect">
            <a:avLst/>
          </a:prstGeom>
          <a:ln w="9360">
            <a:solidFill>
              <a:srgbClr val="545472"/>
            </a:solidFill>
            <a:miter/>
          </a:ln>
        </p:spPr>
      </p:pic>
      <p:sp>
        <p:nvSpPr>
          <p:cNvPr id="769" name=""/>
          <p:cNvSpPr/>
          <p:nvPr/>
        </p:nvSpPr>
        <p:spPr>
          <a:xfrm>
            <a:off x="2090880" y="2122560"/>
            <a:ext cx="2243160" cy="3135240"/>
          </a:xfrm>
          <a:prstGeom prst="rect">
            <a:avLst/>
          </a:prstGeom>
          <a:solidFill>
            <a:srgbClr val="660066">
              <a:alpha val="50000"/>
            </a:srgbClr>
          </a:solidFill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572000" y="2133720"/>
            <a:ext cx="2176560" cy="3124080"/>
          </a:xfrm>
          <a:prstGeom prst="rect">
            <a:avLst/>
          </a:prstGeom>
          <a:solidFill>
            <a:srgbClr val="660066">
              <a:alpha val="50000"/>
            </a:srgbClr>
          </a:solidFill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6E3B-129B-4966-9BAA-66B96E40EBB4}" type="slidenum">
              <a:t>13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1D4F10-1B33-482C-A568-5523DE54DEF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FileDispla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10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Annotate the drawing with resize info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en examine the edges…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grpSp>
        <p:nvGrpSpPr>
          <p:cNvPr id="773" name=""/>
          <p:cNvGrpSpPr/>
          <p:nvPr/>
        </p:nvGrpSpPr>
        <p:grpSpPr>
          <a:xfrm>
            <a:off x="6324480" y="2562120"/>
            <a:ext cx="2038320" cy="3024360"/>
            <a:chOff x="6324480" y="2562120"/>
            <a:chExt cx="2038320" cy="3024360"/>
          </a:xfrm>
        </p:grpSpPr>
        <p:pic>
          <p:nvPicPr>
            <p:cNvPr id="774" name="ftp2" descr=""/>
            <p:cNvPicPr/>
            <p:nvPr/>
          </p:nvPicPr>
          <p:blipFill>
            <a:blip r:embed="rId4"/>
            <a:stretch/>
          </p:blipFill>
          <p:spPr>
            <a:xfrm>
              <a:off x="6324480" y="2643120"/>
              <a:ext cx="2038320" cy="2943360"/>
            </a:xfrm>
            <a:prstGeom prst="rect">
              <a:avLst/>
            </a:prstGeom>
            <a:ln w="9360">
              <a:solidFill>
                <a:srgbClr val="545472"/>
              </a:solidFill>
              <a:miter/>
            </a:ln>
          </p:spPr>
        </p:pic>
        <p:sp>
          <p:nvSpPr>
            <p:cNvPr id="775" name=""/>
            <p:cNvSpPr/>
            <p:nvPr/>
          </p:nvSpPr>
          <p:spPr>
            <a:xfrm>
              <a:off x="7315200" y="2743200"/>
              <a:ext cx="91440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934320" y="2971800"/>
              <a:ext cx="91440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705720" y="4114800"/>
              <a:ext cx="91440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7162920" y="3581280"/>
              <a:ext cx="0" cy="106704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8048520" y="5086440"/>
              <a:ext cx="0" cy="45720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002800" y="30002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8002800" y="32004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8002800" y="34290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8002800" y="36576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8002800" y="3878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8002800" y="41148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8002800" y="43275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8002800" y="45147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8002800" y="47433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621920" y="25621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202520" y="27939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rot="16200000">
              <a:off x="7900560" y="5102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693B-75BA-4D11-9145-3B6B0B24F4D2}" type="slidenum">
              <a:t>1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C093E4-1E40-4DDB-B8B7-E4B3C2C8EB9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"/>
          <p:cNvGrpSpPr/>
          <p:nvPr/>
        </p:nvGrpSpPr>
        <p:grpSpPr>
          <a:xfrm>
            <a:off x="6324480" y="2562120"/>
            <a:ext cx="2038320" cy="3024360"/>
            <a:chOff x="6324480" y="2562120"/>
            <a:chExt cx="2038320" cy="3024360"/>
          </a:xfrm>
        </p:grpSpPr>
        <p:pic>
          <p:nvPicPr>
            <p:cNvPr id="793" name="ftp2" descr=""/>
            <p:cNvPicPr/>
            <p:nvPr/>
          </p:nvPicPr>
          <p:blipFill>
            <a:blip r:embed="rId2"/>
            <a:stretch/>
          </p:blipFill>
          <p:spPr>
            <a:xfrm>
              <a:off x="6324480" y="2643120"/>
              <a:ext cx="2038320" cy="2943360"/>
            </a:xfrm>
            <a:prstGeom prst="rect">
              <a:avLst/>
            </a:prstGeom>
            <a:ln w="9360">
              <a:solidFill>
                <a:srgbClr val="545472"/>
              </a:solidFill>
              <a:miter/>
            </a:ln>
          </p:spPr>
        </p:pic>
        <p:sp>
          <p:nvSpPr>
            <p:cNvPr id="794" name=""/>
            <p:cNvSpPr/>
            <p:nvPr/>
          </p:nvSpPr>
          <p:spPr>
            <a:xfrm>
              <a:off x="7315200" y="2743200"/>
              <a:ext cx="91440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934320" y="2971800"/>
              <a:ext cx="91440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705720" y="4114800"/>
              <a:ext cx="91440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V="1">
              <a:off x="7162920" y="3581280"/>
              <a:ext cx="0" cy="106704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>
              <a:off x="8048520" y="5086440"/>
              <a:ext cx="0" cy="45720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8002800" y="30002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8002800" y="32004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8002800" y="34290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8002800" y="36576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8002800" y="3878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8002800" y="41148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8002800" y="43275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8002800" y="45147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8002800" y="47433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621920" y="25621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202520" y="27939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rot="16200000">
              <a:off x="7900560" y="5102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811" name=""/>
          <p:cNvSpPr/>
          <p:nvPr/>
        </p:nvSpPr>
        <p:spPr>
          <a:xfrm>
            <a:off x="6324480" y="3124080"/>
            <a:ext cx="1371600" cy="2514600"/>
          </a:xfrm>
          <a:prstGeom prst="rect">
            <a:avLst/>
          </a:prstGeom>
          <a:solidFill>
            <a:srgbClr val="660066">
              <a:alpha val="50000"/>
            </a:srgbClr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324480" y="2590920"/>
            <a:ext cx="2057400" cy="533160"/>
          </a:xfrm>
          <a:prstGeom prst="rect">
            <a:avLst/>
          </a:prstGeom>
          <a:solidFill>
            <a:srgbClr val="a7ccd9">
              <a:alpha val="50000"/>
            </a:srgbClr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7696080" y="3124080"/>
            <a:ext cx="685800" cy="2514600"/>
          </a:xfrm>
          <a:prstGeom prst="rect">
            <a:avLst/>
          </a:prstGeom>
          <a:solidFill>
            <a:srgbClr val="8888ae">
              <a:alpha val="50000"/>
            </a:srgbClr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FileDispla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Examine the edges first…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Looks like a BorderLayout!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ccd9"/>
                </a:solidFill>
                <a:latin typeface="Tahoma"/>
              </a:rPr>
              <a:t>NORTH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Label, Directory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CENTER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le list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88ae"/>
                </a:solidFill>
                <a:latin typeface="Tahoma"/>
              </a:rPr>
              <a:t>EAST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Buttons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816" name=""/>
          <p:cNvSpPr/>
          <p:nvPr/>
        </p:nvSpPr>
        <p:spPr>
          <a:xfrm flipV="1">
            <a:off x="3048120" y="2895120"/>
            <a:ext cx="3276360" cy="381240"/>
          </a:xfrm>
          <a:prstGeom prst="line">
            <a:avLst/>
          </a:prstGeom>
          <a:ln w="38160">
            <a:solidFill>
              <a:srgbClr val="a7cc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048120" y="4038480"/>
            <a:ext cx="3276360" cy="7632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743200" y="4952880"/>
            <a:ext cx="5334120" cy="381240"/>
          </a:xfrm>
          <a:prstGeom prst="line">
            <a:avLst/>
          </a:prstGeom>
          <a:ln w="38160">
            <a:solidFill>
              <a:srgbClr val="888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A944-BB07-412B-AA09-D47665CECDB8}" type="slidenum">
              <a:t>1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8ED177-FB14-4AFA-A83A-FFCBABD48EA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9" name=""/>
          <p:cNvGrpSpPr/>
          <p:nvPr/>
        </p:nvGrpSpPr>
        <p:grpSpPr>
          <a:xfrm>
            <a:off x="6324480" y="2562120"/>
            <a:ext cx="2038320" cy="3024360"/>
            <a:chOff x="6324480" y="2562120"/>
            <a:chExt cx="2038320" cy="3024360"/>
          </a:xfrm>
        </p:grpSpPr>
        <p:pic>
          <p:nvPicPr>
            <p:cNvPr id="820" name="ftp2" descr=""/>
            <p:cNvPicPr/>
            <p:nvPr/>
          </p:nvPicPr>
          <p:blipFill>
            <a:blip r:embed="rId2"/>
            <a:stretch/>
          </p:blipFill>
          <p:spPr>
            <a:xfrm>
              <a:off x="6324480" y="2643120"/>
              <a:ext cx="2038320" cy="2943360"/>
            </a:xfrm>
            <a:prstGeom prst="rect">
              <a:avLst/>
            </a:prstGeom>
            <a:ln w="9360">
              <a:solidFill>
                <a:srgbClr val="545472"/>
              </a:solidFill>
              <a:miter/>
            </a:ln>
          </p:spPr>
        </p:pic>
        <p:sp>
          <p:nvSpPr>
            <p:cNvPr id="821" name=""/>
            <p:cNvSpPr/>
            <p:nvPr/>
          </p:nvSpPr>
          <p:spPr>
            <a:xfrm>
              <a:off x="7315200" y="2743200"/>
              <a:ext cx="91440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934320" y="2971800"/>
              <a:ext cx="91440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705720" y="4114800"/>
              <a:ext cx="91440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7162920" y="3581280"/>
              <a:ext cx="0" cy="106704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V="1">
              <a:off x="8048520" y="5086440"/>
              <a:ext cx="0" cy="45720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8002800" y="30002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8002800" y="32004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8002800" y="34290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8002800" y="36576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8002800" y="3878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8002800" y="41148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2800" y="43275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8002800" y="45147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8002800" y="47433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621920" y="25621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202520" y="27939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rot="16200000">
              <a:off x="7900560" y="5102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838" name=""/>
          <p:cNvSpPr/>
          <p:nvPr/>
        </p:nvSpPr>
        <p:spPr>
          <a:xfrm>
            <a:off x="6324480" y="3124080"/>
            <a:ext cx="1371600" cy="2514600"/>
          </a:xfrm>
          <a:prstGeom prst="rect">
            <a:avLst/>
          </a:prstGeom>
          <a:solidFill>
            <a:srgbClr val="660066">
              <a:alpha val="50000"/>
            </a:srgbClr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324480" y="2590920"/>
            <a:ext cx="2057400" cy="533160"/>
          </a:xfrm>
          <a:prstGeom prst="rect">
            <a:avLst/>
          </a:prstGeom>
          <a:solidFill>
            <a:srgbClr val="a7ccd9">
              <a:alpha val="50000"/>
            </a:srgbClr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7696080" y="3124080"/>
            <a:ext cx="685800" cy="2514600"/>
          </a:xfrm>
          <a:prstGeom prst="rect">
            <a:avLst/>
          </a:prstGeom>
          <a:solidFill>
            <a:srgbClr val="8888ae">
              <a:alpha val="50000"/>
            </a:srgbClr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FileDispla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anel [Border]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7ccd9"/>
                </a:solidFill>
                <a:latin typeface="Tahoma"/>
              </a:rPr>
              <a:t>NORTH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=Panel [ ? ]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CENTER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=List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888ae"/>
                </a:solidFill>
                <a:latin typeface="Tahoma"/>
              </a:rPr>
              <a:t>EAST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=Panel [ ? ]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4E61-7778-4548-8C42-FD4EB9E02F4D}" type="slidenum">
              <a:t>1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E9F198-5565-4AB0-A828-52F3EB3CDB3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3" name=""/>
          <p:cNvGrpSpPr/>
          <p:nvPr/>
        </p:nvGrpSpPr>
        <p:grpSpPr>
          <a:xfrm>
            <a:off x="6324480" y="2562120"/>
            <a:ext cx="2038320" cy="3024360"/>
            <a:chOff x="6324480" y="2562120"/>
            <a:chExt cx="2038320" cy="3024360"/>
          </a:xfrm>
        </p:grpSpPr>
        <p:pic>
          <p:nvPicPr>
            <p:cNvPr id="844" name="ftp2" descr=""/>
            <p:cNvPicPr/>
            <p:nvPr/>
          </p:nvPicPr>
          <p:blipFill>
            <a:blip r:embed="rId2"/>
            <a:stretch/>
          </p:blipFill>
          <p:spPr>
            <a:xfrm>
              <a:off x="6324480" y="2643120"/>
              <a:ext cx="2038320" cy="2943360"/>
            </a:xfrm>
            <a:prstGeom prst="rect">
              <a:avLst/>
            </a:prstGeom>
            <a:ln w="9360">
              <a:solidFill>
                <a:srgbClr val="545472"/>
              </a:solidFill>
              <a:miter/>
            </a:ln>
          </p:spPr>
        </p:pic>
        <p:sp>
          <p:nvSpPr>
            <p:cNvPr id="845" name=""/>
            <p:cNvSpPr/>
            <p:nvPr/>
          </p:nvSpPr>
          <p:spPr>
            <a:xfrm>
              <a:off x="7315200" y="2743200"/>
              <a:ext cx="91440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934320" y="2971800"/>
              <a:ext cx="91440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705720" y="4114800"/>
              <a:ext cx="91440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7162920" y="3581280"/>
              <a:ext cx="0" cy="106704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V="1">
              <a:off x="8048520" y="5086440"/>
              <a:ext cx="0" cy="45720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8002800" y="30002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8002800" y="32004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8002800" y="34290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8002800" y="36576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8002800" y="3878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8002800" y="41148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8002800" y="43275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8002800" y="45147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8002800" y="47433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621920" y="25621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202520" y="27939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rot="16200000">
              <a:off x="7900560" y="5102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FileDispla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anel [Border]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7ccd9"/>
                </a:solidFill>
                <a:latin typeface="Tahoma"/>
              </a:rPr>
              <a:t>NORTH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=Panel [ ? ]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88ae"/>
                </a:solidFill>
                <a:latin typeface="Tahoma"/>
              </a:rPr>
              <a:t>Need fixed height for label and text field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88ae"/>
                </a:solidFill>
                <a:latin typeface="Tahoma"/>
              </a:rPr>
              <a:t>Sounds like another Border!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ENTER=List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EAST=Panel [ ? ]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4648320" y="2743200"/>
            <a:ext cx="1752480" cy="76320"/>
          </a:xfrm>
          <a:prstGeom prst="line">
            <a:avLst/>
          </a:prstGeom>
          <a:ln w="38160">
            <a:solidFill>
              <a:srgbClr val="888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V="1">
            <a:off x="5562720" y="2971440"/>
            <a:ext cx="761760" cy="304920"/>
          </a:xfrm>
          <a:prstGeom prst="line">
            <a:avLst/>
          </a:prstGeom>
          <a:ln w="38160">
            <a:solidFill>
              <a:srgbClr val="888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6248520" y="2590920"/>
            <a:ext cx="2133360" cy="533160"/>
          </a:xfrm>
          <a:prstGeom prst="rect">
            <a:avLst/>
          </a:prstGeom>
          <a:solidFill>
            <a:srgbClr val="a7ccd9">
              <a:alpha val="50000"/>
            </a:srgbClr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FBE0-2100-40B9-BB83-346773E4CFB0}" type="slidenum">
              <a:t>1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0CA4E6-17C3-405C-BE50-7FB9D75C1FC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7" name=""/>
          <p:cNvGrpSpPr/>
          <p:nvPr/>
        </p:nvGrpSpPr>
        <p:grpSpPr>
          <a:xfrm>
            <a:off x="6324480" y="2562120"/>
            <a:ext cx="2038320" cy="3024360"/>
            <a:chOff x="6324480" y="2562120"/>
            <a:chExt cx="2038320" cy="3024360"/>
          </a:xfrm>
        </p:grpSpPr>
        <p:pic>
          <p:nvPicPr>
            <p:cNvPr id="868" name="ftp2" descr=""/>
            <p:cNvPicPr/>
            <p:nvPr/>
          </p:nvPicPr>
          <p:blipFill>
            <a:blip r:embed="rId2"/>
            <a:stretch/>
          </p:blipFill>
          <p:spPr>
            <a:xfrm>
              <a:off x="6324480" y="2643120"/>
              <a:ext cx="2038320" cy="2943360"/>
            </a:xfrm>
            <a:prstGeom prst="rect">
              <a:avLst/>
            </a:prstGeom>
            <a:ln w="9360">
              <a:solidFill>
                <a:srgbClr val="545472"/>
              </a:solidFill>
              <a:miter/>
            </a:ln>
          </p:spPr>
        </p:pic>
        <p:sp>
          <p:nvSpPr>
            <p:cNvPr id="869" name=""/>
            <p:cNvSpPr/>
            <p:nvPr/>
          </p:nvSpPr>
          <p:spPr>
            <a:xfrm>
              <a:off x="7315200" y="2743200"/>
              <a:ext cx="91440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34320" y="2971800"/>
              <a:ext cx="91440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705720" y="4114800"/>
              <a:ext cx="91440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V="1">
              <a:off x="7162920" y="3581280"/>
              <a:ext cx="0" cy="106704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V="1">
              <a:off x="8048520" y="5086440"/>
              <a:ext cx="0" cy="45720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8002800" y="30002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8002800" y="32004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8002800" y="34290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8002800" y="36576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8002800" y="3878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8002800" y="41148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8002800" y="43275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8002800" y="45147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8002800" y="47433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621920" y="25621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02520" y="27939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rot="16200000">
              <a:off x="7900560" y="5102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FileDispla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anel [Border]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NORTH=Panel [Border]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7c7df"/>
                </a:solidFill>
                <a:latin typeface="Tahoma"/>
              </a:rPr>
              <a:t>NORTH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=Lab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88ae"/>
                </a:solidFill>
                <a:latin typeface="Tahoma"/>
              </a:rPr>
              <a:t>SOUTH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=TextField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ENTER=List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EAST=Panel [ ? ]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888" name=""/>
          <p:cNvSpPr/>
          <p:nvPr/>
        </p:nvSpPr>
        <p:spPr>
          <a:xfrm>
            <a:off x="6248520" y="2590920"/>
            <a:ext cx="2133360" cy="304560"/>
          </a:xfrm>
          <a:prstGeom prst="rect">
            <a:avLst/>
          </a:prstGeom>
          <a:solidFill>
            <a:srgbClr val="c7c7df">
              <a:alpha val="50000"/>
            </a:srgbClr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248520" y="2895480"/>
            <a:ext cx="2133360" cy="228600"/>
          </a:xfrm>
          <a:prstGeom prst="rect">
            <a:avLst/>
          </a:prstGeom>
          <a:solidFill>
            <a:srgbClr val="8888ae">
              <a:alpha val="50000"/>
            </a:srgbClr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3962520" y="2743200"/>
            <a:ext cx="2286000" cy="533520"/>
          </a:xfrm>
          <a:prstGeom prst="line">
            <a:avLst/>
          </a:prstGeom>
          <a:ln w="38160">
            <a:solidFill>
              <a:srgbClr val="c7c7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V="1">
            <a:off x="4419720" y="2971440"/>
            <a:ext cx="1904760" cy="762120"/>
          </a:xfrm>
          <a:prstGeom prst="line">
            <a:avLst/>
          </a:prstGeom>
          <a:ln w="38160">
            <a:solidFill>
              <a:srgbClr val="888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F52C-6943-4373-8A6D-22508F6B6EBE}" type="slidenum">
              <a:t>1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3E174C-2CD7-472A-939E-30A13B1AEFC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2" name=""/>
          <p:cNvGrpSpPr/>
          <p:nvPr/>
        </p:nvGrpSpPr>
        <p:grpSpPr>
          <a:xfrm>
            <a:off x="6324480" y="2562120"/>
            <a:ext cx="2038320" cy="3024360"/>
            <a:chOff x="6324480" y="2562120"/>
            <a:chExt cx="2038320" cy="3024360"/>
          </a:xfrm>
        </p:grpSpPr>
        <p:pic>
          <p:nvPicPr>
            <p:cNvPr id="893" name="ftp2" descr=""/>
            <p:cNvPicPr/>
            <p:nvPr/>
          </p:nvPicPr>
          <p:blipFill>
            <a:blip r:embed="rId2"/>
            <a:stretch/>
          </p:blipFill>
          <p:spPr>
            <a:xfrm>
              <a:off x="6324480" y="2643120"/>
              <a:ext cx="2038320" cy="2943360"/>
            </a:xfrm>
            <a:prstGeom prst="rect">
              <a:avLst/>
            </a:prstGeom>
            <a:ln w="9360">
              <a:solidFill>
                <a:srgbClr val="545472"/>
              </a:solidFill>
              <a:miter/>
            </a:ln>
          </p:spPr>
        </p:pic>
        <p:sp>
          <p:nvSpPr>
            <p:cNvPr id="894" name=""/>
            <p:cNvSpPr/>
            <p:nvPr/>
          </p:nvSpPr>
          <p:spPr>
            <a:xfrm>
              <a:off x="7315200" y="2743200"/>
              <a:ext cx="91440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934320" y="2971800"/>
              <a:ext cx="91440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705720" y="4114800"/>
              <a:ext cx="91440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7162920" y="3581280"/>
              <a:ext cx="0" cy="106704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V="1">
              <a:off x="8048520" y="5086440"/>
              <a:ext cx="0" cy="45720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8002800" y="30002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8002800" y="32004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8002800" y="34290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8002800" y="36576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8002800" y="3878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8002800" y="41148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8002800" y="43275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8002800" y="45147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8002800" y="47433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621920" y="25621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202520" y="27939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rot="16200000">
              <a:off x="7900560" y="5102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FileDispla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anel [Border]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NORTH=Panel [Border]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NORTH=Lab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SOUTH=TextField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ENTER=List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7ccd9"/>
                </a:solidFill>
                <a:latin typeface="Tahoma"/>
              </a:rPr>
              <a:t>EAST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=Panel [ ? ]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Buttons and TextField are fixed height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Sounds like Border again!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13" name=""/>
          <p:cNvSpPr/>
          <p:nvPr/>
        </p:nvSpPr>
        <p:spPr>
          <a:xfrm>
            <a:off x="7696080" y="3048120"/>
            <a:ext cx="685800" cy="2514600"/>
          </a:xfrm>
          <a:prstGeom prst="rect">
            <a:avLst/>
          </a:prstGeom>
          <a:solidFill>
            <a:srgbClr val="a7ccd9">
              <a:alpha val="50000"/>
            </a:srgbClr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AE05-1358-4590-BDF3-5F666047A5F5}" type="slidenum">
              <a:t>1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9DB50C-E18E-424F-996E-9E1D5B44E55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UI Sin #2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ssuming Look and Fe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But on </a:t>
            </a:r>
            <a:r>
              <a:rPr b="0" lang="en-US" sz="3200" spc="-1" strike="noStrike">
                <a:solidFill>
                  <a:srgbClr val="8888ae"/>
                </a:solidFill>
                <a:latin typeface="Tahoma"/>
              </a:rPr>
              <a:t>your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machine…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Motif L&amp;F has a big empty border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72" name="sin2b" descr=""/>
          <p:cNvPicPr/>
          <p:nvPr/>
        </p:nvPicPr>
        <p:blipFill>
          <a:blip r:embed="rId4"/>
          <a:stretch/>
        </p:blipFill>
        <p:spPr>
          <a:xfrm>
            <a:off x="2679840" y="2773440"/>
            <a:ext cx="3784320" cy="2636640"/>
          </a:xfrm>
          <a:prstGeom prst="rect">
            <a:avLst/>
          </a:prstGeom>
          <a:ln w="9360">
            <a:solidFill>
              <a:srgbClr val="545472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298A-561C-4BF2-9E74-CFB78A934F0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DA821A-445A-4071-964A-BE65FC51475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4" name=""/>
          <p:cNvGrpSpPr/>
          <p:nvPr/>
        </p:nvGrpSpPr>
        <p:grpSpPr>
          <a:xfrm>
            <a:off x="6324480" y="2562120"/>
            <a:ext cx="2038320" cy="3024360"/>
            <a:chOff x="6324480" y="2562120"/>
            <a:chExt cx="2038320" cy="3024360"/>
          </a:xfrm>
        </p:grpSpPr>
        <p:pic>
          <p:nvPicPr>
            <p:cNvPr id="915" name="ftp2" descr=""/>
            <p:cNvPicPr/>
            <p:nvPr/>
          </p:nvPicPr>
          <p:blipFill>
            <a:blip r:embed="rId2"/>
            <a:stretch/>
          </p:blipFill>
          <p:spPr>
            <a:xfrm>
              <a:off x="6324480" y="2643120"/>
              <a:ext cx="2038320" cy="2943360"/>
            </a:xfrm>
            <a:prstGeom prst="rect">
              <a:avLst/>
            </a:prstGeom>
            <a:ln w="9360">
              <a:solidFill>
                <a:srgbClr val="545472"/>
              </a:solidFill>
              <a:miter/>
            </a:ln>
          </p:spPr>
        </p:pic>
        <p:sp>
          <p:nvSpPr>
            <p:cNvPr id="916" name=""/>
            <p:cNvSpPr/>
            <p:nvPr/>
          </p:nvSpPr>
          <p:spPr>
            <a:xfrm>
              <a:off x="7315200" y="2743200"/>
              <a:ext cx="91440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934320" y="2971800"/>
              <a:ext cx="91440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705720" y="4114800"/>
              <a:ext cx="91440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flipV="1">
              <a:off x="7162920" y="3581280"/>
              <a:ext cx="0" cy="106704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V="1">
              <a:off x="8048520" y="5086440"/>
              <a:ext cx="0" cy="45720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002800" y="30002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002800" y="32004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002800" y="34290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002800" y="36576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8002800" y="3878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8002800" y="41148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8002800" y="43275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8002800" y="45147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8002800" y="47433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621920" y="25621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202520" y="27939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rot="16200000">
              <a:off x="7900560" y="5102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FileDispla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anel [Border]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NORTH=Panel [Border]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NORTH=Lab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SOUTH=TextField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ENTER=List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EAST=Panel [ Border ]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ccd9"/>
                </a:solidFill>
                <a:latin typeface="Tahoma"/>
              </a:rPr>
              <a:t>NORTH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=Panel [ ? ]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888ae"/>
                </a:solidFill>
                <a:latin typeface="Tahoma"/>
              </a:rPr>
              <a:t>They’re all the same size…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35" name=""/>
          <p:cNvSpPr/>
          <p:nvPr/>
        </p:nvSpPr>
        <p:spPr>
          <a:xfrm>
            <a:off x="7696080" y="3048120"/>
            <a:ext cx="685800" cy="1981080"/>
          </a:xfrm>
          <a:prstGeom prst="rect">
            <a:avLst/>
          </a:prstGeom>
          <a:solidFill>
            <a:srgbClr val="a7ccd9">
              <a:alpha val="50000"/>
            </a:srgbClr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9D52-83BD-4787-8086-167601CD8A27}" type="slidenum">
              <a:t>1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1B62E1-408A-4473-BA9D-0C9F2B02EE9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"/>
          <p:cNvGrpSpPr/>
          <p:nvPr/>
        </p:nvGrpSpPr>
        <p:grpSpPr>
          <a:xfrm>
            <a:off x="6324480" y="2562120"/>
            <a:ext cx="2038320" cy="3024360"/>
            <a:chOff x="6324480" y="2562120"/>
            <a:chExt cx="2038320" cy="3024360"/>
          </a:xfrm>
        </p:grpSpPr>
        <p:pic>
          <p:nvPicPr>
            <p:cNvPr id="937" name="ftp2" descr=""/>
            <p:cNvPicPr/>
            <p:nvPr/>
          </p:nvPicPr>
          <p:blipFill>
            <a:blip r:embed="rId2"/>
            <a:stretch/>
          </p:blipFill>
          <p:spPr>
            <a:xfrm>
              <a:off x="6324480" y="2643120"/>
              <a:ext cx="2038320" cy="2943360"/>
            </a:xfrm>
            <a:prstGeom prst="rect">
              <a:avLst/>
            </a:prstGeom>
            <a:ln w="9360">
              <a:solidFill>
                <a:srgbClr val="545472"/>
              </a:solidFill>
              <a:miter/>
            </a:ln>
          </p:spPr>
        </p:pic>
        <p:sp>
          <p:nvSpPr>
            <p:cNvPr id="938" name=""/>
            <p:cNvSpPr/>
            <p:nvPr/>
          </p:nvSpPr>
          <p:spPr>
            <a:xfrm>
              <a:off x="7315200" y="2743200"/>
              <a:ext cx="91440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934320" y="2971800"/>
              <a:ext cx="91440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705720" y="4114800"/>
              <a:ext cx="91440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 flipV="1">
              <a:off x="7162920" y="3581280"/>
              <a:ext cx="0" cy="106704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 flipV="1">
              <a:off x="8048520" y="5086440"/>
              <a:ext cx="0" cy="45720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8002800" y="30002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8002800" y="32004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8002800" y="34290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8002800" y="36576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8002800" y="3878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8002800" y="41148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8002800" y="43275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8002800" y="45147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8002800" y="47433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621920" y="25621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202520" y="27939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rot="16200000">
              <a:off x="7900560" y="5102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FileDispla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anel [Border]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NORTH=Panel [Border]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NORTH=Lab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SOUTH=TextField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ENTER=List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EAST=Panel [ Border ]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ccd9"/>
                </a:solidFill>
                <a:latin typeface="Tahoma"/>
              </a:rPr>
              <a:t>NORTH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=Panel [ Grid(1,0) ]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Buttons, Text Field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57" name=""/>
          <p:cNvSpPr/>
          <p:nvPr/>
        </p:nvSpPr>
        <p:spPr>
          <a:xfrm>
            <a:off x="7696080" y="3048120"/>
            <a:ext cx="685800" cy="1981080"/>
          </a:xfrm>
          <a:prstGeom prst="rect">
            <a:avLst/>
          </a:prstGeom>
          <a:solidFill>
            <a:srgbClr val="a7ccd9">
              <a:alpha val="50000"/>
            </a:srgbClr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CFC7-30EE-49DA-8C84-74F9244B5110}" type="slidenum">
              <a:t>1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527549-AD68-4B8A-BE7F-B0357F55108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Main FTP GU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actor out the File Display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Much Simpler…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60" name=""/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961" name=""/>
          <p:cNvGrpSpPr/>
          <p:nvPr/>
        </p:nvGrpSpPr>
        <p:grpSpPr>
          <a:xfrm>
            <a:off x="4560840" y="2674800"/>
            <a:ext cx="4506840" cy="4106880"/>
            <a:chOff x="4560840" y="2674800"/>
            <a:chExt cx="4506840" cy="4106880"/>
          </a:xfrm>
        </p:grpSpPr>
        <p:pic>
          <p:nvPicPr>
            <p:cNvPr id="962" name="ftp1" descr=""/>
            <p:cNvPicPr/>
            <p:nvPr/>
          </p:nvPicPr>
          <p:blipFill>
            <a:blip r:embed="rId4"/>
            <a:stretch/>
          </p:blipFill>
          <p:spPr>
            <a:xfrm>
              <a:off x="4560840" y="2674800"/>
              <a:ext cx="4506840" cy="4106880"/>
            </a:xfrm>
            <a:prstGeom prst="rect">
              <a:avLst/>
            </a:prstGeom>
            <a:ln w="9360">
              <a:solidFill>
                <a:srgbClr val="545472"/>
              </a:solidFill>
              <a:miter/>
            </a:ln>
          </p:spPr>
        </p:pic>
        <p:sp>
          <p:nvSpPr>
            <p:cNvPr id="963" name=""/>
            <p:cNvSpPr/>
            <p:nvPr/>
          </p:nvSpPr>
          <p:spPr>
            <a:xfrm>
              <a:off x="4591080" y="2971800"/>
              <a:ext cx="2057400" cy="2895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45472"/>
                  </a:solidFill>
                  <a:latin typeface="Courier New"/>
                </a:rPr>
                <a:t>FileDisplay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962760" y="2971800"/>
              <a:ext cx="2057400" cy="2895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45472"/>
                  </a:solidFill>
                  <a:latin typeface="Courier New"/>
                </a:rPr>
                <a:t>FileDisplay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A143-8DF9-4EB4-850F-AF9430479802}" type="slidenum">
              <a:t>1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95CE02-B2E2-49EF-AB4C-0A3ED2B200B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Main FTP GU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Annotate with resize behavior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grpSp>
        <p:nvGrpSpPr>
          <p:cNvPr id="967" name=""/>
          <p:cNvGrpSpPr/>
          <p:nvPr/>
        </p:nvGrpSpPr>
        <p:grpSpPr>
          <a:xfrm>
            <a:off x="4560840" y="2209680"/>
            <a:ext cx="4506840" cy="4650480"/>
            <a:chOff x="4560840" y="2209680"/>
            <a:chExt cx="4506840" cy="4650480"/>
          </a:xfrm>
        </p:grpSpPr>
        <p:grpSp>
          <p:nvGrpSpPr>
            <p:cNvPr id="968" name=""/>
            <p:cNvGrpSpPr/>
            <p:nvPr/>
          </p:nvGrpSpPr>
          <p:grpSpPr>
            <a:xfrm>
              <a:off x="4560840" y="2674800"/>
              <a:ext cx="4506840" cy="4106880"/>
              <a:chOff x="4560840" y="2674800"/>
              <a:chExt cx="4506840" cy="4106880"/>
            </a:xfrm>
          </p:grpSpPr>
          <p:pic>
            <p:nvPicPr>
              <p:cNvPr id="969" name="ftp1" descr=""/>
              <p:cNvPicPr/>
              <p:nvPr/>
            </p:nvPicPr>
            <p:blipFill>
              <a:blip r:embed="rId3"/>
              <a:stretch/>
            </p:blipFill>
            <p:spPr>
              <a:xfrm>
                <a:off x="4560840" y="2674800"/>
                <a:ext cx="4506840" cy="4106880"/>
              </a:xfrm>
              <a:prstGeom prst="rect">
                <a:avLst/>
              </a:prstGeom>
              <a:ln w="9360">
                <a:solidFill>
                  <a:srgbClr val="545472"/>
                </a:solidFill>
                <a:miter/>
              </a:ln>
            </p:spPr>
          </p:pic>
          <p:sp>
            <p:nvSpPr>
              <p:cNvPr id="970" name=""/>
              <p:cNvSpPr/>
              <p:nvPr/>
            </p:nvSpPr>
            <p:spPr>
              <a:xfrm>
                <a:off x="4591080" y="2971800"/>
                <a:ext cx="2057400" cy="2895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545472"/>
                    </a:solidFill>
                    <a:latin typeface="Courier New"/>
                  </a:rPr>
                  <a:t>FileDisplay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6962760" y="2971800"/>
                <a:ext cx="2057400" cy="2895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545472"/>
                    </a:solidFill>
                    <a:latin typeface="Courier New"/>
                  </a:rPr>
                  <a:t>FileDisplay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972" name=""/>
            <p:cNvSpPr/>
            <p:nvPr/>
          </p:nvSpPr>
          <p:spPr>
            <a:xfrm>
              <a:off x="4800600" y="6019920"/>
              <a:ext cx="83808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848720" y="6019920"/>
              <a:ext cx="83808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 flipV="1">
              <a:off x="6810480" y="4876920"/>
              <a:ext cx="1440" cy="83808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flipV="1">
              <a:off x="6810480" y="3048120"/>
              <a:ext cx="1440" cy="83808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133960" y="5048280"/>
              <a:ext cx="83808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 flipV="1">
              <a:off x="5562720" y="4648320"/>
              <a:ext cx="1440" cy="83808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543800" y="5048280"/>
              <a:ext cx="83808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 flipV="1">
              <a:off x="7972560" y="4648320"/>
              <a:ext cx="1440" cy="83808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324480" y="6372360"/>
              <a:ext cx="83844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583680" y="61945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031000" y="5838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8088480" y="5838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631200" y="22096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707520" y="40384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707520" y="43434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 rot="16200000">
              <a:off x="6662160" y="32130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rot="16200000">
              <a:off x="6662160" y="5073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791680" y="2362320"/>
              <a:ext cx="228528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888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flipH="1">
              <a:off x="5486400" y="2362320"/>
              <a:ext cx="228528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888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 rot="16200000">
              <a:off x="6341400" y="58356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rot="16200000">
              <a:off x="6969960" y="58356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802560" y="64422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8307720" y="6461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697880" y="6461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088400" y="6461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478920" y="6461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793120" y="6461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259600" y="6461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618080" y="6461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4DF1-DCE5-4563-845B-4E8C3FA42CC8}" type="slidenum">
              <a:t>1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8E5274-C96C-4CAF-93B3-EF2F9C79AE4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1" name=""/>
          <p:cNvGrpSpPr/>
          <p:nvPr/>
        </p:nvGrpSpPr>
        <p:grpSpPr>
          <a:xfrm>
            <a:off x="4560840" y="2209680"/>
            <a:ext cx="4506840" cy="4650480"/>
            <a:chOff x="4560840" y="2209680"/>
            <a:chExt cx="4506840" cy="4650480"/>
          </a:xfrm>
        </p:grpSpPr>
        <p:grpSp>
          <p:nvGrpSpPr>
            <p:cNvPr id="1002" name=""/>
            <p:cNvGrpSpPr/>
            <p:nvPr/>
          </p:nvGrpSpPr>
          <p:grpSpPr>
            <a:xfrm>
              <a:off x="4560840" y="2674800"/>
              <a:ext cx="4506840" cy="4106880"/>
              <a:chOff x="4560840" y="2674800"/>
              <a:chExt cx="4506840" cy="4106880"/>
            </a:xfrm>
          </p:grpSpPr>
          <p:pic>
            <p:nvPicPr>
              <p:cNvPr id="1003" name="ftp1" descr=""/>
              <p:cNvPicPr/>
              <p:nvPr/>
            </p:nvPicPr>
            <p:blipFill>
              <a:blip r:embed="rId2"/>
              <a:stretch/>
            </p:blipFill>
            <p:spPr>
              <a:xfrm>
                <a:off x="4560840" y="2674800"/>
                <a:ext cx="4506840" cy="4106880"/>
              </a:xfrm>
              <a:prstGeom prst="rect">
                <a:avLst/>
              </a:prstGeom>
              <a:ln w="9360">
                <a:solidFill>
                  <a:srgbClr val="545472"/>
                </a:solidFill>
                <a:miter/>
              </a:ln>
            </p:spPr>
          </p:pic>
          <p:sp>
            <p:nvSpPr>
              <p:cNvPr id="1004" name=""/>
              <p:cNvSpPr/>
              <p:nvPr/>
            </p:nvSpPr>
            <p:spPr>
              <a:xfrm>
                <a:off x="4591080" y="2971800"/>
                <a:ext cx="2057400" cy="2895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545472"/>
                    </a:solidFill>
                    <a:latin typeface="Courier New"/>
                  </a:rPr>
                  <a:t>FileDisplay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6962760" y="2971800"/>
                <a:ext cx="2057400" cy="2895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545472"/>
                    </a:solidFill>
                    <a:latin typeface="Courier New"/>
                  </a:rPr>
                  <a:t>FileDisplay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1006" name=""/>
            <p:cNvSpPr/>
            <p:nvPr/>
          </p:nvSpPr>
          <p:spPr>
            <a:xfrm>
              <a:off x="4800600" y="6019920"/>
              <a:ext cx="83808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7848720" y="6019920"/>
              <a:ext cx="83808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V="1">
              <a:off x="6810480" y="4876920"/>
              <a:ext cx="1440" cy="83808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V="1">
              <a:off x="6810480" y="3048120"/>
              <a:ext cx="1440" cy="83808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133960" y="5048280"/>
              <a:ext cx="83808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 flipV="1">
              <a:off x="5562720" y="4648320"/>
              <a:ext cx="1440" cy="83808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543800" y="5048280"/>
              <a:ext cx="83808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V="1">
              <a:off x="7972560" y="4648320"/>
              <a:ext cx="1440" cy="83808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324480" y="6372360"/>
              <a:ext cx="83844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583680" y="61945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031000" y="5838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8088480" y="5838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631200" y="22096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707520" y="40384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707520" y="43434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rot="16200000">
              <a:off x="6662160" y="32130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rot="16200000">
              <a:off x="6662160" y="5073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791680" y="2362320"/>
              <a:ext cx="228528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888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H="1">
              <a:off x="5486400" y="2362320"/>
              <a:ext cx="228528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888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rot="16200000">
              <a:off x="6341400" y="58356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 rot="16200000">
              <a:off x="6969960" y="58356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802560" y="64422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8307720" y="6461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697880" y="6461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7088400" y="6461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478920" y="6461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793120" y="6461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259600" y="6461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618080" y="6461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Main FTP GU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tart looking at the edges…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Notice the </a:t>
            </a:r>
            <a:br>
              <a:rPr sz="2800"/>
            </a:br>
            <a:r>
              <a:rPr b="0" lang="en-US" sz="2800" spc="-1" strike="noStrike">
                <a:solidFill>
                  <a:srgbClr val="a7ccd9"/>
                </a:solidFill>
                <a:latin typeface="Tahoma"/>
              </a:rPr>
              <a:t>bottom edge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37" name=""/>
          <p:cNvSpPr/>
          <p:nvPr/>
        </p:nvSpPr>
        <p:spPr>
          <a:xfrm>
            <a:off x="4572000" y="5867280"/>
            <a:ext cx="4572000" cy="990720"/>
          </a:xfrm>
          <a:prstGeom prst="rect">
            <a:avLst/>
          </a:prstGeom>
          <a:solidFill>
            <a:srgbClr val="a7ccd9">
              <a:alpha val="50000"/>
            </a:srgbClr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B510-07DC-4014-B9C8-9ABBF93B6272}" type="slidenum">
              <a:t>1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1D5364-EC63-4F93-ABD2-4D91B37D3A4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Main FTP GU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anel [Border]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7ccd9"/>
                </a:solidFill>
                <a:latin typeface="Tahoma"/>
              </a:rPr>
              <a:t>SOUTH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=</a:t>
            </a:r>
            <a:br>
              <a:rPr sz="2800"/>
            </a:b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anel[Border]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88ae"/>
                </a:solidFill>
                <a:latin typeface="Tahoma"/>
              </a:rPr>
              <a:t>Pieces inside look like NORTH, CENTER, SOUTH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grpSp>
        <p:nvGrpSpPr>
          <p:cNvPr id="1040" name=""/>
          <p:cNvGrpSpPr/>
          <p:nvPr/>
        </p:nvGrpSpPr>
        <p:grpSpPr>
          <a:xfrm>
            <a:off x="4560840" y="2209680"/>
            <a:ext cx="4506840" cy="4650480"/>
            <a:chOff x="4560840" y="2209680"/>
            <a:chExt cx="4506840" cy="4650480"/>
          </a:xfrm>
        </p:grpSpPr>
        <p:grpSp>
          <p:nvGrpSpPr>
            <p:cNvPr id="1041" name=""/>
            <p:cNvGrpSpPr/>
            <p:nvPr/>
          </p:nvGrpSpPr>
          <p:grpSpPr>
            <a:xfrm>
              <a:off x="4560840" y="2674800"/>
              <a:ext cx="4506840" cy="4106880"/>
              <a:chOff x="4560840" y="2674800"/>
              <a:chExt cx="4506840" cy="4106880"/>
            </a:xfrm>
          </p:grpSpPr>
          <p:pic>
            <p:nvPicPr>
              <p:cNvPr id="1042" name="ftp1" descr=""/>
              <p:cNvPicPr/>
              <p:nvPr/>
            </p:nvPicPr>
            <p:blipFill>
              <a:blip r:embed="rId5"/>
              <a:stretch/>
            </p:blipFill>
            <p:spPr>
              <a:xfrm>
                <a:off x="4560840" y="2674800"/>
                <a:ext cx="4506840" cy="4106880"/>
              </a:xfrm>
              <a:prstGeom prst="rect">
                <a:avLst/>
              </a:prstGeom>
              <a:ln w="9360">
                <a:solidFill>
                  <a:srgbClr val="545472"/>
                </a:solidFill>
                <a:miter/>
              </a:ln>
            </p:spPr>
          </p:pic>
          <p:sp>
            <p:nvSpPr>
              <p:cNvPr id="1043" name=""/>
              <p:cNvSpPr/>
              <p:nvPr/>
            </p:nvSpPr>
            <p:spPr>
              <a:xfrm>
                <a:off x="4591080" y="2971800"/>
                <a:ext cx="2057400" cy="2895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545472"/>
                    </a:solidFill>
                    <a:latin typeface="Courier New"/>
                  </a:rPr>
                  <a:t>FileDisplay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6962760" y="2971800"/>
                <a:ext cx="2057400" cy="2895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545472"/>
                    </a:solidFill>
                    <a:latin typeface="Courier New"/>
                  </a:rPr>
                  <a:t>FileDisplay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1045" name=""/>
            <p:cNvSpPr/>
            <p:nvPr/>
          </p:nvSpPr>
          <p:spPr>
            <a:xfrm>
              <a:off x="4800600" y="6019920"/>
              <a:ext cx="83808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7848720" y="6019920"/>
              <a:ext cx="83808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V="1">
              <a:off x="6810480" y="4876920"/>
              <a:ext cx="1440" cy="83808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V="1">
              <a:off x="6810480" y="3048120"/>
              <a:ext cx="1440" cy="83808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133960" y="5048280"/>
              <a:ext cx="83808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V="1">
              <a:off x="5562720" y="4648320"/>
              <a:ext cx="1440" cy="83808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543800" y="5048280"/>
              <a:ext cx="83808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V="1">
              <a:off x="7972560" y="4648320"/>
              <a:ext cx="1440" cy="83808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6324480" y="6372360"/>
              <a:ext cx="83844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583680" y="61945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031000" y="5838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8088480" y="5838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631200" y="22096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707520" y="40384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6707520" y="43434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 rot="16200000">
              <a:off x="6662160" y="32130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 rot="16200000">
              <a:off x="6662160" y="5073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791680" y="2362320"/>
              <a:ext cx="228528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888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H="1">
              <a:off x="5486400" y="2362320"/>
              <a:ext cx="228528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888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 rot="16200000">
              <a:off x="6341400" y="58356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rot="16200000">
              <a:off x="6969960" y="58356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802560" y="64422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8307720" y="6461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7697880" y="6461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7088400" y="6461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478920" y="6461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793120" y="6461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259600" y="6461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618080" y="6461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1074" name=""/>
          <p:cNvSpPr/>
          <p:nvPr/>
        </p:nvSpPr>
        <p:spPr>
          <a:xfrm>
            <a:off x="4572000" y="5867280"/>
            <a:ext cx="4572000" cy="990720"/>
          </a:xfrm>
          <a:prstGeom prst="rect">
            <a:avLst/>
          </a:prstGeom>
          <a:solidFill>
            <a:srgbClr val="a7ccd9">
              <a:alpha val="50000"/>
            </a:srgbClr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A311-814D-4350-96FA-878BD16D01B9}" type="slidenum">
              <a:t>1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FC0CF8-743E-4C0E-B093-DEB55105061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Main FTP GU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8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anel [Border]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OUTH=</a:t>
            </a:r>
            <a:br>
              <a:rPr sz="2800"/>
            </a:b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anel[Border]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040040" indent="-2077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NORTH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=</a:t>
            </a:r>
            <a:br>
              <a:rPr sz="2400"/>
            </a:b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Panel[Flow]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040040" indent="-2077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ccd9"/>
                </a:solidFill>
                <a:latin typeface="Tahoma"/>
              </a:rPr>
              <a:t>CENTER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=List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040040" indent="-2077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88ae"/>
                </a:solidFill>
                <a:latin typeface="Tahoma"/>
              </a:rPr>
              <a:t>SOUTH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=</a:t>
            </a:r>
            <a:br>
              <a:rPr sz="2400"/>
            </a:b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Panel[Grid(1,0)]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ENTER=</a:t>
            </a:r>
            <a:br>
              <a:rPr sz="2800"/>
            </a:b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Panel[ ? ]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grpSp>
        <p:nvGrpSpPr>
          <p:cNvPr id="1077" name=""/>
          <p:cNvGrpSpPr/>
          <p:nvPr/>
        </p:nvGrpSpPr>
        <p:grpSpPr>
          <a:xfrm>
            <a:off x="4560840" y="2209680"/>
            <a:ext cx="4506840" cy="4650480"/>
            <a:chOff x="4560840" y="2209680"/>
            <a:chExt cx="4506840" cy="4650480"/>
          </a:xfrm>
        </p:grpSpPr>
        <p:grpSp>
          <p:nvGrpSpPr>
            <p:cNvPr id="1078" name=""/>
            <p:cNvGrpSpPr/>
            <p:nvPr/>
          </p:nvGrpSpPr>
          <p:grpSpPr>
            <a:xfrm>
              <a:off x="4560840" y="2674800"/>
              <a:ext cx="4506840" cy="4106880"/>
              <a:chOff x="4560840" y="2674800"/>
              <a:chExt cx="4506840" cy="4106880"/>
            </a:xfrm>
          </p:grpSpPr>
          <p:pic>
            <p:nvPicPr>
              <p:cNvPr id="1079" name="ftp1" descr=""/>
              <p:cNvPicPr/>
              <p:nvPr/>
            </p:nvPicPr>
            <p:blipFill>
              <a:blip r:embed="rId8"/>
              <a:stretch/>
            </p:blipFill>
            <p:spPr>
              <a:xfrm>
                <a:off x="4560840" y="2674800"/>
                <a:ext cx="4506840" cy="4106880"/>
              </a:xfrm>
              <a:prstGeom prst="rect">
                <a:avLst/>
              </a:prstGeom>
              <a:ln w="9360">
                <a:solidFill>
                  <a:srgbClr val="545472"/>
                </a:solidFill>
                <a:miter/>
              </a:ln>
            </p:spPr>
          </p:pic>
          <p:sp>
            <p:nvSpPr>
              <p:cNvPr id="1080" name=""/>
              <p:cNvSpPr/>
              <p:nvPr/>
            </p:nvSpPr>
            <p:spPr>
              <a:xfrm>
                <a:off x="4591080" y="2971800"/>
                <a:ext cx="2057400" cy="2895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545472"/>
                    </a:solidFill>
                    <a:latin typeface="Courier New"/>
                  </a:rPr>
                  <a:t>FileDisplay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6962760" y="2971800"/>
                <a:ext cx="2057400" cy="2895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545472"/>
                    </a:solidFill>
                    <a:latin typeface="Courier New"/>
                  </a:rPr>
                  <a:t>FileDisplay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1082" name=""/>
            <p:cNvSpPr/>
            <p:nvPr/>
          </p:nvSpPr>
          <p:spPr>
            <a:xfrm>
              <a:off x="4800600" y="6019920"/>
              <a:ext cx="83808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848720" y="6019920"/>
              <a:ext cx="83808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V="1">
              <a:off x="6810480" y="4876920"/>
              <a:ext cx="1440" cy="83808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V="1">
              <a:off x="6810480" y="3048120"/>
              <a:ext cx="1440" cy="83808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133960" y="5048280"/>
              <a:ext cx="83808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V="1">
              <a:off x="5562720" y="4648320"/>
              <a:ext cx="1440" cy="83808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7543800" y="5048280"/>
              <a:ext cx="83808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 flipV="1">
              <a:off x="7972560" y="4648320"/>
              <a:ext cx="1440" cy="83808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6324480" y="6372360"/>
              <a:ext cx="83844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583680" y="61945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5031000" y="5838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088480" y="5838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6631200" y="22096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6707520" y="40384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707520" y="43434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rot="16200000">
              <a:off x="6662160" y="32130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rot="16200000">
              <a:off x="6662160" y="5073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791680" y="2362320"/>
              <a:ext cx="228528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888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>
              <a:off x="5486400" y="2362320"/>
              <a:ext cx="228528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888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rot="16200000">
              <a:off x="6341400" y="58356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rot="16200000">
              <a:off x="6969960" y="58356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6802560" y="64422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307720" y="6461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7697880" y="6461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088400" y="6461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6478920" y="6461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793120" y="6461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259600" y="6461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618080" y="6461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1111" name=""/>
          <p:cNvSpPr/>
          <p:nvPr/>
        </p:nvSpPr>
        <p:spPr>
          <a:xfrm>
            <a:off x="4495680" y="5867280"/>
            <a:ext cx="4572000" cy="381240"/>
          </a:xfrm>
          <a:prstGeom prst="rect">
            <a:avLst/>
          </a:prstGeom>
          <a:solidFill>
            <a:srgbClr val="660066">
              <a:alpha val="50000"/>
            </a:srgbClr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4495680" y="6248520"/>
            <a:ext cx="4572000" cy="304560"/>
          </a:xfrm>
          <a:prstGeom prst="rect">
            <a:avLst/>
          </a:prstGeom>
          <a:solidFill>
            <a:srgbClr val="a7ccd9">
              <a:alpha val="50000"/>
            </a:srgbClr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4495680" y="6553080"/>
            <a:ext cx="4572000" cy="228600"/>
          </a:xfrm>
          <a:prstGeom prst="rect">
            <a:avLst/>
          </a:prstGeom>
          <a:solidFill>
            <a:srgbClr val="8888ae">
              <a:alpha val="50000"/>
            </a:srgbClr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53EA-E3ED-40EB-9E3C-F9653110CDDF}" type="slidenum">
              <a:t>1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9AC8B9-4294-4C8D-B404-FC70E11546B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Main FTP GU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581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anel [Border]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SOUTH=</a:t>
            </a:r>
            <a:br>
              <a:rPr sz="2400"/>
            </a:b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Panel[Border]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NORTH=</a:t>
            </a:r>
            <a:br>
              <a:rPr sz="2000"/>
            </a:b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Panel[Flow]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CENTER=List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OUTH=</a:t>
            </a:r>
            <a:br>
              <a:rPr sz="2000"/>
            </a:b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Panel[Grid(1,0)]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CENTER=</a:t>
            </a:r>
            <a:br>
              <a:rPr sz="2400"/>
            </a:b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Panel[ ? ]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888ae"/>
                </a:solidFill>
                <a:latin typeface="Tahoma"/>
              </a:rPr>
              <a:t>Let’s look closer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grpSp>
        <p:nvGrpSpPr>
          <p:cNvPr id="1116" name=""/>
          <p:cNvGrpSpPr/>
          <p:nvPr/>
        </p:nvGrpSpPr>
        <p:grpSpPr>
          <a:xfrm>
            <a:off x="4560840" y="2209680"/>
            <a:ext cx="4506840" cy="4650480"/>
            <a:chOff x="4560840" y="2209680"/>
            <a:chExt cx="4506840" cy="4650480"/>
          </a:xfrm>
        </p:grpSpPr>
        <p:grpSp>
          <p:nvGrpSpPr>
            <p:cNvPr id="1117" name=""/>
            <p:cNvGrpSpPr/>
            <p:nvPr/>
          </p:nvGrpSpPr>
          <p:grpSpPr>
            <a:xfrm>
              <a:off x="4560840" y="2674800"/>
              <a:ext cx="4506840" cy="4106880"/>
              <a:chOff x="4560840" y="2674800"/>
              <a:chExt cx="4506840" cy="4106880"/>
            </a:xfrm>
          </p:grpSpPr>
          <p:pic>
            <p:nvPicPr>
              <p:cNvPr id="1118" name="ftp1" descr=""/>
              <p:cNvPicPr/>
              <p:nvPr/>
            </p:nvPicPr>
            <p:blipFill>
              <a:blip r:embed="rId9"/>
              <a:stretch/>
            </p:blipFill>
            <p:spPr>
              <a:xfrm>
                <a:off x="4560840" y="2674800"/>
                <a:ext cx="4506840" cy="4106880"/>
              </a:xfrm>
              <a:prstGeom prst="rect">
                <a:avLst/>
              </a:prstGeom>
              <a:ln w="9360">
                <a:solidFill>
                  <a:srgbClr val="545472"/>
                </a:solidFill>
                <a:miter/>
              </a:ln>
            </p:spPr>
          </p:pic>
          <p:sp>
            <p:nvSpPr>
              <p:cNvPr id="1119" name=""/>
              <p:cNvSpPr/>
              <p:nvPr/>
            </p:nvSpPr>
            <p:spPr>
              <a:xfrm>
                <a:off x="4591080" y="2971800"/>
                <a:ext cx="2057400" cy="2895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545472"/>
                    </a:solidFill>
                    <a:latin typeface="Courier New"/>
                  </a:rPr>
                  <a:t>FileDisplay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6962760" y="2971800"/>
                <a:ext cx="2057400" cy="2895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545472"/>
                    </a:solidFill>
                    <a:latin typeface="Courier New"/>
                  </a:rPr>
                  <a:t>FileDisplay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1121" name=""/>
            <p:cNvSpPr/>
            <p:nvPr/>
          </p:nvSpPr>
          <p:spPr>
            <a:xfrm>
              <a:off x="4800600" y="6019920"/>
              <a:ext cx="83808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7848720" y="6019920"/>
              <a:ext cx="83808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 flipV="1">
              <a:off x="6810480" y="4876920"/>
              <a:ext cx="1440" cy="83808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V="1">
              <a:off x="6810480" y="3048120"/>
              <a:ext cx="1440" cy="83808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133960" y="5048280"/>
              <a:ext cx="83808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 flipV="1">
              <a:off x="5562720" y="4648320"/>
              <a:ext cx="1440" cy="83808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7543800" y="5048280"/>
              <a:ext cx="83808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V="1">
              <a:off x="7972560" y="4648320"/>
              <a:ext cx="1440" cy="83808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6324480" y="6372360"/>
              <a:ext cx="83844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6583680" y="61945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5031000" y="5838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8088480" y="5838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6631200" y="22096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707520" y="40384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6707520" y="43434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rot="16200000">
              <a:off x="6662160" y="32130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rot="16200000">
              <a:off x="6662160" y="5073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791680" y="2362320"/>
              <a:ext cx="228528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888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H="1">
              <a:off x="5486400" y="2362320"/>
              <a:ext cx="228528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888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rot="16200000">
              <a:off x="6341400" y="58356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rot="16200000">
              <a:off x="6969960" y="58356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02560" y="64422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8307720" y="6461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7697880" y="6461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7088400" y="6461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478920" y="6461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793120" y="6461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259600" y="6461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618080" y="6461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062C-1D63-47C4-AD1C-D78A34EF03EA}" type="slidenum">
              <a:t>1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41D691-A3A4-4F93-9259-167FB6DBBAF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Center Sec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an use BoxLayout or GridBagLayou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No other layout supports non-adjacent equal size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ould write custom layout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grpSp>
        <p:nvGrpSpPr>
          <p:cNvPr id="1152" name=""/>
          <p:cNvGrpSpPr/>
          <p:nvPr/>
        </p:nvGrpSpPr>
        <p:grpSpPr>
          <a:xfrm>
            <a:off x="4724280" y="3276720"/>
            <a:ext cx="4295880" cy="3504960"/>
            <a:chOff x="4724280" y="3276720"/>
            <a:chExt cx="4295880" cy="3504960"/>
          </a:xfrm>
        </p:grpSpPr>
        <p:pic>
          <p:nvPicPr>
            <p:cNvPr id="1153" name="ftp4" descr=""/>
            <p:cNvPicPr/>
            <p:nvPr/>
          </p:nvPicPr>
          <p:blipFill>
            <a:blip r:embed="rId5"/>
            <a:stretch/>
          </p:blipFill>
          <p:spPr>
            <a:xfrm>
              <a:off x="4724280" y="3962520"/>
              <a:ext cx="4295880" cy="2813040"/>
            </a:xfrm>
            <a:prstGeom prst="rect">
              <a:avLst/>
            </a:prstGeom>
            <a:ln w="9360">
              <a:solidFill>
                <a:srgbClr val="545472"/>
              </a:solidFill>
              <a:miter/>
            </a:ln>
          </p:spPr>
        </p:pic>
        <p:sp>
          <p:nvSpPr>
            <p:cNvPr id="1154" name=""/>
            <p:cNvSpPr/>
            <p:nvPr/>
          </p:nvSpPr>
          <p:spPr>
            <a:xfrm>
              <a:off x="4753080" y="4019400"/>
              <a:ext cx="1752480" cy="2743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45472"/>
                  </a:solidFill>
                  <a:latin typeface="Courier New"/>
                </a:rPr>
                <a:t>FileDisplay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7248600" y="4019400"/>
              <a:ext cx="1752480" cy="2743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45472"/>
                  </a:solidFill>
                  <a:latin typeface="Courier New"/>
                </a:rPr>
                <a:t>FileDisplay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V="1">
              <a:off x="6870600" y="3990960"/>
              <a:ext cx="1800" cy="83808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rot="16200000">
              <a:off x="6722640" y="41562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V="1">
              <a:off x="6867360" y="5943600"/>
              <a:ext cx="1800" cy="83808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rot="16200000">
              <a:off x="6719400" y="6108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707520" y="50133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6707520" y="53942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6631200" y="32767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5791680" y="3429000"/>
              <a:ext cx="228528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888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H="1">
              <a:off x="5486400" y="3429000"/>
              <a:ext cx="228528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888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696080" y="4667400"/>
              <a:ext cx="83844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V="1">
              <a:off x="8124840" y="4266720"/>
              <a:ext cx="1440" cy="83844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181480" y="4667400"/>
              <a:ext cx="83844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V="1">
              <a:off x="5610240" y="4266720"/>
              <a:ext cx="1440" cy="83844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713640" y="52005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AD85-0C30-48FB-9870-DDB578F1BB53}" type="slidenum">
              <a:t>1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12E9DE-653C-4F38-B5F5-F16E718A173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Center Section as Box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tart with a </a:t>
            </a:r>
            <a:r>
              <a:rPr b="0" lang="en-US" sz="3200" spc="-1" strike="noStrike">
                <a:solidFill>
                  <a:srgbClr val="a7ccd9"/>
                </a:solidFill>
                <a:latin typeface="Tahoma"/>
              </a:rPr>
              <a:t>Horizontal Box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grpSp>
        <p:nvGrpSpPr>
          <p:cNvPr id="1172" name=""/>
          <p:cNvGrpSpPr/>
          <p:nvPr/>
        </p:nvGrpSpPr>
        <p:grpSpPr>
          <a:xfrm>
            <a:off x="4724280" y="3276720"/>
            <a:ext cx="4295880" cy="3504960"/>
            <a:chOff x="4724280" y="3276720"/>
            <a:chExt cx="4295880" cy="3504960"/>
          </a:xfrm>
        </p:grpSpPr>
        <p:pic>
          <p:nvPicPr>
            <p:cNvPr id="1173" name="ftp4" descr=""/>
            <p:cNvPicPr/>
            <p:nvPr/>
          </p:nvPicPr>
          <p:blipFill>
            <a:blip r:embed="rId3"/>
            <a:stretch/>
          </p:blipFill>
          <p:spPr>
            <a:xfrm>
              <a:off x="4724280" y="3962520"/>
              <a:ext cx="4295880" cy="2813040"/>
            </a:xfrm>
            <a:prstGeom prst="rect">
              <a:avLst/>
            </a:prstGeom>
            <a:ln w="9360">
              <a:solidFill>
                <a:srgbClr val="545472"/>
              </a:solidFill>
              <a:miter/>
            </a:ln>
          </p:spPr>
        </p:pic>
        <p:sp>
          <p:nvSpPr>
            <p:cNvPr id="1174" name=""/>
            <p:cNvSpPr/>
            <p:nvPr/>
          </p:nvSpPr>
          <p:spPr>
            <a:xfrm>
              <a:off x="4753080" y="4019400"/>
              <a:ext cx="1752480" cy="2743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45472"/>
                  </a:solidFill>
                  <a:latin typeface="Courier New"/>
                </a:rPr>
                <a:t>FileDisplay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248600" y="4019400"/>
              <a:ext cx="1752480" cy="2743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45472"/>
                  </a:solidFill>
                  <a:latin typeface="Courier New"/>
                </a:rPr>
                <a:t>FileDisplay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V="1">
              <a:off x="6870600" y="3990960"/>
              <a:ext cx="1800" cy="83808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rot="16200000">
              <a:off x="6722640" y="41562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V="1">
              <a:off x="6867360" y="5943600"/>
              <a:ext cx="1800" cy="83808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 rot="16200000">
              <a:off x="6719400" y="6108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6707520" y="50133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707520" y="53942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631200" y="32767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791680" y="3429000"/>
              <a:ext cx="228528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888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 flipH="1">
              <a:off x="5486400" y="3429000"/>
              <a:ext cx="228528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888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7696080" y="4667400"/>
              <a:ext cx="83844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 flipV="1">
              <a:off x="8124840" y="4266720"/>
              <a:ext cx="1440" cy="83844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181480" y="4667400"/>
              <a:ext cx="83844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 flipV="1">
              <a:off x="5610240" y="4266720"/>
              <a:ext cx="1440" cy="83844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713640" y="52005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1190" name=""/>
          <p:cNvSpPr/>
          <p:nvPr/>
        </p:nvSpPr>
        <p:spPr>
          <a:xfrm>
            <a:off x="4572000" y="3886200"/>
            <a:ext cx="4572000" cy="2971800"/>
          </a:xfrm>
          <a:prstGeom prst="rect">
            <a:avLst/>
          </a:prstGeom>
          <a:solidFill>
            <a:srgbClr val="a7ccd9">
              <a:alpha val="50000"/>
            </a:srgbClr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03C6-14C6-4F0E-BB39-10C269D4C615}" type="slidenum">
              <a:t>1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AB51C9-7FC4-442F-831A-02E2F0FAD11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UI Sin #3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ssuming One Languag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o you think English is the only language…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75" name="sin3a" descr=""/>
          <p:cNvPicPr/>
          <p:nvPr/>
        </p:nvPicPr>
        <p:blipFill>
          <a:blip r:embed="rId3"/>
          <a:stretch/>
        </p:blipFill>
        <p:spPr>
          <a:xfrm>
            <a:off x="2857680" y="3173400"/>
            <a:ext cx="3427200" cy="2541600"/>
          </a:xfrm>
          <a:prstGeom prst="rect">
            <a:avLst/>
          </a:prstGeom>
          <a:ln w="9360">
            <a:solidFill>
              <a:srgbClr val="545472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536D-9301-41E5-9DB0-B68BADC2A3E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40CE21-BD3E-45D7-B46D-7620BAA950E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Center Section as Box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7ccd9"/>
                </a:solidFill>
                <a:latin typeface="Tahoma"/>
              </a:rPr>
              <a:t>Panel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[Box(X_AXIS)]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FileDisplay (expand)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Panel [ ? ]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FileDisplay (expand)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Note: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Expansion may </a:t>
            </a:r>
            <a:br>
              <a:rPr sz="2400"/>
            </a:b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require extension</a:t>
            </a:r>
            <a:br>
              <a:rPr sz="2400"/>
            </a:b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or decoration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Struts for spacing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grpSp>
        <p:nvGrpSpPr>
          <p:cNvPr id="1193" name=""/>
          <p:cNvGrpSpPr/>
          <p:nvPr/>
        </p:nvGrpSpPr>
        <p:grpSpPr>
          <a:xfrm>
            <a:off x="4724280" y="3276720"/>
            <a:ext cx="4295880" cy="3504960"/>
            <a:chOff x="4724280" y="3276720"/>
            <a:chExt cx="4295880" cy="3504960"/>
          </a:xfrm>
        </p:grpSpPr>
        <p:pic>
          <p:nvPicPr>
            <p:cNvPr id="1194" name="ftp4" descr=""/>
            <p:cNvPicPr/>
            <p:nvPr/>
          </p:nvPicPr>
          <p:blipFill>
            <a:blip r:embed="rId9"/>
            <a:stretch/>
          </p:blipFill>
          <p:spPr>
            <a:xfrm>
              <a:off x="4724280" y="3962520"/>
              <a:ext cx="4295880" cy="2813040"/>
            </a:xfrm>
            <a:prstGeom prst="rect">
              <a:avLst/>
            </a:prstGeom>
            <a:ln w="9360">
              <a:solidFill>
                <a:srgbClr val="545472"/>
              </a:solidFill>
              <a:miter/>
            </a:ln>
          </p:spPr>
        </p:pic>
        <p:sp>
          <p:nvSpPr>
            <p:cNvPr id="1195" name=""/>
            <p:cNvSpPr/>
            <p:nvPr/>
          </p:nvSpPr>
          <p:spPr>
            <a:xfrm>
              <a:off x="4753080" y="4019400"/>
              <a:ext cx="1752480" cy="2743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45472"/>
                  </a:solidFill>
                  <a:latin typeface="Courier New"/>
                </a:rPr>
                <a:t>FileDisplay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7248600" y="4019400"/>
              <a:ext cx="1752480" cy="2743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45472"/>
                  </a:solidFill>
                  <a:latin typeface="Courier New"/>
                </a:rPr>
                <a:t>FileDisplay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V="1">
              <a:off x="6870600" y="3990960"/>
              <a:ext cx="1800" cy="83808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rot="16200000">
              <a:off x="6722640" y="41562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 flipV="1">
              <a:off x="6867360" y="5943600"/>
              <a:ext cx="1800" cy="83808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 rot="16200000">
              <a:off x="6719400" y="6108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6707520" y="50133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6707520" y="53942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6631200" y="32767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791680" y="3429000"/>
              <a:ext cx="228528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888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H="1">
              <a:off x="5486400" y="3429000"/>
              <a:ext cx="228528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888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7696080" y="4667400"/>
              <a:ext cx="83844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V="1">
              <a:off x="8124840" y="4266720"/>
              <a:ext cx="1440" cy="83844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181480" y="4667400"/>
              <a:ext cx="83844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V="1">
              <a:off x="5610240" y="4266720"/>
              <a:ext cx="1440" cy="83844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713640" y="52005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1211" name=""/>
          <p:cNvSpPr/>
          <p:nvPr/>
        </p:nvSpPr>
        <p:spPr>
          <a:xfrm>
            <a:off x="4572000" y="3886200"/>
            <a:ext cx="4572000" cy="2971800"/>
          </a:xfrm>
          <a:prstGeom prst="rect">
            <a:avLst/>
          </a:prstGeom>
          <a:solidFill>
            <a:srgbClr val="a7ccd9">
              <a:alpha val="50000"/>
            </a:srgbClr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889B-9851-479B-ACD7-D97AAF1A5EC4}" type="slidenum">
              <a:t>1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CD123F-5995-4800-9F71-8D81CC2C11B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Center Section as Box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60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anel [Box(X_AXIS)]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FileDisplay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anel [ ? ]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88ae"/>
                </a:solidFill>
                <a:latin typeface="Tahoma"/>
              </a:rPr>
              <a:t>Looks like vertical box floating in center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FileDisplay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grpSp>
        <p:nvGrpSpPr>
          <p:cNvPr id="1214" name=""/>
          <p:cNvGrpSpPr/>
          <p:nvPr/>
        </p:nvGrpSpPr>
        <p:grpSpPr>
          <a:xfrm>
            <a:off x="4724280" y="3276720"/>
            <a:ext cx="4295880" cy="3504960"/>
            <a:chOff x="4724280" y="3276720"/>
            <a:chExt cx="4295880" cy="3504960"/>
          </a:xfrm>
        </p:grpSpPr>
        <p:pic>
          <p:nvPicPr>
            <p:cNvPr id="1215" name="ftp4" descr=""/>
            <p:cNvPicPr/>
            <p:nvPr/>
          </p:nvPicPr>
          <p:blipFill>
            <a:blip r:embed="rId7"/>
            <a:stretch/>
          </p:blipFill>
          <p:spPr>
            <a:xfrm>
              <a:off x="4724280" y="3962520"/>
              <a:ext cx="4295880" cy="2813040"/>
            </a:xfrm>
            <a:prstGeom prst="rect">
              <a:avLst/>
            </a:prstGeom>
            <a:ln w="9360">
              <a:solidFill>
                <a:srgbClr val="545472"/>
              </a:solidFill>
              <a:miter/>
            </a:ln>
          </p:spPr>
        </p:pic>
        <p:sp>
          <p:nvSpPr>
            <p:cNvPr id="1216" name=""/>
            <p:cNvSpPr/>
            <p:nvPr/>
          </p:nvSpPr>
          <p:spPr>
            <a:xfrm>
              <a:off x="4753080" y="4019400"/>
              <a:ext cx="1752480" cy="2743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45472"/>
                  </a:solidFill>
                  <a:latin typeface="Courier New"/>
                </a:rPr>
                <a:t>FileDisplay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248600" y="4019400"/>
              <a:ext cx="1752480" cy="2743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45472"/>
                  </a:solidFill>
                  <a:latin typeface="Courier New"/>
                </a:rPr>
                <a:t>FileDisplay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 flipV="1">
              <a:off x="6870600" y="3990960"/>
              <a:ext cx="1800" cy="83808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 rot="16200000">
              <a:off x="6722640" y="41562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 flipV="1">
              <a:off x="6867360" y="5943600"/>
              <a:ext cx="1800" cy="83808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 rot="16200000">
              <a:off x="6719400" y="6108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707520" y="50133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707520" y="53942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6631200" y="32767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791680" y="3429000"/>
              <a:ext cx="228528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888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 flipH="1">
              <a:off x="5486400" y="3429000"/>
              <a:ext cx="228528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888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7696080" y="4667400"/>
              <a:ext cx="83844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 flipV="1">
              <a:off x="8124840" y="4266720"/>
              <a:ext cx="1440" cy="83844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181480" y="4667400"/>
              <a:ext cx="83844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V="1">
              <a:off x="5610240" y="4266720"/>
              <a:ext cx="1440" cy="83844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713640" y="52005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1232" name=""/>
          <p:cNvSpPr/>
          <p:nvPr/>
        </p:nvSpPr>
        <p:spPr>
          <a:xfrm>
            <a:off x="6600960" y="4800600"/>
            <a:ext cx="533160" cy="1143000"/>
          </a:xfrm>
          <a:prstGeom prst="rect">
            <a:avLst/>
          </a:prstGeom>
          <a:solidFill>
            <a:srgbClr val="8888ae">
              <a:alpha val="50000"/>
            </a:srgbClr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5C4F-94DB-4430-BD0B-0D21B31B9288}" type="slidenum">
              <a:t>1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D82CCC-90EA-4088-A308-B72FC1698DE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Center Section as Box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4190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anel [Box(X_AXIS)]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FileDisplay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Strut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Panel [ Box(Y_AXIS) ]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888ae"/>
                </a:solidFill>
                <a:latin typeface="Tahoma"/>
              </a:rPr>
              <a:t>Button(“&lt;-”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888ae"/>
                </a:solidFill>
                <a:latin typeface="Tahoma"/>
              </a:rPr>
              <a:t>Strut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888ae"/>
                </a:solidFill>
                <a:latin typeface="Tahoma"/>
              </a:rPr>
              <a:t>Button(“-&gt;”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88ae"/>
                </a:solidFill>
                <a:latin typeface="Tahoma"/>
              </a:rPr>
              <a:t>Strut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FileDisplay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grpSp>
        <p:nvGrpSpPr>
          <p:cNvPr id="1235" name=""/>
          <p:cNvGrpSpPr/>
          <p:nvPr/>
        </p:nvGrpSpPr>
        <p:grpSpPr>
          <a:xfrm>
            <a:off x="4724280" y="3276720"/>
            <a:ext cx="4295880" cy="3504960"/>
            <a:chOff x="4724280" y="3276720"/>
            <a:chExt cx="4295880" cy="3504960"/>
          </a:xfrm>
        </p:grpSpPr>
        <p:pic>
          <p:nvPicPr>
            <p:cNvPr id="1236" name="ftp4" descr=""/>
            <p:cNvPicPr/>
            <p:nvPr/>
          </p:nvPicPr>
          <p:blipFill>
            <a:blip r:embed="rId11"/>
            <a:stretch/>
          </p:blipFill>
          <p:spPr>
            <a:xfrm>
              <a:off x="4724280" y="3962520"/>
              <a:ext cx="4295880" cy="2813040"/>
            </a:xfrm>
            <a:prstGeom prst="rect">
              <a:avLst/>
            </a:prstGeom>
            <a:ln w="9360">
              <a:solidFill>
                <a:srgbClr val="545472"/>
              </a:solidFill>
              <a:miter/>
            </a:ln>
          </p:spPr>
        </p:pic>
        <p:sp>
          <p:nvSpPr>
            <p:cNvPr id="1237" name=""/>
            <p:cNvSpPr/>
            <p:nvPr/>
          </p:nvSpPr>
          <p:spPr>
            <a:xfrm>
              <a:off x="4753080" y="4019400"/>
              <a:ext cx="1752480" cy="2743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45472"/>
                  </a:solidFill>
                  <a:latin typeface="Courier New"/>
                </a:rPr>
                <a:t>FileDisplay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7248600" y="4019400"/>
              <a:ext cx="1752480" cy="2743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45472"/>
                  </a:solidFill>
                  <a:latin typeface="Courier New"/>
                </a:rPr>
                <a:t>FileDisplay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 flipV="1">
              <a:off x="6870600" y="3990960"/>
              <a:ext cx="1800" cy="83808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rot="16200000">
              <a:off x="6722640" y="41562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 flipV="1">
              <a:off x="6867360" y="5943600"/>
              <a:ext cx="1800" cy="83808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 rot="16200000">
              <a:off x="6719400" y="6108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707520" y="50133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707520" y="53942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631200" y="32767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791680" y="3429000"/>
              <a:ext cx="228528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888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 flipH="1">
              <a:off x="5486400" y="3429000"/>
              <a:ext cx="228528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888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7696080" y="4667400"/>
              <a:ext cx="83844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 flipV="1">
              <a:off x="8124840" y="4266720"/>
              <a:ext cx="1440" cy="83844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181480" y="4667400"/>
              <a:ext cx="83844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 flipV="1">
              <a:off x="5610240" y="4266720"/>
              <a:ext cx="1440" cy="83844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713640" y="52005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1253" name=""/>
          <p:cNvSpPr/>
          <p:nvPr/>
        </p:nvSpPr>
        <p:spPr>
          <a:xfrm>
            <a:off x="6600960" y="4800600"/>
            <a:ext cx="533160" cy="1143000"/>
          </a:xfrm>
          <a:prstGeom prst="rect">
            <a:avLst/>
          </a:prstGeom>
          <a:solidFill>
            <a:srgbClr val="8888ae">
              <a:alpha val="50000"/>
            </a:srgbClr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AB89-ECCC-45D9-AA12-D754BBDABEC8}" type="slidenum">
              <a:t>1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4C467F-F071-4973-A47A-2D58C406D01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Center Section as a GridBa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Draw lines between component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grpSp>
        <p:nvGrpSpPr>
          <p:cNvPr id="1256" name=""/>
          <p:cNvGrpSpPr/>
          <p:nvPr/>
        </p:nvGrpSpPr>
        <p:grpSpPr>
          <a:xfrm>
            <a:off x="4724280" y="3276720"/>
            <a:ext cx="4295880" cy="3504960"/>
            <a:chOff x="4724280" y="3276720"/>
            <a:chExt cx="4295880" cy="3504960"/>
          </a:xfrm>
        </p:grpSpPr>
        <p:pic>
          <p:nvPicPr>
            <p:cNvPr id="1257" name="ftp4" descr=""/>
            <p:cNvPicPr/>
            <p:nvPr/>
          </p:nvPicPr>
          <p:blipFill>
            <a:blip r:embed="rId3"/>
            <a:stretch/>
          </p:blipFill>
          <p:spPr>
            <a:xfrm>
              <a:off x="4724280" y="3962520"/>
              <a:ext cx="4295880" cy="2813040"/>
            </a:xfrm>
            <a:prstGeom prst="rect">
              <a:avLst/>
            </a:prstGeom>
            <a:ln w="9360">
              <a:solidFill>
                <a:srgbClr val="545472"/>
              </a:solidFill>
              <a:miter/>
            </a:ln>
          </p:spPr>
        </p:pic>
        <p:sp>
          <p:nvSpPr>
            <p:cNvPr id="1258" name=""/>
            <p:cNvSpPr/>
            <p:nvPr/>
          </p:nvSpPr>
          <p:spPr>
            <a:xfrm>
              <a:off x="4753080" y="4019400"/>
              <a:ext cx="1752480" cy="2743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45472"/>
                  </a:solidFill>
                  <a:latin typeface="Courier New"/>
                </a:rPr>
                <a:t>FileDisplay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7248600" y="4019400"/>
              <a:ext cx="1752480" cy="2743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45472"/>
                  </a:solidFill>
                  <a:latin typeface="Courier New"/>
                </a:rPr>
                <a:t>FileDisplay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V="1">
              <a:off x="6870600" y="3990960"/>
              <a:ext cx="1800" cy="83808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 rot="16200000">
              <a:off x="6722640" y="41562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 flipV="1">
              <a:off x="6867360" y="5943600"/>
              <a:ext cx="1800" cy="83808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rot="16200000">
              <a:off x="6719400" y="6108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707520" y="50133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707520" y="53942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631200" y="32767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791680" y="3429000"/>
              <a:ext cx="228528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888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H="1">
              <a:off x="5486400" y="3429000"/>
              <a:ext cx="228528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888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7696080" y="4667400"/>
              <a:ext cx="83844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V="1">
              <a:off x="8124840" y="4266720"/>
              <a:ext cx="1440" cy="83844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181480" y="4667400"/>
              <a:ext cx="83844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V="1">
              <a:off x="5610240" y="4266720"/>
              <a:ext cx="1440" cy="83844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713640" y="52005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1274" name=""/>
          <p:cNvSpPr/>
          <p:nvPr/>
        </p:nvSpPr>
        <p:spPr>
          <a:xfrm>
            <a:off x="6553080" y="3809880"/>
            <a:ext cx="0" cy="3048120"/>
          </a:xfrm>
          <a:prstGeom prst="line">
            <a:avLst/>
          </a:prstGeom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7162920" y="3809880"/>
            <a:ext cx="0" cy="3048120"/>
          </a:xfrm>
          <a:prstGeom prst="line">
            <a:avLst/>
          </a:prstGeom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4724280" y="5372280"/>
            <a:ext cx="4419720" cy="0"/>
          </a:xfrm>
          <a:prstGeom prst="line">
            <a:avLst/>
          </a:prstGeom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A10A-CC25-41C6-97B5-1BA73C446CE4}" type="slidenum">
              <a:t>1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6C3B21-181A-44D3-BAC9-E1E4FE7859D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Center Section as a GridBa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Label component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grpSp>
        <p:nvGrpSpPr>
          <p:cNvPr id="1279" name=""/>
          <p:cNvGrpSpPr/>
          <p:nvPr/>
        </p:nvGrpSpPr>
        <p:grpSpPr>
          <a:xfrm>
            <a:off x="4724280" y="3276720"/>
            <a:ext cx="4295880" cy="3504960"/>
            <a:chOff x="4724280" y="3276720"/>
            <a:chExt cx="4295880" cy="3504960"/>
          </a:xfrm>
        </p:grpSpPr>
        <p:pic>
          <p:nvPicPr>
            <p:cNvPr id="1280" name="ftp4" descr=""/>
            <p:cNvPicPr/>
            <p:nvPr/>
          </p:nvPicPr>
          <p:blipFill>
            <a:blip r:embed="rId3"/>
            <a:stretch/>
          </p:blipFill>
          <p:spPr>
            <a:xfrm>
              <a:off x="4724280" y="3962520"/>
              <a:ext cx="4295880" cy="2813040"/>
            </a:xfrm>
            <a:prstGeom prst="rect">
              <a:avLst/>
            </a:prstGeom>
            <a:ln w="9360">
              <a:solidFill>
                <a:srgbClr val="545472"/>
              </a:solidFill>
              <a:miter/>
            </a:ln>
          </p:spPr>
        </p:pic>
        <p:sp>
          <p:nvSpPr>
            <p:cNvPr id="1281" name=""/>
            <p:cNvSpPr/>
            <p:nvPr/>
          </p:nvSpPr>
          <p:spPr>
            <a:xfrm>
              <a:off x="4753080" y="4019400"/>
              <a:ext cx="1752480" cy="2743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45472"/>
                  </a:solidFill>
                  <a:latin typeface="Courier New"/>
                </a:rPr>
                <a:t>FileDisplay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7248600" y="4019400"/>
              <a:ext cx="1752480" cy="2743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45472"/>
                  </a:solidFill>
                  <a:latin typeface="Courier New"/>
                </a:rPr>
                <a:t>FileDisplay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V="1">
              <a:off x="6870600" y="3990960"/>
              <a:ext cx="1800" cy="83808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rot="16200000">
              <a:off x="6722640" y="41562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 flipV="1">
              <a:off x="6867360" y="5943600"/>
              <a:ext cx="1800" cy="83808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 rot="16200000">
              <a:off x="6719400" y="6108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6707520" y="50133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707520" y="53942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6631200" y="32767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791680" y="3429000"/>
              <a:ext cx="228528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888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 flipH="1">
              <a:off x="5486400" y="3429000"/>
              <a:ext cx="228528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888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7696080" y="4667400"/>
              <a:ext cx="83844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 flipV="1">
              <a:off x="8124840" y="4266720"/>
              <a:ext cx="1440" cy="83844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5181480" y="4667400"/>
              <a:ext cx="83844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 flipV="1">
              <a:off x="5610240" y="4266720"/>
              <a:ext cx="1440" cy="83844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713640" y="52005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1297" name=""/>
          <p:cNvSpPr/>
          <p:nvPr/>
        </p:nvSpPr>
        <p:spPr>
          <a:xfrm>
            <a:off x="6553080" y="3809880"/>
            <a:ext cx="0" cy="3048120"/>
          </a:xfrm>
          <a:prstGeom prst="line">
            <a:avLst/>
          </a:prstGeom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7162920" y="3809880"/>
            <a:ext cx="0" cy="3048120"/>
          </a:xfrm>
          <a:prstGeom prst="line">
            <a:avLst/>
          </a:prstGeom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4724280" y="5372280"/>
            <a:ext cx="4419720" cy="0"/>
          </a:xfrm>
          <a:prstGeom prst="line">
            <a:avLst/>
          </a:prstGeom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4802400" y="4114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7241040" y="4114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505920" y="4648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6505920" y="5638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1F69-4C96-4026-9E71-AB90384DF2F6}" type="slidenum">
              <a:t>1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F66D1C-698E-4E1D-A831-9EC4753F62F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Center Section as a GridBa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1305" name=""/>
          <p:cNvGrpSpPr/>
          <p:nvPr/>
        </p:nvGrpSpPr>
        <p:grpSpPr>
          <a:xfrm>
            <a:off x="4724280" y="3276720"/>
            <a:ext cx="4295880" cy="3504960"/>
            <a:chOff x="4724280" y="3276720"/>
            <a:chExt cx="4295880" cy="3504960"/>
          </a:xfrm>
        </p:grpSpPr>
        <p:pic>
          <p:nvPicPr>
            <p:cNvPr id="1306" name="ftp4" descr=""/>
            <p:cNvPicPr/>
            <p:nvPr/>
          </p:nvPicPr>
          <p:blipFill>
            <a:blip r:embed="rId2"/>
            <a:stretch/>
          </p:blipFill>
          <p:spPr>
            <a:xfrm>
              <a:off x="4724280" y="3962520"/>
              <a:ext cx="4295880" cy="2813040"/>
            </a:xfrm>
            <a:prstGeom prst="rect">
              <a:avLst/>
            </a:prstGeom>
            <a:ln w="9360">
              <a:solidFill>
                <a:srgbClr val="545472"/>
              </a:solidFill>
              <a:miter/>
            </a:ln>
          </p:spPr>
        </p:pic>
        <p:sp>
          <p:nvSpPr>
            <p:cNvPr id="1307" name=""/>
            <p:cNvSpPr/>
            <p:nvPr/>
          </p:nvSpPr>
          <p:spPr>
            <a:xfrm>
              <a:off x="4753080" y="4019400"/>
              <a:ext cx="1752480" cy="2743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45472"/>
                  </a:solidFill>
                  <a:latin typeface="Courier New"/>
                </a:rPr>
                <a:t>FileDisplay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7248600" y="4019400"/>
              <a:ext cx="1752480" cy="2743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45472"/>
                  </a:solidFill>
                  <a:latin typeface="Courier New"/>
                </a:rPr>
                <a:t>FileDisplay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 flipV="1">
              <a:off x="6870600" y="3990960"/>
              <a:ext cx="1800" cy="83808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 rot="16200000">
              <a:off x="6722640" y="41562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 flipV="1">
              <a:off x="6867360" y="5943600"/>
              <a:ext cx="1800" cy="83808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 rot="16200000">
              <a:off x="6719400" y="6108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707520" y="50133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707520" y="53942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631200" y="32767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791680" y="3429000"/>
              <a:ext cx="228528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888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 flipH="1">
              <a:off x="5486400" y="3429000"/>
              <a:ext cx="228528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888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7696080" y="4667400"/>
              <a:ext cx="83844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 flipV="1">
              <a:off x="8124840" y="4266720"/>
              <a:ext cx="1440" cy="83844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181480" y="4667400"/>
              <a:ext cx="83844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 flipV="1">
              <a:off x="5610240" y="4266720"/>
              <a:ext cx="1440" cy="83844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713640" y="52005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1323" name=""/>
          <p:cNvSpPr/>
          <p:nvPr/>
        </p:nvSpPr>
        <p:spPr>
          <a:xfrm>
            <a:off x="6553080" y="3809880"/>
            <a:ext cx="0" cy="3048120"/>
          </a:xfrm>
          <a:prstGeom prst="line">
            <a:avLst/>
          </a:prstGeom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7162920" y="3809880"/>
            <a:ext cx="0" cy="3048120"/>
          </a:xfrm>
          <a:prstGeom prst="line">
            <a:avLst/>
          </a:prstGeom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724280" y="5372280"/>
            <a:ext cx="4419720" cy="0"/>
          </a:xfrm>
          <a:prstGeom prst="line">
            <a:avLst/>
          </a:prstGeom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4802400" y="4114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7241040" y="4114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6505920" y="4648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6505920" y="5638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aphicFrame>
        <p:nvGraphicFramePr>
          <p:cNvPr id="1330" name=""/>
          <p:cNvGraphicFramePr/>
          <p:nvPr/>
        </p:nvGraphicFramePr>
        <p:xfrm>
          <a:off x="914400" y="1600200"/>
          <a:ext cx="3657600" cy="4381560"/>
        </p:xfrm>
        <a:graphic>
          <a:graphicData uri="http://schemas.openxmlformats.org/drawingml/2006/table">
            <a:tbl>
              <a:tblPr/>
              <a:tblGrid>
                <a:gridCol w="1600200"/>
                <a:gridCol w="457200"/>
                <a:gridCol w="533520"/>
                <a:gridCol w="533160"/>
                <a:gridCol w="533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ridx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ridy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ridw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ridh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fill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anchor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weightx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weighty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ipadx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inset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4792-6434-442C-A252-DB37ABD64578}" type="slidenum">
              <a:t>15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D9AD6F-05AC-498D-B0D5-C3C847BB7F2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Center Section as a GridBa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1332" name=""/>
          <p:cNvGrpSpPr/>
          <p:nvPr/>
        </p:nvGrpSpPr>
        <p:grpSpPr>
          <a:xfrm>
            <a:off x="4724280" y="3276720"/>
            <a:ext cx="4295880" cy="3504960"/>
            <a:chOff x="4724280" y="3276720"/>
            <a:chExt cx="4295880" cy="3504960"/>
          </a:xfrm>
        </p:grpSpPr>
        <p:pic>
          <p:nvPicPr>
            <p:cNvPr id="1333" name="ftp4" descr=""/>
            <p:cNvPicPr/>
            <p:nvPr/>
          </p:nvPicPr>
          <p:blipFill>
            <a:blip r:embed="rId2"/>
            <a:stretch/>
          </p:blipFill>
          <p:spPr>
            <a:xfrm>
              <a:off x="4724280" y="3962520"/>
              <a:ext cx="4295880" cy="2813040"/>
            </a:xfrm>
            <a:prstGeom prst="rect">
              <a:avLst/>
            </a:prstGeom>
            <a:ln w="9360">
              <a:solidFill>
                <a:srgbClr val="545472"/>
              </a:solidFill>
              <a:miter/>
            </a:ln>
          </p:spPr>
        </p:pic>
        <p:sp>
          <p:nvSpPr>
            <p:cNvPr id="1334" name=""/>
            <p:cNvSpPr/>
            <p:nvPr/>
          </p:nvSpPr>
          <p:spPr>
            <a:xfrm>
              <a:off x="4753080" y="4019400"/>
              <a:ext cx="1752480" cy="2743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45472"/>
                  </a:solidFill>
                  <a:latin typeface="Courier New"/>
                </a:rPr>
                <a:t>FileDisplay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7248600" y="4019400"/>
              <a:ext cx="1752480" cy="2743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45472"/>
                  </a:solidFill>
                  <a:latin typeface="Courier New"/>
                </a:rPr>
                <a:t>FileDisplay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 flipV="1">
              <a:off x="6870600" y="3990960"/>
              <a:ext cx="1800" cy="83808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 rot="16200000">
              <a:off x="6722640" y="41562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 flipV="1">
              <a:off x="6867360" y="5943600"/>
              <a:ext cx="1800" cy="83808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 rot="16200000">
              <a:off x="6719400" y="6108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6707520" y="50133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707520" y="53942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6631200" y="32767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791680" y="3429000"/>
              <a:ext cx="228528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888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 flipH="1">
              <a:off x="5486400" y="3429000"/>
              <a:ext cx="228528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888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7696080" y="4667400"/>
              <a:ext cx="83844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 flipV="1">
              <a:off x="8124840" y="4266720"/>
              <a:ext cx="1440" cy="83844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181480" y="4667400"/>
              <a:ext cx="83844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 flipV="1">
              <a:off x="5610240" y="4266720"/>
              <a:ext cx="1440" cy="83844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6713640" y="52005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1350" name=""/>
          <p:cNvSpPr/>
          <p:nvPr/>
        </p:nvSpPr>
        <p:spPr>
          <a:xfrm>
            <a:off x="6553080" y="3809880"/>
            <a:ext cx="0" cy="3048120"/>
          </a:xfrm>
          <a:prstGeom prst="line">
            <a:avLst/>
          </a:prstGeom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7162920" y="3809880"/>
            <a:ext cx="0" cy="3048120"/>
          </a:xfrm>
          <a:prstGeom prst="line">
            <a:avLst/>
          </a:prstGeom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4724280" y="5372280"/>
            <a:ext cx="4419720" cy="0"/>
          </a:xfrm>
          <a:prstGeom prst="line">
            <a:avLst/>
          </a:prstGeom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4802400" y="4114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7241040" y="4114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6505920" y="4648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505920" y="5638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aphicFrame>
        <p:nvGraphicFramePr>
          <p:cNvPr id="1357" name=""/>
          <p:cNvGraphicFramePr/>
          <p:nvPr/>
        </p:nvGraphicFramePr>
        <p:xfrm>
          <a:off x="914400" y="1600200"/>
          <a:ext cx="3657600" cy="4381560"/>
        </p:xfrm>
        <a:graphic>
          <a:graphicData uri="http://schemas.openxmlformats.org/drawingml/2006/table">
            <a:tbl>
              <a:tblPr/>
              <a:tblGrid>
                <a:gridCol w="1600200"/>
                <a:gridCol w="457200"/>
                <a:gridCol w="533520"/>
                <a:gridCol w="533160"/>
                <a:gridCol w="533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ridx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ridy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ridw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ridh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fill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anchor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weightx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weighty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ipadx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inset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8095-76B3-4587-915C-AC654516C27B}" type="slidenum">
              <a:t>15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04BDEE-2F6D-4D7C-84E5-0622E01A22B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Center Section as a GridBa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1359" name=""/>
          <p:cNvGrpSpPr/>
          <p:nvPr/>
        </p:nvGrpSpPr>
        <p:grpSpPr>
          <a:xfrm>
            <a:off x="4724280" y="3276720"/>
            <a:ext cx="4295880" cy="3504960"/>
            <a:chOff x="4724280" y="3276720"/>
            <a:chExt cx="4295880" cy="3504960"/>
          </a:xfrm>
        </p:grpSpPr>
        <p:pic>
          <p:nvPicPr>
            <p:cNvPr id="1360" name="ftp4" descr=""/>
            <p:cNvPicPr/>
            <p:nvPr/>
          </p:nvPicPr>
          <p:blipFill>
            <a:blip r:embed="rId2"/>
            <a:stretch/>
          </p:blipFill>
          <p:spPr>
            <a:xfrm>
              <a:off x="4724280" y="3962520"/>
              <a:ext cx="4295880" cy="2813040"/>
            </a:xfrm>
            <a:prstGeom prst="rect">
              <a:avLst/>
            </a:prstGeom>
            <a:ln w="9360">
              <a:solidFill>
                <a:srgbClr val="545472"/>
              </a:solidFill>
              <a:miter/>
            </a:ln>
          </p:spPr>
        </p:pic>
        <p:sp>
          <p:nvSpPr>
            <p:cNvPr id="1361" name=""/>
            <p:cNvSpPr/>
            <p:nvPr/>
          </p:nvSpPr>
          <p:spPr>
            <a:xfrm>
              <a:off x="4753080" y="4019400"/>
              <a:ext cx="1752480" cy="2743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45472"/>
                  </a:solidFill>
                  <a:latin typeface="Courier New"/>
                </a:rPr>
                <a:t>FileDisplay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7248600" y="4019400"/>
              <a:ext cx="1752480" cy="2743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45472"/>
                  </a:solidFill>
                  <a:latin typeface="Courier New"/>
                </a:rPr>
                <a:t>FileDisplay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 flipV="1">
              <a:off x="6870600" y="3990960"/>
              <a:ext cx="1800" cy="83808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 rot="16200000">
              <a:off x="6722640" y="41562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 flipV="1">
              <a:off x="6867360" y="5943600"/>
              <a:ext cx="1800" cy="83808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 rot="16200000">
              <a:off x="6719400" y="6108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6707520" y="50133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707520" y="53942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631200" y="32767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791680" y="3429000"/>
              <a:ext cx="228528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888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 flipH="1">
              <a:off x="5486400" y="3429000"/>
              <a:ext cx="228528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888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7696080" y="4667400"/>
              <a:ext cx="83844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 flipV="1">
              <a:off x="8124840" y="4266720"/>
              <a:ext cx="1440" cy="83844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181480" y="4667400"/>
              <a:ext cx="83844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V="1">
              <a:off x="5610240" y="4266720"/>
              <a:ext cx="1440" cy="83844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713640" y="52005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1377" name=""/>
          <p:cNvSpPr/>
          <p:nvPr/>
        </p:nvSpPr>
        <p:spPr>
          <a:xfrm>
            <a:off x="6553080" y="3809880"/>
            <a:ext cx="0" cy="3048120"/>
          </a:xfrm>
          <a:prstGeom prst="line">
            <a:avLst/>
          </a:prstGeom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7162920" y="3809880"/>
            <a:ext cx="0" cy="3048120"/>
          </a:xfrm>
          <a:prstGeom prst="line">
            <a:avLst/>
          </a:prstGeom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4724280" y="5372280"/>
            <a:ext cx="4419720" cy="0"/>
          </a:xfrm>
          <a:prstGeom prst="line">
            <a:avLst/>
          </a:prstGeom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4802400" y="4114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7241040" y="4114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505920" y="4648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6505920" y="5638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aphicFrame>
        <p:nvGraphicFramePr>
          <p:cNvPr id="1384" name=""/>
          <p:cNvGraphicFramePr/>
          <p:nvPr/>
        </p:nvGraphicFramePr>
        <p:xfrm>
          <a:off x="914400" y="1600200"/>
          <a:ext cx="3657600" cy="4381560"/>
        </p:xfrm>
        <a:graphic>
          <a:graphicData uri="http://schemas.openxmlformats.org/drawingml/2006/table">
            <a:tbl>
              <a:tblPr/>
              <a:tblGrid>
                <a:gridCol w="1600200"/>
                <a:gridCol w="457200"/>
                <a:gridCol w="533520"/>
                <a:gridCol w="533160"/>
                <a:gridCol w="533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ridx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ridy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ridw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ridh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fill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N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N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anchor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N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weightx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weighty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ipadx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inset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05A7-1C9D-47D3-8799-0223F01B1391}" type="slidenum">
              <a:t>15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EB3354-27AB-48C3-9698-6DC93604D8E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Center Section as a GridBa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1386" name=""/>
          <p:cNvGrpSpPr/>
          <p:nvPr/>
        </p:nvGrpSpPr>
        <p:grpSpPr>
          <a:xfrm>
            <a:off x="4724280" y="3276720"/>
            <a:ext cx="4295880" cy="3504960"/>
            <a:chOff x="4724280" y="3276720"/>
            <a:chExt cx="4295880" cy="3504960"/>
          </a:xfrm>
        </p:grpSpPr>
        <p:pic>
          <p:nvPicPr>
            <p:cNvPr id="1387" name="ftp4" descr=""/>
            <p:cNvPicPr/>
            <p:nvPr/>
          </p:nvPicPr>
          <p:blipFill>
            <a:blip r:embed="rId2"/>
            <a:stretch/>
          </p:blipFill>
          <p:spPr>
            <a:xfrm>
              <a:off x="4724280" y="3962520"/>
              <a:ext cx="4295880" cy="2813040"/>
            </a:xfrm>
            <a:prstGeom prst="rect">
              <a:avLst/>
            </a:prstGeom>
            <a:ln w="9360">
              <a:solidFill>
                <a:srgbClr val="545472"/>
              </a:solidFill>
              <a:miter/>
            </a:ln>
          </p:spPr>
        </p:pic>
        <p:sp>
          <p:nvSpPr>
            <p:cNvPr id="1388" name=""/>
            <p:cNvSpPr/>
            <p:nvPr/>
          </p:nvSpPr>
          <p:spPr>
            <a:xfrm>
              <a:off x="4753080" y="4019400"/>
              <a:ext cx="1752480" cy="2743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45472"/>
                  </a:solidFill>
                  <a:latin typeface="Courier New"/>
                </a:rPr>
                <a:t>FileDisplay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7248600" y="4019400"/>
              <a:ext cx="1752480" cy="2743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45472"/>
                  </a:solidFill>
                  <a:latin typeface="Courier New"/>
                </a:rPr>
                <a:t>FileDisplay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 flipV="1">
              <a:off x="6870600" y="3990960"/>
              <a:ext cx="1800" cy="83808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 rot="16200000">
              <a:off x="6722640" y="41562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 flipV="1">
              <a:off x="6867360" y="5943600"/>
              <a:ext cx="1800" cy="83808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 rot="16200000">
              <a:off x="6719400" y="6108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707520" y="50133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707520" y="53942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631200" y="32767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791680" y="3429000"/>
              <a:ext cx="228528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888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 flipH="1">
              <a:off x="5486400" y="3429000"/>
              <a:ext cx="228528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888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7696080" y="4667400"/>
              <a:ext cx="83844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V="1">
              <a:off x="8124840" y="4266720"/>
              <a:ext cx="1440" cy="83844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181480" y="4667400"/>
              <a:ext cx="83844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 flipV="1">
              <a:off x="5610240" y="4266720"/>
              <a:ext cx="1440" cy="83844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6713640" y="52005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1404" name=""/>
          <p:cNvSpPr/>
          <p:nvPr/>
        </p:nvSpPr>
        <p:spPr>
          <a:xfrm>
            <a:off x="6553080" y="3809880"/>
            <a:ext cx="0" cy="3048120"/>
          </a:xfrm>
          <a:prstGeom prst="line">
            <a:avLst/>
          </a:prstGeom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7162920" y="3809880"/>
            <a:ext cx="0" cy="3048120"/>
          </a:xfrm>
          <a:prstGeom prst="line">
            <a:avLst/>
          </a:prstGeom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4724280" y="5372280"/>
            <a:ext cx="4419720" cy="0"/>
          </a:xfrm>
          <a:prstGeom prst="line">
            <a:avLst/>
          </a:prstGeom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4802400" y="4114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7241040" y="4114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6505920" y="4648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6505920" y="5638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aphicFrame>
        <p:nvGraphicFramePr>
          <p:cNvPr id="1411" name=""/>
          <p:cNvGraphicFramePr/>
          <p:nvPr/>
        </p:nvGraphicFramePr>
        <p:xfrm>
          <a:off x="914400" y="1600200"/>
          <a:ext cx="3657600" cy="4381560"/>
        </p:xfrm>
        <a:graphic>
          <a:graphicData uri="http://schemas.openxmlformats.org/drawingml/2006/table">
            <a:tbl>
              <a:tblPr/>
              <a:tblGrid>
                <a:gridCol w="1600200"/>
                <a:gridCol w="457200"/>
                <a:gridCol w="533520"/>
                <a:gridCol w="533160"/>
                <a:gridCol w="533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ridx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ridy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ridw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ridh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fill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N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N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anchor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N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weightx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weighty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ipadx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ipady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inset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9559-D16B-4EBA-B37D-E88CF24A66E0}" type="slidenum">
              <a:t>15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8C32AE-FE99-4BE5-9E98-20849564C0B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Center Section as a GridBa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1413" name=""/>
          <p:cNvGrpSpPr/>
          <p:nvPr/>
        </p:nvGrpSpPr>
        <p:grpSpPr>
          <a:xfrm>
            <a:off x="4724280" y="3276720"/>
            <a:ext cx="4295880" cy="3504960"/>
            <a:chOff x="4724280" y="3276720"/>
            <a:chExt cx="4295880" cy="3504960"/>
          </a:xfrm>
        </p:grpSpPr>
        <p:pic>
          <p:nvPicPr>
            <p:cNvPr id="1414" name="ftp4" descr=""/>
            <p:cNvPicPr/>
            <p:nvPr/>
          </p:nvPicPr>
          <p:blipFill>
            <a:blip r:embed="rId2"/>
            <a:stretch/>
          </p:blipFill>
          <p:spPr>
            <a:xfrm>
              <a:off x="4724280" y="3962520"/>
              <a:ext cx="4295880" cy="2813040"/>
            </a:xfrm>
            <a:prstGeom prst="rect">
              <a:avLst/>
            </a:prstGeom>
            <a:ln w="9360">
              <a:solidFill>
                <a:srgbClr val="545472"/>
              </a:solidFill>
              <a:miter/>
            </a:ln>
          </p:spPr>
        </p:pic>
        <p:sp>
          <p:nvSpPr>
            <p:cNvPr id="1415" name=""/>
            <p:cNvSpPr/>
            <p:nvPr/>
          </p:nvSpPr>
          <p:spPr>
            <a:xfrm>
              <a:off x="4753080" y="4019400"/>
              <a:ext cx="1752480" cy="2743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45472"/>
                  </a:solidFill>
                  <a:latin typeface="Courier New"/>
                </a:rPr>
                <a:t>FileDisplay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7248600" y="4019400"/>
              <a:ext cx="1752480" cy="2743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45472"/>
                  </a:solidFill>
                  <a:latin typeface="Courier New"/>
                </a:rPr>
                <a:t>FileDisplay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V="1">
              <a:off x="6870600" y="3990960"/>
              <a:ext cx="1800" cy="83808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 rot="16200000">
              <a:off x="6722640" y="41562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 flipV="1">
              <a:off x="6867360" y="5943600"/>
              <a:ext cx="1800" cy="83808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 rot="16200000">
              <a:off x="6719400" y="6108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6707520" y="50133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707520" y="53942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6631200" y="32767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888ae"/>
                  </a:solidFill>
                  <a:latin typeface="Courier New"/>
                </a:rPr>
                <a:t>=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791680" y="3429000"/>
              <a:ext cx="228528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888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 flipH="1">
              <a:off x="5486400" y="3429000"/>
              <a:ext cx="228528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888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7696080" y="4667400"/>
              <a:ext cx="83844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 flipV="1">
              <a:off x="8124840" y="4266720"/>
              <a:ext cx="1440" cy="83844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181480" y="4667400"/>
              <a:ext cx="838440" cy="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 flipV="1">
              <a:off x="5610240" y="4266720"/>
              <a:ext cx="1440" cy="838440"/>
            </a:xfrm>
            <a:prstGeom prst="line">
              <a:avLst/>
            </a:prstGeom>
            <a:ln w="9360">
              <a:solidFill>
                <a:srgbClr val="888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6713640" y="52005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888ae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1431" name=""/>
          <p:cNvSpPr/>
          <p:nvPr/>
        </p:nvSpPr>
        <p:spPr>
          <a:xfrm>
            <a:off x="6553080" y="3809880"/>
            <a:ext cx="0" cy="3048120"/>
          </a:xfrm>
          <a:prstGeom prst="line">
            <a:avLst/>
          </a:prstGeom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7162920" y="3809880"/>
            <a:ext cx="0" cy="3048120"/>
          </a:xfrm>
          <a:prstGeom prst="line">
            <a:avLst/>
          </a:prstGeom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4724280" y="5372280"/>
            <a:ext cx="4419720" cy="0"/>
          </a:xfrm>
          <a:prstGeom prst="line">
            <a:avLst/>
          </a:prstGeom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4802400" y="4114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7241040" y="4114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6505920" y="4648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6505920" y="5638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aphicFrame>
        <p:nvGraphicFramePr>
          <p:cNvPr id="1438" name=""/>
          <p:cNvGraphicFramePr/>
          <p:nvPr/>
        </p:nvGraphicFramePr>
        <p:xfrm>
          <a:off x="914400" y="1600200"/>
          <a:ext cx="3657600" cy="4381560"/>
        </p:xfrm>
        <a:graphic>
          <a:graphicData uri="http://schemas.openxmlformats.org/drawingml/2006/table">
            <a:tbl>
              <a:tblPr/>
              <a:tblGrid>
                <a:gridCol w="1600200"/>
                <a:gridCol w="457200"/>
                <a:gridCol w="533520"/>
                <a:gridCol w="533160"/>
                <a:gridCol w="533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ridx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ridy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ridw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ridh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fill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N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N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anchor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N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weightx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weighty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ipadx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ipady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inset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907D-D89D-4A5C-B5CF-F1320AE3D421}" type="slidenum">
              <a:t>15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9FE17D-8FC7-4381-80D1-A3E5E511EFF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UI Sin #3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ssuming One Languag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How about German?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78" name="sin3b" descr=""/>
          <p:cNvPicPr/>
          <p:nvPr/>
        </p:nvPicPr>
        <p:blipFill>
          <a:blip r:embed="rId3"/>
          <a:stretch/>
        </p:blipFill>
        <p:spPr>
          <a:xfrm>
            <a:off x="2857680" y="3173400"/>
            <a:ext cx="3427200" cy="2541600"/>
          </a:xfrm>
          <a:prstGeom prst="rect">
            <a:avLst/>
          </a:prstGeom>
          <a:ln w="9360">
            <a:solidFill>
              <a:srgbClr val="545472"/>
            </a:solidFill>
            <a:miter/>
          </a:ln>
        </p:spPr>
      </p:pic>
      <p:sp>
        <p:nvSpPr>
          <p:cNvPr id="179" name=""/>
          <p:cNvSpPr/>
          <p:nvPr/>
        </p:nvSpPr>
        <p:spPr>
          <a:xfrm>
            <a:off x="1790280" y="5729400"/>
            <a:ext cx="556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(Uh oh… “Wieder” means “again”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716A-3CA1-4360-8C83-1F1EC82FCB0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B5548D-2DBF-450C-A0EC-9AA69C4AAD4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Quick Refere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440" name=""/>
          <p:cNvGraphicFramePr/>
          <p:nvPr/>
        </p:nvGraphicFramePr>
        <p:xfrm>
          <a:off x="1371600" y="1905120"/>
          <a:ext cx="7086600" cy="4127400"/>
        </p:xfrm>
        <a:graphic>
          <a:graphicData uri="http://schemas.openxmlformats.org/drawingml/2006/table">
            <a:tbl>
              <a:tblPr/>
              <a:tblGrid>
                <a:gridCol w="2362320"/>
                <a:gridCol w="236196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Nam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Us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888ae"/>
                          </a:solidFill>
                          <a:latin typeface="Tahoma"/>
                        </a:rPr>
                        <a:t>Respect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FlowLayout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Comps flow across lin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Pref siz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BorderLayout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Lock edge comp at height/width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N/S – pref height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E/W – pref width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ridLayout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Adjacent comps same siz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N/A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CardLayout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One at a time, tabs, wizard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N/A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51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BoxLayout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One row/col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Pref, min, max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51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ridBagLayout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eneral, complex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Pref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3DCB-8901-4251-9635-2C31F424F1B3}" type="slidenum">
              <a:t>16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00D987-1224-4EF8-B40A-AFE72727991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45472"/>
                </a:solidFill>
                <a:latin typeface="Tahoma"/>
              </a:rPr>
              <a:t>Always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use Layout Manager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 hunt non-users for sport</a:t>
            </a:r>
            <a:br>
              <a:rPr sz="2800"/>
            </a:b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Avoid Big Bad Evil GridBagLayou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Use simpler nesting layout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C44F-77D2-460E-8E3D-38C07C73BBFD}" type="slidenum">
              <a:t>1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A034DA-70A1-461A-A9D9-F5D987BBE0C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Full Artic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Updated article will be available soon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Effective Layout Management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gn up for “Scott’s Java News” 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http://javadude.com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71D0-266E-488E-906C-CF4D3AEA2CF1}" type="slidenum">
              <a:t>1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A1DD55-41B6-484B-B271-E06D5E68754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ditional Layout Detai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ustom Layout Manager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’m working on a tutoria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Layout Explorer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Layout Managers for JavaServer Page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9C6F-72E9-42C9-874B-1558FBFB1CFE}" type="slidenum">
              <a:t>1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357B0E-1879-462E-A471-238F1C53C39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hat Is a Layout Manager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Algorithm for sizing/positioning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trategy pattern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Reusabl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Built for nesting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0DC6-5BBD-4C75-BF70-310189C19B8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CA2A8E-7E35-4C86-8072-3963254EDE2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ayout Manager Interac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Layout manager sizes/positions a Container’s component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ould contain other Container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Repeat with children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CFC3-6734-40EB-A6B1-2636F1A5E1E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CCA59C-A74F-45CF-B3C6-4FDFC3EAC34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ayout Manager Interaction Analog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World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ize/position into continent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Size/position into countrie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ze/position into states/provinces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ze/position into cities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Each level is “simple”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Keeps complexity lower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2999-2C10-4AB8-9639-D964A508441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E61F8A-AF55-4A67-9181-B99D62A6F9D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hy You’re He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0560" y="2362320"/>
            <a:ext cx="73152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o learn </a:t>
            </a:r>
            <a:r>
              <a:rPr b="0" lang="en-US" sz="3200" spc="-1" strike="noStrike">
                <a:solidFill>
                  <a:srgbClr val="8888ae"/>
                </a:solidFill>
                <a:latin typeface="Tahoma"/>
              </a:rPr>
              <a:t>why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you need layout managers, and learn how use them </a:t>
            </a:r>
            <a:r>
              <a:rPr b="0" lang="en-US" sz="3200" spc="-1" strike="noStrike">
                <a:solidFill>
                  <a:srgbClr val="8888ae"/>
                </a:solidFill>
                <a:latin typeface="Tahoma"/>
              </a:rPr>
              <a:t>effectively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990720" y="1816200"/>
            <a:ext cx="7315200" cy="3047760"/>
          </a:xfrm>
          <a:custGeom>
            <a:avLst/>
            <a:gdLst/>
            <a:ahLst/>
            <a:rect l="l" t="t" r="r" b="b"/>
            <a:pathLst>
              <a:path w="4800" h="1968">
                <a:moveTo>
                  <a:pt x="0" y="1968"/>
                </a:moveTo>
                <a:lnTo>
                  <a:pt x="0" y="0"/>
                </a:lnTo>
                <a:lnTo>
                  <a:pt x="4800" y="0"/>
                </a:lnTo>
              </a:path>
            </a:pathLst>
          </a:custGeom>
          <a:noFill/>
          <a:ln w="19080">
            <a:solidFill>
              <a:srgbClr val="898d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4366-15AB-492C-8AF2-A58D474C62F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68C5A2-AC03-4652-AA27-B86C3EC3821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7 </a:t>
            </a:r>
            <a:r>
              <a:rPr b="0" lang="en-US" sz="4400" spc="-1" strike="noStrike" u="sng">
                <a:solidFill>
                  <a:srgbClr val="660066"/>
                </a:solidFill>
                <a:uFillTx/>
                <a:latin typeface="Tahoma"/>
              </a:rPr>
              <a:t>+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2 Ru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e mind likes to deal with </a:t>
            </a:r>
            <a:r>
              <a:rPr b="0" lang="en-US" sz="3200" spc="-1" strike="noStrike">
                <a:solidFill>
                  <a:srgbClr val="8888ae"/>
                </a:solidFill>
                <a:latin typeface="Tahoma"/>
              </a:rPr>
              <a:t>at most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five to nine </a:t>
            </a:r>
            <a:r>
              <a:rPr b="0" lang="en-US" sz="3200" spc="-1" strike="noStrike">
                <a:solidFill>
                  <a:srgbClr val="8888ae"/>
                </a:solidFill>
                <a:latin typeface="Tahoma"/>
              </a:rPr>
              <a:t>distinct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items at onc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ree or four after happy hour…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s is why w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Divide and conquer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lassify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Delegat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4B46-6F24-4C63-BB96-EB563AD394C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8F1A91-1EFE-4B92-942E-905C1EEC4CC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7 </a:t>
            </a:r>
            <a:r>
              <a:rPr b="0" lang="en-US" sz="4400" spc="-1" strike="noStrike" u="sng">
                <a:solidFill>
                  <a:srgbClr val="660066"/>
                </a:solidFill>
                <a:uFillTx/>
                <a:latin typeface="Tahoma"/>
              </a:rPr>
              <a:t>+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2 Ru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Most GUIs have many more than nine component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Difficult to organize all at onc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Nested layouts simplify!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7E6F-4E1A-4549-B7DE-5E2E0E93B18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E88BC5-C2B6-44FA-AD1D-DFA377331CB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UI Design Step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Draw a picture!!!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Annotate with resizing behavior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Determine appropriate layout manager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Implemen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GUI Builder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By hand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D7B9-CABF-4B61-BBB7-170BE330EAE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600589-26D0-4A84-9DD8-1612C957699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UI Builders Are Your Friend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Real programmers write GUIs by hand”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Bah!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Remember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Real programmers write in assembler” ?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A picture is worth a hundred lines of cod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E239-4BB6-4A28-8321-9EC95A01538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AC6E49-EF56-4E19-9E13-CB351D294FE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UI Builders Are Your Friend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Abstract GUI code like 3</a:t>
            </a:r>
            <a:r>
              <a:rPr b="0" lang="en-US" sz="3200" spc="-1" strike="noStrike" baseline="30000">
                <a:solidFill>
                  <a:srgbClr val="545472"/>
                </a:solidFill>
                <a:latin typeface="Tahoma"/>
              </a:rPr>
              <a:t>rd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generation languages abstract assembler cod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Easier implementation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Easier maintenanc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NOT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45472"/>
                </a:solidFill>
                <a:latin typeface="Tahoma"/>
              </a:rPr>
              <a:t>GUI builders are </a:t>
            </a:r>
            <a:r>
              <a:rPr b="0" i="1" lang="en-US" sz="2800" spc="-1" strike="noStrike">
                <a:solidFill>
                  <a:srgbClr val="8888ae"/>
                </a:solidFill>
                <a:latin typeface="Tahoma"/>
              </a:rPr>
              <a:t>not</a:t>
            </a:r>
            <a:r>
              <a:rPr b="0" i="1" lang="en-US" sz="2800" spc="-1" strike="noStrike">
                <a:solidFill>
                  <a:srgbClr val="545472"/>
                </a:solidFill>
                <a:latin typeface="Tahoma"/>
              </a:rPr>
              <a:t> design tools!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A03F-71F1-4760-B7B4-24A12CDE4A7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2E4CE9-2F32-4EA1-BB08-131E553D077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onent Preferred Siz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45472"/>
                </a:solidFill>
                <a:latin typeface="Tahoma"/>
              </a:rPr>
              <a:t>“</a:t>
            </a:r>
            <a:r>
              <a:rPr b="0" i="1" lang="en-US" sz="3200" spc="-1" strike="noStrike">
                <a:solidFill>
                  <a:srgbClr val="545472"/>
                </a:solidFill>
                <a:latin typeface="Tahoma"/>
              </a:rPr>
              <a:t>If I had </a:t>
            </a:r>
            <a:r>
              <a:rPr b="0" i="1" lang="en-US" sz="3200" spc="-1" strike="noStrike">
                <a:solidFill>
                  <a:srgbClr val="8888ae"/>
                </a:solidFill>
                <a:latin typeface="Tahoma"/>
              </a:rPr>
              <a:t>infinite</a:t>
            </a:r>
            <a:r>
              <a:rPr b="0" i="1" lang="en-US" sz="3200" spc="-1" strike="noStrike">
                <a:solidFill>
                  <a:srgbClr val="545472"/>
                </a:solidFill>
                <a:latin typeface="Tahoma"/>
              </a:rPr>
              <a:t> screen space, how big would I </a:t>
            </a:r>
            <a:r>
              <a:rPr b="0" i="1" lang="en-US" sz="3200" spc="-1" strike="noStrike">
                <a:solidFill>
                  <a:srgbClr val="8888ae"/>
                </a:solidFill>
                <a:latin typeface="Tahoma"/>
              </a:rPr>
              <a:t>like</a:t>
            </a:r>
            <a:r>
              <a:rPr b="0" i="1" lang="en-US" sz="3200" spc="-1" strike="noStrike">
                <a:solidFill>
                  <a:srgbClr val="545472"/>
                </a:solidFill>
                <a:latin typeface="Tahoma"/>
              </a:rPr>
              <a:t> to be?”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Layout managers can respect </a:t>
            </a:r>
            <a:r>
              <a:rPr b="0" lang="en-US" sz="3200" spc="-1" strike="noStrike">
                <a:solidFill>
                  <a:srgbClr val="8888ae"/>
                </a:solidFill>
                <a:latin typeface="Tahoma"/>
              </a:rPr>
              <a:t>or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ignor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ould respect part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hould be documented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8684-D434-48F4-935A-B84302610AB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1378F0-C4F5-42E4-A20C-AB005F1E244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etPreferredSize(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alled by layout manager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Returns pointer to Dimension objec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ublic width, height field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Is a </a:t>
            </a:r>
            <a:r>
              <a:rPr b="0" lang="en-US" sz="3200" spc="-1" strike="noStrike">
                <a:solidFill>
                  <a:srgbClr val="8888ae"/>
                </a:solidFill>
                <a:latin typeface="Tahoma"/>
              </a:rPr>
              <a:t>request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, not a demand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905040" y="1843200"/>
            <a:ext cx="76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c7df"/>
                </a:solidFill>
                <a:latin typeface="Courier New"/>
              </a:rPr>
              <a:t>public</a:t>
            </a:r>
            <a:r>
              <a:rPr b="1" lang="en-US" sz="2800" spc="-1" strike="noStrike">
                <a:solidFill>
                  <a:srgbClr val="545472"/>
                </a:solidFill>
                <a:latin typeface="Courier New"/>
              </a:rPr>
              <a:t> Dimension getPreferredSize(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DED2-82DD-45EB-8E58-9A34C15C7A94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522A92-2AAF-4B4F-94B0-4AB2615A745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utton preferredSize(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What size would a Button prefer?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Big enough for text + border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an vary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Font siz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ext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Border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6D70-401A-4B4C-B07F-F88EA9A1C4D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06B13E-D52E-46F1-B9FF-00E6413377D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ever Call setPreferredSize()!!!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referred Size could change at runtim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tPreferredSize() locks it!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If you want to change preferred siz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Override getPreferredSize(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Decorate the component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5484-AF13-4CCB-9B8B-2CE61BB18BB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3F9DEA-4B68-410C-B282-D8AB90A48A1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aximum and Minimum Siz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45472"/>
                </a:solidFill>
                <a:latin typeface="Tahoma"/>
              </a:rPr>
              <a:t>“</a:t>
            </a:r>
            <a:r>
              <a:rPr b="0" i="1" lang="en-US" sz="3200" spc="-1" strike="noStrike">
                <a:solidFill>
                  <a:srgbClr val="545472"/>
                </a:solidFill>
                <a:latin typeface="Tahoma"/>
              </a:rPr>
              <a:t>If I had </a:t>
            </a:r>
            <a:r>
              <a:rPr b="0" i="1" lang="en-US" sz="3200" spc="-1" strike="noStrike">
                <a:solidFill>
                  <a:srgbClr val="8888ae"/>
                </a:solidFill>
                <a:latin typeface="Tahoma"/>
              </a:rPr>
              <a:t>infinite</a:t>
            </a:r>
            <a:r>
              <a:rPr b="0" i="1" lang="en-US" sz="3200" spc="-1" strike="noStrike">
                <a:solidFill>
                  <a:srgbClr val="545472"/>
                </a:solidFill>
                <a:latin typeface="Tahoma"/>
              </a:rPr>
              <a:t> screen space, what’s the largest/smallest I would </a:t>
            </a:r>
            <a:r>
              <a:rPr b="0" i="1" lang="en-US" sz="3200" spc="-1" strike="noStrike">
                <a:solidFill>
                  <a:srgbClr val="8888ae"/>
                </a:solidFill>
                <a:latin typeface="Tahoma"/>
              </a:rPr>
              <a:t>like</a:t>
            </a:r>
            <a:r>
              <a:rPr b="0" i="1" lang="en-US" sz="3200" spc="-1" strike="noStrike">
                <a:solidFill>
                  <a:srgbClr val="545472"/>
                </a:solidFill>
                <a:latin typeface="Tahoma"/>
              </a:rPr>
              <a:t> to be?”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914400" y="2971800"/>
            <a:ext cx="75438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c7df"/>
                </a:solidFill>
                <a:latin typeface="Courier New"/>
              </a:rPr>
              <a:t>public</a:t>
            </a:r>
            <a:r>
              <a:rPr b="1" lang="en-US" sz="2800" spc="-1" strike="noStrike">
                <a:solidFill>
                  <a:srgbClr val="545472"/>
                </a:solidFill>
                <a:latin typeface="Courier New"/>
              </a:rPr>
              <a:t> Dimension getMinimumSize(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c7df"/>
                </a:solidFill>
                <a:latin typeface="Courier New"/>
              </a:rPr>
              <a:t>public</a:t>
            </a:r>
            <a:r>
              <a:rPr b="1" lang="en-US" sz="2800" spc="-1" strike="noStrike">
                <a:solidFill>
                  <a:srgbClr val="545472"/>
                </a:solidFill>
                <a:latin typeface="Courier New"/>
              </a:rPr>
              <a:t> Dimension getMaximumSize(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76E8-1F84-4051-8C34-96074E3B469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284774-ECD5-4C53-9C7F-2E79E40C1EF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earning Objectiv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Understand </a:t>
            </a:r>
            <a:r>
              <a:rPr b="0" lang="en-US" sz="3200" spc="-1" strike="noStrike">
                <a:solidFill>
                  <a:srgbClr val="8888ae"/>
                </a:solidFill>
                <a:latin typeface="Tahoma"/>
              </a:rPr>
              <a:t>why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layout managers are necessary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Recognize standard layout manager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Recognize layout nesting pattern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CAF6-8949-4B51-8D8D-E34E4D236F2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7EB166-6295-49BF-8BCD-DCC0D843AF3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tainer Preferred Siz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45472"/>
                </a:solidFill>
                <a:latin typeface="Tahoma"/>
              </a:rPr>
              <a:t>“</a:t>
            </a:r>
            <a:r>
              <a:rPr b="0" i="1" lang="en-US" sz="3200" spc="-1" strike="noStrike">
                <a:solidFill>
                  <a:srgbClr val="545472"/>
                </a:solidFill>
                <a:latin typeface="Tahoma"/>
              </a:rPr>
              <a:t>If I had </a:t>
            </a:r>
            <a:r>
              <a:rPr b="0" i="1" lang="en-US" sz="3200" spc="-1" strike="noStrike">
                <a:solidFill>
                  <a:srgbClr val="8888ae"/>
                </a:solidFill>
                <a:latin typeface="Tahoma"/>
              </a:rPr>
              <a:t>infinite</a:t>
            </a:r>
            <a:r>
              <a:rPr b="0" i="1" lang="en-US" sz="3200" spc="-1" strike="noStrike">
                <a:solidFill>
                  <a:srgbClr val="545472"/>
                </a:solidFill>
                <a:latin typeface="Tahoma"/>
              </a:rPr>
              <a:t> screen space, how big would I </a:t>
            </a:r>
            <a:r>
              <a:rPr b="0" i="1" lang="en-US" sz="3200" spc="-1" strike="noStrike">
                <a:solidFill>
                  <a:srgbClr val="8888ae"/>
                </a:solidFill>
                <a:latin typeface="Tahoma"/>
              </a:rPr>
              <a:t>like</a:t>
            </a:r>
            <a:r>
              <a:rPr b="0" i="1" lang="en-US" sz="3200" spc="-1" strike="noStrike">
                <a:solidFill>
                  <a:srgbClr val="545472"/>
                </a:solidFill>
                <a:latin typeface="Tahoma"/>
              </a:rPr>
              <a:t> to be?”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Basic rule: make all contained components happy!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milar for maximum and minimum size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10CE-F4C9-47C7-943E-3A1C07033354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30999D-0156-4317-9F35-AEB29F0B04C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Standard Layout Manager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lowLayou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BorderLayou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GridLayou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ardLayou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BoxLayou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GridBagLayou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295280" y="4495680"/>
            <a:ext cx="4724640" cy="762120"/>
            <a:chOff x="1295280" y="4495680"/>
            <a:chExt cx="4724640" cy="762120"/>
          </a:xfrm>
        </p:grpSpPr>
        <p:sp>
          <p:nvSpPr>
            <p:cNvPr id="213" name=""/>
            <p:cNvSpPr/>
            <p:nvPr/>
          </p:nvSpPr>
          <p:spPr>
            <a:xfrm>
              <a:off x="1295280" y="4495680"/>
              <a:ext cx="472464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341000" y="4595760"/>
              <a:ext cx="457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45472"/>
                  </a:solidFill>
                  <a:latin typeface="Arial"/>
                </a:rPr>
                <a:t>Big Bad Evil GridBagLayout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9769-3AF1-4FA8-8A14-FF6BF16922B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EE7AE1-E70F-4183-AE7E-B04A73DD289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lowLayou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Respect preferredSize of components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Lay out as many components as possible per row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tart new row(s) if needed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If all components can't fit, </a:t>
            </a:r>
            <a:r>
              <a:rPr b="0" lang="en-US" sz="3200" spc="-1" strike="noStrike">
                <a:solidFill>
                  <a:srgbClr val="8888ae"/>
                </a:solidFill>
                <a:latin typeface="Tahoma"/>
              </a:rPr>
              <a:t>too bad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!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E7CF-0FDA-4F59-9E9F-20379E609E8E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6AC073-F8CA-4F1A-8D2D-AC3862B1709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flow1" descr=""/>
          <p:cNvPicPr/>
          <p:nvPr/>
        </p:nvPicPr>
        <p:blipFill>
          <a:blip r:embed="rId2"/>
          <a:stretch/>
        </p:blipFill>
        <p:spPr>
          <a:xfrm>
            <a:off x="914400" y="2744640"/>
            <a:ext cx="5273640" cy="2589480"/>
          </a:xfrm>
          <a:prstGeom prst="rect">
            <a:avLst/>
          </a:prstGeom>
          <a:ln w="9360">
            <a:solidFill>
              <a:srgbClr val="545472"/>
            </a:solidFill>
            <a:miter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lowLayout Examp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Initial size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FE2B-A69A-4931-99B9-3C1FE3411CEF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32357A-BEEF-41B4-898A-A3958B8FFB1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flow1" descr=""/>
          <p:cNvPicPr/>
          <p:nvPr/>
        </p:nvPicPr>
        <p:blipFill>
          <a:blip r:embed="rId2"/>
          <a:stretch/>
        </p:blipFill>
        <p:spPr>
          <a:xfrm>
            <a:off x="914400" y="2744640"/>
            <a:ext cx="5273640" cy="2589480"/>
          </a:xfrm>
          <a:prstGeom prst="rect">
            <a:avLst/>
          </a:prstGeom>
          <a:ln w="9360">
            <a:solidFill>
              <a:srgbClr val="545472"/>
            </a:solidFill>
            <a:miter/>
          </a:ln>
        </p:spPr>
      </p:pic>
      <p:sp>
        <p:nvSpPr>
          <p:cNvPr id="221" name=""/>
          <p:cNvSpPr/>
          <p:nvPr/>
        </p:nvSpPr>
        <p:spPr>
          <a:xfrm>
            <a:off x="6186600" y="349092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lowLayout Examp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tretch horizontally a bit…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24" name="flow2" descr=""/>
          <p:cNvPicPr/>
          <p:nvPr/>
        </p:nvPicPr>
        <p:blipFill>
          <a:blip r:embed="rId4"/>
          <a:stretch/>
        </p:blipFill>
        <p:spPr>
          <a:xfrm>
            <a:off x="914400" y="2744640"/>
            <a:ext cx="6554880" cy="2589480"/>
          </a:xfrm>
          <a:prstGeom prst="rect">
            <a:avLst/>
          </a:prstGeom>
          <a:ln w="9360">
            <a:solidFill>
              <a:srgbClr val="545472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38F5-F907-4896-92C4-1E2CC4454795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84B55E-33F6-4492-9794-99BB2E7B18A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flow2" descr=""/>
          <p:cNvPicPr/>
          <p:nvPr/>
        </p:nvPicPr>
        <p:blipFill>
          <a:blip r:embed="rId2"/>
          <a:stretch/>
        </p:blipFill>
        <p:spPr>
          <a:xfrm>
            <a:off x="914400" y="2820960"/>
            <a:ext cx="6554880" cy="2589120"/>
          </a:xfrm>
          <a:prstGeom prst="rect">
            <a:avLst/>
          </a:prstGeom>
          <a:ln w="9360">
            <a:solidFill>
              <a:srgbClr val="545472"/>
            </a:solidFill>
            <a:miter/>
          </a:ln>
        </p:spPr>
      </p:pic>
      <p:sp>
        <p:nvSpPr>
          <p:cNvPr id="226" name=""/>
          <p:cNvSpPr/>
          <p:nvPr/>
        </p:nvSpPr>
        <p:spPr>
          <a:xfrm>
            <a:off x="7391520" y="349092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lowLayout Examp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tretch horizontally some more…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29" name="flow3" descr=""/>
          <p:cNvPicPr/>
          <p:nvPr/>
        </p:nvPicPr>
        <p:blipFill>
          <a:blip r:embed="rId4"/>
          <a:stretch/>
        </p:blipFill>
        <p:spPr>
          <a:xfrm>
            <a:off x="914400" y="2813040"/>
            <a:ext cx="7934400" cy="2597040"/>
          </a:xfrm>
          <a:prstGeom prst="rect">
            <a:avLst/>
          </a:prstGeom>
          <a:ln w="9360">
            <a:solidFill>
              <a:srgbClr val="545472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C728-0F90-43DE-95AB-CC32788F4E39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570535-70F3-4A33-B399-286B4BD26BA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flow3" descr=""/>
          <p:cNvPicPr/>
          <p:nvPr/>
        </p:nvPicPr>
        <p:blipFill>
          <a:blip r:embed="rId2"/>
          <a:stretch/>
        </p:blipFill>
        <p:spPr>
          <a:xfrm>
            <a:off x="914400" y="2819520"/>
            <a:ext cx="7934400" cy="2597040"/>
          </a:xfrm>
          <a:prstGeom prst="rect">
            <a:avLst/>
          </a:prstGeom>
          <a:ln w="9360">
            <a:solidFill>
              <a:srgbClr val="545472"/>
            </a:solidFill>
            <a:miter/>
          </a:ln>
        </p:spPr>
      </p:pic>
      <p:sp>
        <p:nvSpPr>
          <p:cNvPr id="231" name=""/>
          <p:cNvSpPr/>
          <p:nvPr/>
        </p:nvSpPr>
        <p:spPr>
          <a:xfrm rot="10800000">
            <a:off x="7467120" y="3467160"/>
            <a:ext cx="1295640" cy="53352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914400" y="2743200"/>
            <a:ext cx="8001000" cy="2743200"/>
            <a:chOff x="914400" y="2743200"/>
            <a:chExt cx="8001000" cy="2743200"/>
          </a:xfrm>
        </p:grpSpPr>
        <p:sp>
          <p:nvSpPr>
            <p:cNvPr id="233" name=""/>
            <p:cNvSpPr/>
            <p:nvPr/>
          </p:nvSpPr>
          <p:spPr>
            <a:xfrm>
              <a:off x="3505320" y="2743200"/>
              <a:ext cx="5410080" cy="274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pic>
          <p:nvPicPr>
            <p:cNvPr id="234" name="flow4" descr=""/>
            <p:cNvPicPr/>
            <p:nvPr/>
          </p:nvPicPr>
          <p:blipFill>
            <a:blip r:embed="rId3"/>
            <a:stretch/>
          </p:blipFill>
          <p:spPr>
            <a:xfrm>
              <a:off x="914400" y="2811240"/>
              <a:ext cx="2678040" cy="2606760"/>
            </a:xfrm>
            <a:prstGeom prst="rect">
              <a:avLst/>
            </a:prstGeom>
            <a:ln w="9360">
              <a:solidFill>
                <a:srgbClr val="545472"/>
              </a:solidFill>
              <a:miter/>
            </a:ln>
          </p:spPr>
        </p:pic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lowLayout Examp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hrink it a lot…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Uh oh! They don’t all fit!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9038-99B9-42DB-A5D0-7C10BD998C62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2E44E5-E673-4A69-A38F-9930BD8A82A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lowLayout Variatio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hgap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Horizontal space between component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vgap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Vertical space between component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2800" spc="-1" strike="noStrike">
                <a:solidFill>
                  <a:srgbClr val="545472"/>
                </a:solidFill>
                <a:latin typeface="Courier New"/>
              </a:rPr>
              <a:t>p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.</a:t>
            </a:r>
            <a:r>
              <a:rPr b="1" lang="en-US" sz="2800" spc="-1" strike="noStrike">
                <a:solidFill>
                  <a:srgbClr val="545472"/>
                </a:solidFill>
                <a:latin typeface="Courier New"/>
              </a:rPr>
              <a:t>setLayout(</a:t>
            </a:r>
            <a:r>
              <a:rPr b="1" lang="en-US" sz="2800" spc="-1" strike="noStrike">
                <a:solidFill>
                  <a:srgbClr val="c7c7df"/>
                </a:solidFill>
                <a:latin typeface="Courier New"/>
              </a:rPr>
              <a:t>new</a:t>
            </a:r>
            <a:r>
              <a:rPr b="1" lang="en-US" sz="2800" spc="-1" strike="noStrike">
                <a:solidFill>
                  <a:srgbClr val="545472"/>
                </a:solidFill>
                <a:latin typeface="Courier New"/>
              </a:rPr>
              <a:t> FlowLayout(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3</a:t>
            </a:r>
            <a:r>
              <a:rPr b="1" lang="en-US" sz="2800" spc="-1" strike="noStrike">
                <a:solidFill>
                  <a:srgbClr val="545472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5</a:t>
            </a:r>
            <a:r>
              <a:rPr b="1" lang="en-US" sz="2800" spc="-1" strike="noStrike">
                <a:solidFill>
                  <a:srgbClr val="545472"/>
                </a:solidFill>
                <a:latin typeface="Courier New"/>
              </a:rPr>
              <a:t>);</a:t>
            </a:r>
            <a:br>
              <a:rPr sz="2800"/>
            </a:b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// hgap is 3, vgap is 5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B402-DA23-4851-86B1-889191DDC9C1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A4AAB0-4FFF-4C35-8BCA-B50569CB8A6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lowLayout Variatio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alignment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: horizontal group positioning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omponents separated by hgap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hifted to LEFT, CENTER, or RIGH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p</a:t>
            </a:r>
            <a:r>
              <a:rPr b="1" lang="en-US" sz="2000" spc="-1" strike="noStrike">
                <a:solidFill>
                  <a:srgbClr val="ff5050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setLayout(</a:t>
            </a:r>
            <a:br>
              <a:rPr sz="2000"/>
            </a:b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c7c7df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 FlowLayout(</a:t>
            </a:r>
            <a:r>
              <a:rPr b="1" lang="en-US" sz="2000" spc="-1" strike="noStrike">
                <a:solidFill>
                  <a:srgbClr val="ff5050"/>
                </a:solidFill>
                <a:latin typeface="Courier New"/>
              </a:rPr>
              <a:t>3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ff5050"/>
                </a:solidFill>
                <a:latin typeface="Courier New"/>
              </a:rPr>
              <a:t>5,</a:t>
            </a:r>
            <a:br>
              <a:rPr sz="2000"/>
            </a:b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                  FlowLayout</a:t>
            </a:r>
            <a:r>
              <a:rPr b="1" lang="en-US" sz="2000" spc="-1" strike="noStrike">
                <a:solidFill>
                  <a:srgbClr val="ff5050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RIGHT));</a:t>
            </a:r>
            <a:br>
              <a:rPr sz="2000"/>
            </a:br>
            <a:r>
              <a:rPr b="1" lang="en-US" sz="2000" spc="-1" strike="noStrike">
                <a:solidFill>
                  <a:srgbClr val="660066"/>
                </a:solidFill>
                <a:latin typeface="Courier New"/>
              </a:rPr>
              <a:t>// hgap is 3, vgap is 5</a:t>
            </a:r>
            <a:br>
              <a:rPr sz="2000"/>
            </a:br>
            <a:r>
              <a:rPr b="1" lang="en-US" sz="2000" spc="-1" strike="noStrike">
                <a:solidFill>
                  <a:srgbClr val="660066"/>
                </a:solidFill>
                <a:latin typeface="Courier New"/>
              </a:rPr>
              <a:t>// right justify</a:t>
            </a:r>
            <a:br>
              <a:rPr sz="2000"/>
            </a:br>
            <a:r>
              <a:rPr b="1" lang="en-US" sz="2000" spc="-1" strike="noStrike">
                <a:solidFill>
                  <a:srgbClr val="660066"/>
                </a:solidFill>
                <a:latin typeface="Courier New"/>
              </a:rPr>
              <a:t>// CENTER is default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6FA3-60C8-419B-8400-0BCA26A7FC83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759295-16EF-4AAF-8469-F801A73506A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lowLayout Align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42" name="flow5" descr=""/>
          <p:cNvPicPr/>
          <p:nvPr/>
        </p:nvPicPr>
        <p:blipFill>
          <a:blip r:embed="rId2"/>
          <a:stretch/>
        </p:blipFill>
        <p:spPr>
          <a:xfrm>
            <a:off x="1295280" y="2017800"/>
            <a:ext cx="6629400" cy="4078080"/>
          </a:xfrm>
          <a:prstGeom prst="rect">
            <a:avLst/>
          </a:prstGeom>
          <a:ln w="9360">
            <a:solidFill>
              <a:srgbClr val="545472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C328-6DC0-482E-9EDC-08CD052D02E7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0645E0-CB0A-4B71-9D2A-5082F90E173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peaker’s Qualificatio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Java Guru with 500 years of Java experienc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Fools recruiters easily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aught Java for four year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Manages Swing and AWT FAQs at http://www.jGuru.com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Wrote </a:t>
            </a:r>
            <a:r>
              <a:rPr b="0" i="1" lang="en-US" sz="2800" spc="-1" strike="noStrike">
                <a:solidFill>
                  <a:srgbClr val="545472"/>
                </a:solidFill>
                <a:latin typeface="Tahoma"/>
              </a:rPr>
              <a:t>Effective Layout Management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Lead author of</a:t>
            </a:r>
            <a:br>
              <a:rPr sz="2800"/>
            </a:br>
            <a:r>
              <a:rPr b="0" i="1" lang="en-US" sz="2800" spc="-1" strike="noStrike">
                <a:solidFill>
                  <a:srgbClr val="545472"/>
                </a:solidFill>
                <a:latin typeface="Tahoma"/>
              </a:rPr>
              <a:t>Effective VisualAge for Java, Version 3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2D34-C0C1-4418-9BD8-73D47831157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2FF5EA-2D1C-4777-9531-2957C945304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aybe Not Quite Right…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referred size components by themselves might not look right…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But we’re not done yet!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45" name="flow6" descr=""/>
          <p:cNvPicPr/>
          <p:nvPr/>
        </p:nvPicPr>
        <p:blipFill>
          <a:blip r:embed="rId4"/>
          <a:stretch/>
        </p:blipFill>
        <p:spPr>
          <a:xfrm>
            <a:off x="838080" y="2960640"/>
            <a:ext cx="8034480" cy="2602080"/>
          </a:xfrm>
          <a:prstGeom prst="rect">
            <a:avLst/>
          </a:prstGeom>
          <a:ln w="9360">
            <a:solidFill>
              <a:srgbClr val="545472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BF8D-0280-4A41-8AE0-521EF0015964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EFFCED-BB74-420E-B071-E307C02D411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eferredSize of FlowLayou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45472"/>
                </a:solidFill>
                <a:latin typeface="Tahoma"/>
              </a:rPr>
              <a:t>“</a:t>
            </a:r>
            <a:r>
              <a:rPr b="0" i="1" lang="en-US" sz="3200" spc="-1" strike="noStrike">
                <a:solidFill>
                  <a:srgbClr val="545472"/>
                </a:solidFill>
                <a:latin typeface="Tahoma"/>
              </a:rPr>
              <a:t>If I had </a:t>
            </a:r>
            <a:r>
              <a:rPr b="0" i="1" lang="en-US" sz="3200" spc="-1" strike="noStrike">
                <a:solidFill>
                  <a:srgbClr val="8888ae"/>
                </a:solidFill>
                <a:latin typeface="Tahoma"/>
              </a:rPr>
              <a:t>infinite</a:t>
            </a:r>
            <a:r>
              <a:rPr b="0" i="1" lang="en-US" sz="3200" spc="-1" strike="noStrike">
                <a:solidFill>
                  <a:srgbClr val="545472"/>
                </a:solidFill>
                <a:latin typeface="Tahoma"/>
              </a:rPr>
              <a:t> screen space, how big would I </a:t>
            </a:r>
            <a:r>
              <a:rPr b="0" i="1" lang="en-US" sz="3200" spc="-1" strike="noStrike">
                <a:solidFill>
                  <a:srgbClr val="8888ae"/>
                </a:solidFill>
                <a:latin typeface="Tahoma"/>
              </a:rPr>
              <a:t>like</a:t>
            </a:r>
            <a:r>
              <a:rPr b="0" i="1" lang="en-US" sz="3200" spc="-1" strike="noStrike">
                <a:solidFill>
                  <a:srgbClr val="545472"/>
                </a:solidFill>
                <a:latin typeface="Tahoma"/>
              </a:rPr>
              <a:t> to be?”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If no bounds…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ll components in one line!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B2DC-FDE3-474F-B2AA-DE3CC8E499AC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8E2C8E-434D-44B9-AFAA-8E1DD1A87A1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lowLayout in a FlowLayou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Outer FlowLayout asks inner FlowLayout for preferred siz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You got it!”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One big line of component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44AC-B2BA-40AA-84AE-3AEB8471D2D3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82A1A7-BCD2-47E8-B86C-E8AD82C120F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lowLayout in a FlowLayou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51" name="flow7" descr=""/>
          <p:cNvPicPr/>
          <p:nvPr/>
        </p:nvPicPr>
        <p:blipFill>
          <a:blip r:embed="rId2"/>
          <a:stretch/>
        </p:blipFill>
        <p:spPr>
          <a:xfrm>
            <a:off x="1828800" y="2057400"/>
            <a:ext cx="6013440" cy="3797280"/>
          </a:xfrm>
          <a:prstGeom prst="rect">
            <a:avLst/>
          </a:prstGeom>
          <a:ln w="9360">
            <a:solidFill>
              <a:srgbClr val="545472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2D3B-A1A9-48B0-A53B-1EFB73B99253}" type="slidenum">
              <a:t>4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9D2D14-3D6A-46BE-A95F-5E9E73E3DB9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lowLayout in a FlowLayou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53" name="flow8" descr=""/>
          <p:cNvPicPr/>
          <p:nvPr/>
        </p:nvPicPr>
        <p:blipFill>
          <a:blip r:embed="rId2"/>
          <a:stretch/>
        </p:blipFill>
        <p:spPr>
          <a:xfrm>
            <a:off x="762120" y="1905120"/>
            <a:ext cx="8086680" cy="4098960"/>
          </a:xfrm>
          <a:prstGeom prst="rect">
            <a:avLst/>
          </a:prstGeom>
          <a:ln w="9360">
            <a:solidFill>
              <a:srgbClr val="545472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3B22-15A5-4244-93C0-158CFC981C59}" type="slidenum">
              <a:t>4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0D0452-310C-4985-B94A-F0AB435EF63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lowLayout Pitfal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Many component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ome may not appear!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Nesting in preferredSize() respecting layou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Only one long line!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D4B7-00E6-4474-B8EF-4EABFFF88F3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968C64-047E-4904-B40A-1D0791D9F77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lowLayout Strateg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Use for only a few component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Want them grouped together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Left, center, right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otal respect of preferred size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B33E-571B-4A9C-A9D9-2DE9C78B7B62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63C947-6307-4DD4-BB93-A1321ED55AE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orderLayou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robably most useful layou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Handles one to five component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NORTH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OUTH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WEST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EAST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ENTER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7487-8D2C-4968-B3CC-5D8A796CE12B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60F118-2D66-4F18-8689-8B08FF2BA0C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orderLayou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61" name="border1" descr=""/>
          <p:cNvPicPr/>
          <p:nvPr/>
        </p:nvPicPr>
        <p:blipFill>
          <a:blip r:embed="rId2"/>
          <a:stretch/>
        </p:blipFill>
        <p:spPr>
          <a:xfrm>
            <a:off x="1812960" y="2054160"/>
            <a:ext cx="5959440" cy="3813120"/>
          </a:xfrm>
          <a:prstGeom prst="rect">
            <a:avLst/>
          </a:prstGeom>
          <a:ln w="9360">
            <a:solidFill>
              <a:srgbClr val="545472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7803-B47D-413F-A67A-A29FDAD36060}" type="slidenum">
              <a:t>4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418ACA-6B4D-4880-817D-86941E2139F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orderLayou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I’ll </a:t>
            </a:r>
            <a:r>
              <a:rPr b="0" lang="en-US" sz="3200" spc="-1" strike="noStrike">
                <a:solidFill>
                  <a:srgbClr val="8888ae"/>
                </a:solidFill>
                <a:latin typeface="Tahoma"/>
              </a:rPr>
              <a:t>never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create a GUI that looks like that!”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Usually only use two or three component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8910-82CD-45C4-97DB-6A42FE970BB0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7DAA9B-3417-4909-AAE4-D2309855D0C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esentation Agenda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Why do we need layout managers?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What is a layout manager?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e standard layout manager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Nesting layout manager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BDAA-DA65-4998-BABB-D9CA23715EA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A9C443-6A48-4681-9F23-33E823A889B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orderLayout Common Examp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65" name="border2" descr=""/>
          <p:cNvPicPr/>
          <p:nvPr/>
        </p:nvPicPr>
        <p:blipFill>
          <a:blip r:embed="rId2"/>
          <a:stretch/>
        </p:blipFill>
        <p:spPr>
          <a:xfrm>
            <a:off x="3505320" y="1962000"/>
            <a:ext cx="5484600" cy="3543480"/>
          </a:xfrm>
          <a:prstGeom prst="rect">
            <a:avLst/>
          </a:prstGeom>
          <a:ln w="9360">
            <a:solidFill>
              <a:srgbClr val="545472"/>
            </a:solidFill>
            <a:miter/>
          </a:ln>
        </p:spPr>
      </p:pic>
      <p:sp>
        <p:nvSpPr>
          <p:cNvPr id="266" name=""/>
          <p:cNvSpPr/>
          <p:nvPr/>
        </p:nvSpPr>
        <p:spPr>
          <a:xfrm>
            <a:off x="533520" y="2057400"/>
            <a:ext cx="297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Arial"/>
              </a:rPr>
              <a:t>This is a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Arial"/>
              </a:rPr>
              <a:t>perfect example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Arial"/>
              </a:rPr>
              <a:t>of BorderLayout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8EFC-C7B1-4665-A069-279072D0BB88}" type="slidenum">
              <a:t>5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F57A8A-47E4-40FD-8BC9-7594B4F846B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orderLayout Common Examp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68" name="border2" descr=""/>
          <p:cNvPicPr/>
          <p:nvPr/>
        </p:nvPicPr>
        <p:blipFill>
          <a:blip r:embed="rId2"/>
          <a:stretch/>
        </p:blipFill>
        <p:spPr>
          <a:xfrm>
            <a:off x="3505320" y="1962000"/>
            <a:ext cx="5484600" cy="3543480"/>
          </a:xfrm>
          <a:prstGeom prst="rect">
            <a:avLst/>
          </a:prstGeom>
          <a:ln w="9360">
            <a:solidFill>
              <a:srgbClr val="545472"/>
            </a:solidFill>
            <a:miter/>
          </a:ln>
        </p:spPr>
      </p:pic>
      <p:grpSp>
        <p:nvGrpSpPr>
          <p:cNvPr id="269" name=""/>
          <p:cNvGrpSpPr/>
          <p:nvPr/>
        </p:nvGrpSpPr>
        <p:grpSpPr>
          <a:xfrm>
            <a:off x="1069920" y="2286000"/>
            <a:ext cx="7921800" cy="685800"/>
            <a:chOff x="1069920" y="2286000"/>
            <a:chExt cx="7921800" cy="685800"/>
          </a:xfrm>
        </p:grpSpPr>
        <p:sp>
          <p:nvSpPr>
            <p:cNvPr id="270" name=""/>
            <p:cNvSpPr/>
            <p:nvPr/>
          </p:nvSpPr>
          <p:spPr>
            <a:xfrm>
              <a:off x="1069920" y="2367000"/>
              <a:ext cx="112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45472"/>
                  </a:solidFill>
                  <a:latin typeface="Arial"/>
                </a:rPr>
                <a:t>North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124080" y="2286000"/>
              <a:ext cx="304920" cy="68580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888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cxnSp>
          <p:nvCxnSpPr>
            <p:cNvPr id="272" name=""/>
            <p:cNvCxnSpPr>
              <a:stCxn id="270" idx="3"/>
              <a:endCxn id="271" idx="1"/>
            </p:cNvCxnSpPr>
            <p:nvPr/>
          </p:nvCxnSpPr>
          <p:spPr>
            <a:xfrm>
              <a:off x="2199960" y="2626920"/>
              <a:ext cx="905400" cy="2520"/>
            </a:xfrm>
            <a:prstGeom prst="straightConnector1">
              <a:avLst/>
            </a:prstGeom>
            <a:ln w="38160">
              <a:solidFill>
                <a:srgbClr val="8888ae"/>
              </a:solidFill>
              <a:miter/>
            </a:ln>
          </p:spPr>
        </p:cxnSp>
        <p:sp>
          <p:nvSpPr>
            <p:cNvPr id="273" name=""/>
            <p:cNvSpPr/>
            <p:nvPr/>
          </p:nvSpPr>
          <p:spPr>
            <a:xfrm>
              <a:off x="3505320" y="2286000"/>
              <a:ext cx="5486400" cy="685800"/>
            </a:xfrm>
            <a:prstGeom prst="rect">
              <a:avLst/>
            </a:prstGeom>
            <a:solidFill>
              <a:srgbClr val="8888ae">
                <a:alpha val="50000"/>
              </a:srgbClr>
            </a:solidFill>
            <a:ln w="2232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1069560" y="2971800"/>
            <a:ext cx="7922160" cy="2209680"/>
            <a:chOff x="1069560" y="2971800"/>
            <a:chExt cx="7922160" cy="2209680"/>
          </a:xfrm>
        </p:grpSpPr>
        <p:sp>
          <p:nvSpPr>
            <p:cNvPr id="275" name=""/>
            <p:cNvSpPr/>
            <p:nvPr/>
          </p:nvSpPr>
          <p:spPr>
            <a:xfrm>
              <a:off x="1069560" y="3781440"/>
              <a:ext cx="130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45472"/>
                  </a:solidFill>
                  <a:latin typeface="Arial"/>
                </a:rPr>
                <a:t>Center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124080" y="3048120"/>
              <a:ext cx="304920" cy="198108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51480 h 1981080"/>
                <a:gd name="textAreaBottom" fmla="*/ 1929600 h 19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cxnSp>
          <p:nvCxnSpPr>
            <p:cNvPr id="277" name=""/>
            <p:cNvCxnSpPr>
              <a:stCxn id="275" idx="3"/>
              <a:endCxn id="276" idx="1"/>
            </p:cNvCxnSpPr>
            <p:nvPr/>
          </p:nvCxnSpPr>
          <p:spPr>
            <a:xfrm flipV="1">
              <a:off x="2379240" y="4037760"/>
              <a:ext cx="726120" cy="3960"/>
            </a:xfrm>
            <a:prstGeom prst="straightConnector1">
              <a:avLst/>
            </a:prstGeom>
            <a:ln w="38160">
              <a:solidFill>
                <a:srgbClr val="660066"/>
              </a:solidFill>
              <a:miter/>
            </a:ln>
          </p:spPr>
        </p:cxnSp>
        <p:sp>
          <p:nvSpPr>
            <p:cNvPr id="278" name=""/>
            <p:cNvSpPr/>
            <p:nvPr/>
          </p:nvSpPr>
          <p:spPr>
            <a:xfrm>
              <a:off x="3505320" y="2971800"/>
              <a:ext cx="5486400" cy="2209680"/>
            </a:xfrm>
            <a:prstGeom prst="rect">
              <a:avLst/>
            </a:prstGeom>
            <a:solidFill>
              <a:srgbClr val="660066">
                <a:alpha val="50000"/>
              </a:srgbClr>
            </a:solidFill>
            <a:ln w="2232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1070280" y="5072040"/>
            <a:ext cx="7921440" cy="520560"/>
            <a:chOff x="1070280" y="5072040"/>
            <a:chExt cx="7921440" cy="520560"/>
          </a:xfrm>
        </p:grpSpPr>
        <p:sp>
          <p:nvSpPr>
            <p:cNvPr id="280" name=""/>
            <p:cNvSpPr/>
            <p:nvPr/>
          </p:nvSpPr>
          <p:spPr>
            <a:xfrm>
              <a:off x="1070280" y="5072040"/>
              <a:ext cx="118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45472"/>
                  </a:solidFill>
                  <a:latin typeface="Arial"/>
                </a:rPr>
                <a:t>South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124080" y="5181480"/>
              <a:ext cx="304920" cy="30492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c7c7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cxnSp>
          <p:nvCxnSpPr>
            <p:cNvPr id="282" name=""/>
            <p:cNvCxnSpPr>
              <a:stCxn id="280" idx="3"/>
              <a:endCxn id="281" idx="1"/>
            </p:cNvCxnSpPr>
            <p:nvPr/>
          </p:nvCxnSpPr>
          <p:spPr>
            <a:xfrm>
              <a:off x="2259000" y="5331960"/>
              <a:ext cx="846720" cy="2520"/>
            </a:xfrm>
            <a:prstGeom prst="straightConnector1">
              <a:avLst/>
            </a:prstGeom>
            <a:ln w="38160">
              <a:solidFill>
                <a:srgbClr val="c7c7df"/>
              </a:solidFill>
              <a:miter/>
            </a:ln>
          </p:spPr>
        </p:cxnSp>
        <p:sp>
          <p:nvSpPr>
            <p:cNvPr id="283" name=""/>
            <p:cNvSpPr/>
            <p:nvPr/>
          </p:nvSpPr>
          <p:spPr>
            <a:xfrm>
              <a:off x="3505320" y="5181480"/>
              <a:ext cx="5486400" cy="304920"/>
            </a:xfrm>
            <a:prstGeom prst="rect">
              <a:avLst/>
            </a:prstGeom>
            <a:solidFill>
              <a:srgbClr val="c7c7df">
                <a:alpha val="50000"/>
              </a:srgbClr>
            </a:solidFill>
            <a:ln w="2232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B4E8-8687-40C3-A73A-C7EAC6AB6464}" type="slidenum">
              <a:t>5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DD11B5-CEFF-4FC8-A9E1-38151203C23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border3" descr=""/>
          <p:cNvPicPr/>
          <p:nvPr/>
        </p:nvPicPr>
        <p:blipFill>
          <a:blip r:embed="rId2"/>
          <a:stretch/>
        </p:blipFill>
        <p:spPr>
          <a:xfrm>
            <a:off x="990720" y="3336840"/>
            <a:ext cx="3976560" cy="1430280"/>
          </a:xfrm>
          <a:prstGeom prst="rect">
            <a:avLst/>
          </a:prstGeom>
          <a:ln w="9360">
            <a:solidFill>
              <a:srgbClr val="545472"/>
            </a:solidFill>
            <a:miter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abeled Text Fiel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xing GUI Sin #1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87" name=""/>
          <p:cNvSpPr/>
          <p:nvPr/>
        </p:nvSpPr>
        <p:spPr>
          <a:xfrm rot="16200000">
            <a:off x="1638000" y="4243320"/>
            <a:ext cx="152640" cy="1447560"/>
          </a:xfrm>
          <a:custGeom>
            <a:avLst/>
            <a:gdLst>
              <a:gd name="textAreaLeft" fmla="*/ 97560 w 152640"/>
              <a:gd name="textAreaRight" fmla="*/ 153000 w 15264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88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rot="16200000">
            <a:off x="3657240" y="3747960"/>
            <a:ext cx="152640" cy="2438280"/>
          </a:xfrm>
          <a:custGeom>
            <a:avLst/>
            <a:gdLst>
              <a:gd name="textAreaLeft" fmla="*/ 97560 w 152640"/>
              <a:gd name="textAreaRight" fmla="*/ 153000 w 15264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079440" y="5805360"/>
            <a:ext cx="130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Arial"/>
              </a:rPr>
              <a:t>Cent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02040" y="5805360"/>
            <a:ext cx="10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Arial"/>
              </a:rPr>
              <a:t>West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cxnSp>
        <p:nvCxnSpPr>
          <p:cNvPr id="291" name=""/>
          <p:cNvCxnSpPr>
            <a:stCxn id="287" idx="1"/>
            <a:endCxn id="290" idx="0"/>
          </p:cNvCxnSpPr>
          <p:nvPr/>
        </p:nvCxnSpPr>
        <p:spPr>
          <a:xfrm>
            <a:off x="1712520" y="5060880"/>
            <a:ext cx="5400" cy="745200"/>
          </a:xfrm>
          <a:prstGeom prst="straightConnector1">
            <a:avLst/>
          </a:prstGeom>
          <a:ln w="38160">
            <a:solidFill>
              <a:srgbClr val="8888ae"/>
            </a:solidFill>
            <a:miter/>
          </a:ln>
        </p:spPr>
      </p:cxnSp>
      <p:cxnSp>
        <p:nvCxnSpPr>
          <p:cNvPr id="292" name=""/>
          <p:cNvCxnSpPr>
            <a:stCxn id="289" idx="0"/>
            <a:endCxn id="288" idx="1"/>
          </p:cNvCxnSpPr>
          <p:nvPr/>
        </p:nvCxnSpPr>
        <p:spPr>
          <a:xfrm flipH="1" flipV="1">
            <a:off x="3731400" y="5060520"/>
            <a:ext cx="2520" cy="745200"/>
          </a:xfrm>
          <a:prstGeom prst="straightConnector1">
            <a:avLst/>
          </a:prstGeom>
          <a:ln w="38160">
            <a:solidFill>
              <a:srgbClr val="660066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67ED-2D18-4590-9F5D-A2AFA3CE273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77B6C5-D5D4-49C5-899C-92F3852EB61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abeled Text Fiel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xing GUI Sin #1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95" name="border3" descr=""/>
          <p:cNvPicPr/>
          <p:nvPr/>
        </p:nvPicPr>
        <p:blipFill>
          <a:blip r:embed="rId3"/>
          <a:stretch/>
        </p:blipFill>
        <p:spPr>
          <a:xfrm>
            <a:off x="990720" y="3327480"/>
            <a:ext cx="3976560" cy="1430280"/>
          </a:xfrm>
          <a:prstGeom prst="rect">
            <a:avLst/>
          </a:prstGeom>
          <a:ln w="9360">
            <a:solidFill>
              <a:srgbClr val="545472"/>
            </a:solidFill>
            <a:miter/>
          </a:ln>
        </p:spPr>
      </p:pic>
      <p:sp>
        <p:nvSpPr>
          <p:cNvPr id="296" name=""/>
          <p:cNvSpPr/>
          <p:nvPr/>
        </p:nvSpPr>
        <p:spPr>
          <a:xfrm>
            <a:off x="4952880" y="380052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16200000">
            <a:off x="1638360" y="4233600"/>
            <a:ext cx="152280" cy="1447560"/>
          </a:xfrm>
          <a:custGeom>
            <a:avLst/>
            <a:gdLst>
              <a:gd name="textAreaLeft" fmla="*/ 97200 w 152280"/>
              <a:gd name="textAreaRight" fmla="*/ 152640 w 15228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88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202040" y="5796000"/>
            <a:ext cx="10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Arial"/>
              </a:rPr>
              <a:t>West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cxnSp>
        <p:nvCxnSpPr>
          <p:cNvPr id="299" name=""/>
          <p:cNvCxnSpPr>
            <a:stCxn id="297" idx="1"/>
            <a:endCxn id="298" idx="0"/>
          </p:cNvCxnSpPr>
          <p:nvPr/>
        </p:nvCxnSpPr>
        <p:spPr>
          <a:xfrm>
            <a:off x="1712520" y="5051520"/>
            <a:ext cx="5400" cy="745200"/>
          </a:xfrm>
          <a:prstGeom prst="straightConnector1">
            <a:avLst/>
          </a:prstGeom>
          <a:ln w="38160">
            <a:solidFill>
              <a:srgbClr val="8888ae"/>
            </a:solidFill>
            <a:miter/>
          </a:ln>
        </p:spPr>
      </p:cxnSp>
      <p:grpSp>
        <p:nvGrpSpPr>
          <p:cNvPr id="300" name=""/>
          <p:cNvGrpSpPr/>
          <p:nvPr/>
        </p:nvGrpSpPr>
        <p:grpSpPr>
          <a:xfrm>
            <a:off x="990720" y="3327480"/>
            <a:ext cx="5895720" cy="2988720"/>
            <a:chOff x="990720" y="3327480"/>
            <a:chExt cx="5895720" cy="2988720"/>
          </a:xfrm>
        </p:grpSpPr>
        <p:pic>
          <p:nvPicPr>
            <p:cNvPr id="301" name="border4" descr=""/>
            <p:cNvPicPr/>
            <p:nvPr/>
          </p:nvPicPr>
          <p:blipFill>
            <a:blip r:embed="rId4"/>
            <a:stretch/>
          </p:blipFill>
          <p:spPr>
            <a:xfrm>
              <a:off x="990720" y="3327480"/>
              <a:ext cx="5895720" cy="1429920"/>
            </a:xfrm>
            <a:prstGeom prst="rect">
              <a:avLst/>
            </a:prstGeom>
            <a:ln w="9360">
              <a:solidFill>
                <a:srgbClr val="545472"/>
              </a:solidFill>
              <a:miter/>
            </a:ln>
          </p:spPr>
        </p:pic>
        <p:sp>
          <p:nvSpPr>
            <p:cNvPr id="302" name=""/>
            <p:cNvSpPr/>
            <p:nvPr/>
          </p:nvSpPr>
          <p:spPr>
            <a:xfrm rot="16200000">
              <a:off x="4572000" y="2823480"/>
              <a:ext cx="152280" cy="426708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11240 h 4267080"/>
                <a:gd name="textAreaBottom" fmla="*/ 4155840 h 426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000320" y="5795640"/>
              <a:ext cx="1306800" cy="520560"/>
            </a:xfrm>
            <a:prstGeom prst="rect">
              <a:avLst/>
            </a:prstGeom>
            <a:noFill/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45472"/>
                  </a:solidFill>
                  <a:latin typeface="Arial"/>
                </a:rPr>
                <a:t>Center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cxnSp>
          <p:nvCxnSpPr>
            <p:cNvPr id="304" name=""/>
            <p:cNvCxnSpPr>
              <a:stCxn id="303" idx="0"/>
              <a:endCxn id="302" idx="1"/>
            </p:cNvCxnSpPr>
            <p:nvPr/>
          </p:nvCxnSpPr>
          <p:spPr>
            <a:xfrm flipH="1" flipV="1">
              <a:off x="4645800" y="5050440"/>
              <a:ext cx="3960" cy="744840"/>
            </a:xfrm>
            <a:prstGeom prst="straightConnector1">
              <a:avLst/>
            </a:prstGeom>
            <a:ln w="38160">
              <a:solidFill>
                <a:srgbClr val="545472"/>
              </a:solidFill>
              <a:miter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2011-D51C-4B7A-838F-110E57CD805E}" type="slidenum">
              <a:t>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7EF674-8911-4163-A8D7-EA8A4E1DCE0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border4" descr=""/>
          <p:cNvPicPr/>
          <p:nvPr/>
        </p:nvPicPr>
        <p:blipFill>
          <a:blip r:embed="rId2"/>
          <a:stretch/>
        </p:blipFill>
        <p:spPr>
          <a:xfrm>
            <a:off x="990720" y="3336840"/>
            <a:ext cx="5895720" cy="1430280"/>
          </a:xfrm>
          <a:prstGeom prst="rect">
            <a:avLst/>
          </a:prstGeom>
          <a:ln w="9360">
            <a:solidFill>
              <a:srgbClr val="545472"/>
            </a:solidFill>
            <a:miter/>
          </a:ln>
        </p:spPr>
      </p:pic>
      <p:sp>
        <p:nvSpPr>
          <p:cNvPr id="306" name=""/>
          <p:cNvSpPr/>
          <p:nvPr/>
        </p:nvSpPr>
        <p:spPr>
          <a:xfrm rot="16200000">
            <a:off x="3334320" y="2794680"/>
            <a:ext cx="977760" cy="484200"/>
          </a:xfrm>
          <a:custGeom>
            <a:avLst/>
            <a:gdLst>
              <a:gd name="textAreaLeft" fmla="*/ 152640 w 977760"/>
              <a:gd name="textAreaRight" fmla="*/ 855720 w 97776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a7ccd9"/>
          </a:solidFill>
          <a:ln w="223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7" name="border5" descr=""/>
          <p:cNvPicPr/>
          <p:nvPr/>
        </p:nvPicPr>
        <p:blipFill>
          <a:blip r:embed="rId3"/>
          <a:stretch/>
        </p:blipFill>
        <p:spPr>
          <a:xfrm>
            <a:off x="990720" y="2592360"/>
            <a:ext cx="5895720" cy="2174760"/>
          </a:xfrm>
          <a:prstGeom prst="rect">
            <a:avLst/>
          </a:prstGeom>
          <a:ln w="9360">
            <a:solidFill>
              <a:srgbClr val="545472"/>
            </a:solidFill>
            <a:miter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abeled Text Fiel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But watch out!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10" name=""/>
          <p:cNvSpPr/>
          <p:nvPr/>
        </p:nvSpPr>
        <p:spPr>
          <a:xfrm rot="16200000">
            <a:off x="1638000" y="4243320"/>
            <a:ext cx="152640" cy="1447560"/>
          </a:xfrm>
          <a:custGeom>
            <a:avLst/>
            <a:gdLst>
              <a:gd name="textAreaLeft" fmla="*/ 97560 w 152640"/>
              <a:gd name="textAreaRight" fmla="*/ 153000 w 15264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88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rot="16200000">
            <a:off x="4571640" y="2833560"/>
            <a:ext cx="152640" cy="4267080"/>
          </a:xfrm>
          <a:custGeom>
            <a:avLst/>
            <a:gdLst>
              <a:gd name="textAreaLeft" fmla="*/ 97560 w 152640"/>
              <a:gd name="textAreaRight" fmla="*/ 153000 w 152640"/>
              <a:gd name="textAreaTop" fmla="*/ 111240 h 4267080"/>
              <a:gd name="textAreaBottom" fmla="*/ 4155840 h 426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995280" y="5805360"/>
            <a:ext cx="130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Arial"/>
              </a:rPr>
              <a:t>Cent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202040" y="5805360"/>
            <a:ext cx="10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Arial"/>
              </a:rPr>
              <a:t>West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10" idx="1"/>
            <a:endCxn id="313" idx="0"/>
          </p:cNvCxnSpPr>
          <p:nvPr/>
        </p:nvCxnSpPr>
        <p:spPr>
          <a:xfrm>
            <a:off x="1712520" y="5060880"/>
            <a:ext cx="5400" cy="745200"/>
          </a:xfrm>
          <a:prstGeom prst="straightConnector1">
            <a:avLst/>
          </a:prstGeom>
          <a:ln w="38160">
            <a:solidFill>
              <a:srgbClr val="8888ae"/>
            </a:solidFill>
            <a:miter/>
          </a:ln>
        </p:spPr>
      </p:cxnSp>
      <p:cxnSp>
        <p:nvCxnSpPr>
          <p:cNvPr id="315" name=""/>
          <p:cNvCxnSpPr>
            <a:stCxn id="312" idx="0"/>
            <a:endCxn id="311" idx="1"/>
          </p:cNvCxnSpPr>
          <p:nvPr/>
        </p:nvCxnSpPr>
        <p:spPr>
          <a:xfrm flipH="1" flipV="1">
            <a:off x="4645800" y="5060520"/>
            <a:ext cx="3960" cy="745200"/>
          </a:xfrm>
          <a:prstGeom prst="straightConnector1">
            <a:avLst/>
          </a:prstGeom>
          <a:ln w="38160">
            <a:solidFill>
              <a:srgbClr val="660066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2CF5-1728-4F2F-B507-4C4ABAE25CC1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C1AD22-0E64-4CB0-8FDB-361A031A93A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border6" descr=""/>
          <p:cNvPicPr/>
          <p:nvPr/>
        </p:nvPicPr>
        <p:blipFill>
          <a:blip r:embed="rId2"/>
          <a:stretch/>
        </p:blipFill>
        <p:spPr>
          <a:xfrm>
            <a:off x="990720" y="2624040"/>
            <a:ext cx="5867280" cy="2176560"/>
          </a:xfrm>
          <a:prstGeom prst="rect">
            <a:avLst/>
          </a:prstGeom>
          <a:ln w="9360">
            <a:solidFill>
              <a:srgbClr val="545472"/>
            </a:solidFill>
            <a:miter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abeled Text Fiel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o limit the height, nest the border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75D1-1E16-4407-82DE-9F4A7CEFDF12}" type="slidenum">
              <a:t>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6F0B30-78E0-445C-914C-985AF711DE4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border6" descr=""/>
          <p:cNvPicPr/>
          <p:nvPr/>
        </p:nvPicPr>
        <p:blipFill>
          <a:blip r:embed="rId2"/>
          <a:stretch/>
        </p:blipFill>
        <p:spPr>
          <a:xfrm>
            <a:off x="990720" y="2635200"/>
            <a:ext cx="5867280" cy="2176560"/>
          </a:xfrm>
          <a:prstGeom prst="rect">
            <a:avLst/>
          </a:prstGeom>
          <a:ln w="9360">
            <a:solidFill>
              <a:srgbClr val="545472"/>
            </a:solidFill>
            <a:miter/>
          </a:ln>
        </p:spPr>
      </p:pic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abeled Text Fiel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o limit the height, nest the border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914400" y="2513160"/>
            <a:ext cx="8039880" cy="2226960"/>
            <a:chOff x="914400" y="2513160"/>
            <a:chExt cx="8039880" cy="2226960"/>
          </a:xfrm>
        </p:grpSpPr>
        <p:sp>
          <p:nvSpPr>
            <p:cNvPr id="323" name=""/>
            <p:cNvSpPr/>
            <p:nvPr/>
          </p:nvSpPr>
          <p:spPr>
            <a:xfrm>
              <a:off x="7010280" y="3092040"/>
              <a:ext cx="228600" cy="106668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c7c7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52360" y="2513160"/>
              <a:ext cx="150192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45472"/>
                  </a:solidFill>
                  <a:latin typeface="Arial"/>
                </a:rPr>
                <a:t>Outer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45472"/>
                  </a:solidFill>
                  <a:latin typeface="Arial"/>
                </a:rPr>
                <a:t>North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45472"/>
                  </a:solidFill>
                  <a:latin typeface="Arial"/>
                </a:rPr>
                <a:t>(bind</a:t>
              </a:r>
              <a:br>
                <a:rPr sz="2800"/>
              </a:br>
              <a:r>
                <a:rPr b="1" lang="en-US" sz="2800" spc="-1" strike="noStrike">
                  <a:solidFill>
                    <a:srgbClr val="545472"/>
                  </a:solidFill>
                  <a:latin typeface="Arial"/>
                </a:rPr>
                <a:t>height</a:t>
              </a:r>
              <a:br>
                <a:rPr sz="2800"/>
              </a:br>
              <a:r>
                <a:rPr b="1" lang="en-US" sz="2800" spc="-1" strike="noStrike">
                  <a:solidFill>
                    <a:srgbClr val="545472"/>
                  </a:solidFill>
                  <a:latin typeface="Arial"/>
                </a:rPr>
                <a:t>of both)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cxnSp>
          <p:nvCxnSpPr>
            <p:cNvPr id="325" name=""/>
            <p:cNvCxnSpPr>
              <a:stCxn id="323" idx="1"/>
              <a:endCxn id="324" idx="1"/>
            </p:cNvCxnSpPr>
            <p:nvPr/>
          </p:nvCxnSpPr>
          <p:spPr>
            <a:xfrm>
              <a:off x="7257600" y="3625200"/>
              <a:ext cx="191160" cy="1800"/>
            </a:xfrm>
            <a:prstGeom prst="straightConnector1">
              <a:avLst/>
            </a:prstGeom>
            <a:ln w="38160">
              <a:solidFill>
                <a:srgbClr val="c7c7df"/>
              </a:solidFill>
              <a:miter/>
            </a:ln>
          </p:spPr>
        </p:cxnSp>
        <p:sp>
          <p:nvSpPr>
            <p:cNvPr id="326" name=""/>
            <p:cNvSpPr/>
            <p:nvPr/>
          </p:nvSpPr>
          <p:spPr>
            <a:xfrm>
              <a:off x="914400" y="3092040"/>
              <a:ext cx="6019920" cy="1066680"/>
            </a:xfrm>
            <a:prstGeom prst="rect">
              <a:avLst/>
            </a:prstGeom>
            <a:solidFill>
              <a:srgbClr val="c7c7df">
                <a:alpha val="50000"/>
              </a:srgbClr>
            </a:solidFill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2438280" y="3244680"/>
            <a:ext cx="4343400" cy="2775960"/>
            <a:chOff x="2438280" y="3244680"/>
            <a:chExt cx="4343400" cy="2775960"/>
          </a:xfrm>
        </p:grpSpPr>
        <p:sp>
          <p:nvSpPr>
            <p:cNvPr id="328" name=""/>
            <p:cNvSpPr/>
            <p:nvPr/>
          </p:nvSpPr>
          <p:spPr>
            <a:xfrm>
              <a:off x="3955680" y="5073480"/>
              <a:ext cx="1306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45472"/>
                  </a:solidFill>
                  <a:latin typeface="Arial"/>
                </a:rPr>
                <a:t>Inner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45472"/>
                  </a:solidFill>
                  <a:latin typeface="Arial"/>
                </a:rPr>
                <a:t>Center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28" idx="0"/>
              <a:endCxn id="330" idx="1"/>
            </p:cNvCxnSpPr>
            <p:nvPr/>
          </p:nvCxnSpPr>
          <p:spPr>
            <a:xfrm flipH="1" flipV="1">
              <a:off x="4607640" y="4480560"/>
              <a:ext cx="2520" cy="592920"/>
            </a:xfrm>
            <a:prstGeom prst="straightConnector1">
              <a:avLst/>
            </a:prstGeom>
            <a:ln w="38160">
              <a:solidFill>
                <a:srgbClr val="660066"/>
              </a:solidFill>
              <a:miter/>
            </a:ln>
          </p:spPr>
        </p:cxnSp>
        <p:sp>
          <p:nvSpPr>
            <p:cNvPr id="331" name=""/>
            <p:cNvSpPr/>
            <p:nvPr/>
          </p:nvSpPr>
          <p:spPr>
            <a:xfrm>
              <a:off x="2438280" y="3244680"/>
              <a:ext cx="4343400" cy="761760"/>
            </a:xfrm>
            <a:prstGeom prst="rect">
              <a:avLst/>
            </a:prstGeom>
            <a:solidFill>
              <a:srgbClr val="660066">
                <a:alpha val="50000"/>
              </a:srgbClr>
            </a:solidFill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16200000">
              <a:off x="4381200" y="2063160"/>
              <a:ext cx="457200" cy="434340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113040 h 4343400"/>
                <a:gd name="textAreaBottom" fmla="*/ 4230360 h 434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066680" y="3244680"/>
            <a:ext cx="1219320" cy="2775960"/>
            <a:chOff x="1066680" y="3244680"/>
            <a:chExt cx="1219320" cy="2775960"/>
          </a:xfrm>
        </p:grpSpPr>
        <p:sp>
          <p:nvSpPr>
            <p:cNvPr id="333" name=""/>
            <p:cNvSpPr/>
            <p:nvPr/>
          </p:nvSpPr>
          <p:spPr>
            <a:xfrm>
              <a:off x="1154880" y="5073480"/>
              <a:ext cx="1049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45472"/>
                  </a:solidFill>
                  <a:latin typeface="Arial"/>
                </a:rPr>
                <a:t>Inner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45472"/>
                  </a:solidFill>
                  <a:latin typeface="Arial"/>
                </a:rPr>
                <a:t>West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cxnSp>
          <p:nvCxnSpPr>
            <p:cNvPr id="334" name=""/>
            <p:cNvCxnSpPr>
              <a:stCxn id="335" idx="1"/>
              <a:endCxn id="333" idx="0"/>
            </p:cNvCxnSpPr>
            <p:nvPr/>
          </p:nvCxnSpPr>
          <p:spPr>
            <a:xfrm>
              <a:off x="1674360" y="4480920"/>
              <a:ext cx="5400" cy="592920"/>
            </a:xfrm>
            <a:prstGeom prst="straightConnector1">
              <a:avLst/>
            </a:prstGeom>
            <a:ln w="38160">
              <a:solidFill>
                <a:srgbClr val="8888ae"/>
              </a:solidFill>
              <a:miter/>
            </a:ln>
          </p:spPr>
        </p:cxnSp>
        <p:sp>
          <p:nvSpPr>
            <p:cNvPr id="336" name=""/>
            <p:cNvSpPr/>
            <p:nvPr/>
          </p:nvSpPr>
          <p:spPr>
            <a:xfrm>
              <a:off x="1066680" y="3244680"/>
              <a:ext cx="1219320" cy="761760"/>
            </a:xfrm>
            <a:prstGeom prst="rect">
              <a:avLst/>
            </a:prstGeom>
            <a:solidFill>
              <a:srgbClr val="8888ae">
                <a:alpha val="50000"/>
              </a:srgbClr>
            </a:solidFill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rot="16200000">
              <a:off x="1447560" y="3625200"/>
              <a:ext cx="457200" cy="121932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888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4FE9-6998-462A-8A52-9B04377D3FA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724184-662D-45C2-90BE-6A19882B1B6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abeled Text Fiel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38" name="border7" descr=""/>
          <p:cNvPicPr/>
          <p:nvPr/>
        </p:nvPicPr>
        <p:blipFill>
          <a:blip r:embed="rId2"/>
          <a:stretch/>
        </p:blipFill>
        <p:spPr>
          <a:xfrm>
            <a:off x="1143000" y="2014560"/>
            <a:ext cx="7440480" cy="3852720"/>
          </a:xfrm>
          <a:prstGeom prst="rect">
            <a:avLst/>
          </a:prstGeom>
          <a:ln w="9360">
            <a:solidFill>
              <a:srgbClr val="545472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901D-777D-4BA7-8E60-563D86013AB1}" type="slidenum">
              <a:t>5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77818D-A0C8-4156-A59B-E27BA0E6208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orderLayout Strateg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Use to lock edge component size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NORTH/SOUTH – locked at preferred height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EAST/WEST – locked at preferred width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CENTER – takes up remainder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wo adjacent component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One fixed width or height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Other stretche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3D2B-2B7F-4DF9-98DD-94722C6E6167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3771A2-D0AC-4708-B9FA-3B3CF198472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lowLayout in a BorderLayou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What would happen if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BorderLayout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NORTH=FlowLayout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Buttons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Remember, NORTH gets preferred height!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2AA8-26B0-4D5B-8D13-FBFE0F57BD6D}" type="slidenum">
              <a:t>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EF57A1-77F3-44D7-8EE7-0342501952E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UI Design vs.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UI Implement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-51732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Drag &amp; Drop in GUI Builder is </a:t>
            </a:r>
            <a:r>
              <a:rPr b="0" lang="en-US" sz="3200" spc="-1" strike="noStrike">
                <a:solidFill>
                  <a:srgbClr val="8888ae"/>
                </a:solidFill>
                <a:latin typeface="Tahoma"/>
              </a:rPr>
              <a:t>not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design!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517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517320" indent="-51732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roper design is done before building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923760" indent="-480240">
              <a:spcBef>
                <a:spcPts val="700"/>
              </a:spcBef>
              <a:buClr>
                <a:srgbClr val="545472"/>
              </a:buClr>
              <a:buSzPct val="8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Draw a picture!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923760" indent="-480240">
              <a:spcBef>
                <a:spcPts val="700"/>
              </a:spcBef>
              <a:buClr>
                <a:srgbClr val="545472"/>
              </a:buClr>
              <a:buSzPct val="8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nnotate with resize behavior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923760" indent="-480240">
              <a:spcBef>
                <a:spcPts val="700"/>
              </a:spcBef>
              <a:buClr>
                <a:srgbClr val="545472"/>
              </a:buClr>
              <a:buSzPct val="8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Determine layouts to us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EEC9-CBC2-4167-AC5C-EB92FE8A4D7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0018E8-456C-4EBA-8C3A-18AE56ACC90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lowLayout in a BorderLayou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44" name="border8" descr=""/>
          <p:cNvPicPr/>
          <p:nvPr/>
        </p:nvPicPr>
        <p:blipFill>
          <a:blip r:embed="rId2"/>
          <a:stretch/>
        </p:blipFill>
        <p:spPr>
          <a:xfrm>
            <a:off x="1190520" y="2004840"/>
            <a:ext cx="7267680" cy="4091040"/>
          </a:xfrm>
          <a:prstGeom prst="rect">
            <a:avLst/>
          </a:prstGeom>
          <a:ln w="9360">
            <a:solidFill>
              <a:srgbClr val="545472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B5AC-E7E3-4325-BA4A-EB8F4665810C}" type="slidenum">
              <a:t>6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1615E7-BC32-46C0-8377-685A1381AA4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lowLayout in a BorderLayou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46" name="border9" descr=""/>
          <p:cNvPicPr/>
          <p:nvPr/>
        </p:nvPicPr>
        <p:blipFill>
          <a:blip r:embed="rId2"/>
          <a:stretch/>
        </p:blipFill>
        <p:spPr>
          <a:xfrm>
            <a:off x="1523880" y="1905120"/>
            <a:ext cx="6629400" cy="4149720"/>
          </a:xfrm>
          <a:prstGeom prst="rect">
            <a:avLst/>
          </a:prstGeom>
          <a:ln w="9360">
            <a:solidFill>
              <a:srgbClr val="545472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51A9-3BC6-43CA-BADE-409788FE23BB}" type="slidenum">
              <a:t>6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370B20-DC88-4361-8576-9C559565D5C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lowLayout in a BorderLayou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5181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lowLayout in North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Note buttons that are not in the FlowLayout panel!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349" name="border10" descr=""/>
          <p:cNvPicPr/>
          <p:nvPr/>
        </p:nvPicPr>
        <p:blipFill>
          <a:blip r:embed="rId4"/>
          <a:stretch/>
        </p:blipFill>
        <p:spPr>
          <a:xfrm>
            <a:off x="6172200" y="2286000"/>
            <a:ext cx="2376360" cy="3517920"/>
          </a:xfrm>
          <a:prstGeom prst="rect">
            <a:avLst/>
          </a:prstGeom>
          <a:ln w="9360">
            <a:solidFill>
              <a:srgbClr val="545472"/>
            </a:solidFill>
            <a:miter/>
          </a:ln>
        </p:spPr>
      </p:pic>
      <p:sp>
        <p:nvSpPr>
          <p:cNvPr id="350" name=""/>
          <p:cNvSpPr/>
          <p:nvPr/>
        </p:nvSpPr>
        <p:spPr>
          <a:xfrm>
            <a:off x="990720" y="1957320"/>
            <a:ext cx="777240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733ca0"/>
                </a:solidFill>
                <a:latin typeface="Arial"/>
              </a:rPr>
              <a:t>Side view of the layout</a:t>
            </a:r>
            <a:endParaRPr b="0" lang="en-US" sz="3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848720" y="3657600"/>
            <a:ext cx="609480" cy="1295280"/>
          </a:xfrm>
          <a:prstGeom prst="rect">
            <a:avLst/>
          </a:prstGeom>
          <a:noFill/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648320" y="2743200"/>
            <a:ext cx="3047760" cy="53352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791320" y="3962520"/>
            <a:ext cx="2057400" cy="30456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528E-3612-448E-A8F4-7376414DC62B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269CA6-CC35-4010-B52E-2E17E171860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k and Cancel Buttons, Take O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55" name="OkCancel1" descr=""/>
          <p:cNvPicPr/>
          <p:nvPr/>
        </p:nvPicPr>
        <p:blipFill>
          <a:blip r:embed="rId2"/>
          <a:stretch/>
        </p:blipFill>
        <p:spPr>
          <a:xfrm>
            <a:off x="2930400" y="1893960"/>
            <a:ext cx="6061320" cy="3744720"/>
          </a:xfrm>
          <a:prstGeom prst="rect">
            <a:avLst/>
          </a:prstGeom>
          <a:ln w="9360">
            <a:solidFill>
              <a:srgbClr val="545472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DBDB-25B0-452B-A965-D92496760233}" type="slidenum">
              <a:t>6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737C28-419D-42C6-9F88-893195EDA13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k and Cancel Buttons, Take O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57" name="OkCancel1" descr=""/>
          <p:cNvPicPr/>
          <p:nvPr/>
        </p:nvPicPr>
        <p:blipFill>
          <a:blip r:embed="rId2"/>
          <a:stretch/>
        </p:blipFill>
        <p:spPr>
          <a:xfrm>
            <a:off x="2930400" y="1854360"/>
            <a:ext cx="6061320" cy="3744720"/>
          </a:xfrm>
          <a:prstGeom prst="rect">
            <a:avLst/>
          </a:prstGeom>
          <a:ln w="9360">
            <a:solidFill>
              <a:srgbClr val="545472"/>
            </a:solidFill>
            <a:miter/>
          </a:ln>
        </p:spPr>
      </p:pic>
      <p:grpSp>
        <p:nvGrpSpPr>
          <p:cNvPr id="358" name=""/>
          <p:cNvGrpSpPr/>
          <p:nvPr/>
        </p:nvGrpSpPr>
        <p:grpSpPr>
          <a:xfrm>
            <a:off x="708480" y="4521240"/>
            <a:ext cx="8208360" cy="914400"/>
            <a:chOff x="708480" y="4521240"/>
            <a:chExt cx="8208360" cy="914400"/>
          </a:xfrm>
        </p:grpSpPr>
        <p:sp>
          <p:nvSpPr>
            <p:cNvPr id="359" name=""/>
            <p:cNvSpPr/>
            <p:nvPr/>
          </p:nvSpPr>
          <p:spPr>
            <a:xfrm>
              <a:off x="708480" y="4726080"/>
              <a:ext cx="142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45472"/>
                  </a:solidFill>
                  <a:latin typeface="Arial"/>
                </a:rPr>
                <a:t>SOUTH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666880" y="4521240"/>
              <a:ext cx="152640" cy="91440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048120" y="4521240"/>
              <a:ext cx="5868720" cy="914400"/>
            </a:xfrm>
            <a:prstGeom prst="rect">
              <a:avLst/>
            </a:prstGeom>
            <a:solidFill>
              <a:srgbClr val="660066">
                <a:alpha val="50000"/>
              </a:srgbClr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cxnSp>
          <p:nvCxnSpPr>
            <p:cNvPr id="362" name=""/>
            <p:cNvCxnSpPr>
              <a:stCxn id="359" idx="3"/>
              <a:endCxn id="360" idx="1"/>
            </p:cNvCxnSpPr>
            <p:nvPr/>
          </p:nvCxnSpPr>
          <p:spPr>
            <a:xfrm flipV="1">
              <a:off x="2133720" y="4978080"/>
              <a:ext cx="514440" cy="8640"/>
            </a:xfrm>
            <a:prstGeom prst="straightConnector1">
              <a:avLst/>
            </a:prstGeom>
            <a:ln w="38160">
              <a:solidFill>
                <a:srgbClr val="660066"/>
              </a:solidFill>
              <a:miter/>
            </a:ln>
          </p:spPr>
        </p:cxnSp>
      </p:grpSp>
      <p:sp>
        <p:nvSpPr>
          <p:cNvPr id="363" name=""/>
          <p:cNvSpPr/>
          <p:nvPr/>
        </p:nvSpPr>
        <p:spPr>
          <a:xfrm>
            <a:off x="1895760" y="5958000"/>
            <a:ext cx="349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Arial"/>
              </a:rPr>
              <a:t>FlowLayout(RIGHT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3657600" y="5054760"/>
            <a:ext cx="990720" cy="91440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CBFE-9CA6-421C-B511-F98107707495}" type="slidenum">
              <a:t>6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6A9BD2-E0C4-4162-840C-C41ECF2B961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k and Cancel Buttons, Take O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OkCancel1a" descr=""/>
          <p:cNvPicPr/>
          <p:nvPr/>
        </p:nvPicPr>
        <p:blipFill>
          <a:blip r:embed="rId2"/>
          <a:stretch/>
        </p:blipFill>
        <p:spPr>
          <a:xfrm>
            <a:off x="2057400" y="1981080"/>
            <a:ext cx="5145120" cy="3899160"/>
          </a:xfrm>
          <a:prstGeom prst="rect">
            <a:avLst/>
          </a:prstGeom>
          <a:ln w="9360">
            <a:solidFill>
              <a:srgbClr val="545472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7D0D-4278-4FED-BEA3-75D421DF972C}" type="slidenum">
              <a:t>6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6EA5D6-5493-450A-9E31-8C989511830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k and Cancel Buttons, Take O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GUI Structure as a tre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anel [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BorderLayout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]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OUTH=Panel [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FlowLayout(RIGHT)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]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Button(</a:t>
            </a:r>
            <a:r>
              <a:rPr b="0" lang="en-US" sz="2400" spc="-1" strike="noStrike">
                <a:solidFill>
                  <a:srgbClr val="8888ae"/>
                </a:solidFill>
                <a:latin typeface="Tahoma"/>
              </a:rPr>
              <a:t>“Ok”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Button(</a:t>
            </a:r>
            <a:r>
              <a:rPr b="0" lang="en-US" sz="2400" spc="-1" strike="noStrike">
                <a:solidFill>
                  <a:srgbClr val="8888ae"/>
                </a:solidFill>
                <a:latin typeface="Tahoma"/>
              </a:rPr>
              <a:t>“Cancel”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12B1-7A6E-4DBD-A77F-75EE85495200}" type="slidenum">
              <a:t>6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8B8A18-4253-4243-9BB7-721F8525628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k and Cancel Buttons, Take O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5472"/>
                </a:solidFill>
                <a:latin typeface="Tahoma"/>
              </a:rPr>
              <a:t>So ya wanna see some code, eh?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2000" spc="-1" strike="noStrike">
                <a:solidFill>
                  <a:srgbClr val="660066"/>
                </a:solidFill>
                <a:latin typeface="Courier New"/>
              </a:rPr>
              <a:t>// “The blob” – anyone, ewwwww?</a:t>
            </a:r>
            <a:br>
              <a:rPr sz="2000"/>
            </a:br>
            <a:r>
              <a:rPr b="1" lang="en-US" sz="2000" spc="-1" strike="noStrike">
                <a:solidFill>
                  <a:srgbClr val="660066"/>
                </a:solidFill>
                <a:latin typeface="Courier New"/>
              </a:rPr>
              <a:t>// No obvious structure</a:t>
            </a:r>
            <a:br>
              <a:rPr sz="2000"/>
            </a:b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Panel outer </a:t>
            </a:r>
            <a:r>
              <a:rPr b="1" lang="en-US" sz="2000" spc="-1" strike="noStrike">
                <a:solidFill>
                  <a:srgbClr val="ff5050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7c7df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 Panel(</a:t>
            </a:r>
            <a:r>
              <a:rPr b="1" lang="en-US" sz="2000" spc="-1" strike="noStrike">
                <a:solidFill>
                  <a:srgbClr val="c7c7df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 BorderLayout());</a:t>
            </a:r>
            <a:br>
              <a:rPr sz="2000"/>
            </a:b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Panel inner </a:t>
            </a:r>
            <a:r>
              <a:rPr b="1" lang="en-US" sz="2000" spc="-1" strike="noStrike">
                <a:solidFill>
                  <a:srgbClr val="ff5050"/>
                </a:solidFill>
                <a:latin typeface="Courier New"/>
              </a:rPr>
              <a:t>=</a:t>
            </a:r>
            <a:br>
              <a:rPr sz="2000"/>
            </a:b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7c7df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 Panel(</a:t>
            </a:r>
            <a:r>
              <a:rPr b="1" lang="en-US" sz="2000" spc="-1" strike="noStrike">
                <a:solidFill>
                  <a:srgbClr val="c7c7df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 FlowLayout(</a:t>
            </a:r>
            <a:br>
              <a:rPr sz="2000"/>
            </a:b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FlowLayout</a:t>
            </a:r>
            <a:r>
              <a:rPr b="1" lang="en-US" sz="2000" spc="-1" strike="noStrike">
                <a:solidFill>
                  <a:srgbClr val="ff5050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RIGHT));</a:t>
            </a:r>
            <a:br>
              <a:rPr sz="2000"/>
            </a:b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inner</a:t>
            </a:r>
            <a:r>
              <a:rPr b="1" lang="en-US" sz="2000" spc="-1" strike="noStrike">
                <a:solidFill>
                  <a:srgbClr val="ff5050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add(okButton);</a:t>
            </a:r>
            <a:br>
              <a:rPr sz="2000"/>
            </a:b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inner</a:t>
            </a:r>
            <a:r>
              <a:rPr b="1" lang="en-US" sz="2000" spc="-1" strike="noStrike">
                <a:solidFill>
                  <a:srgbClr val="ff5050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add(cancelButton);</a:t>
            </a:r>
            <a:br>
              <a:rPr sz="2000"/>
            </a:b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outer</a:t>
            </a:r>
            <a:r>
              <a:rPr b="1" lang="en-US" sz="2000" spc="-1" strike="noStrike">
                <a:solidFill>
                  <a:srgbClr val="ff5050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add(inner,BorderLayout.SOUTH);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8D8B-F06F-4236-AFC1-995F36EA1D58}" type="slidenum">
              <a:t>6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BAE029-2006-4EC5-874E-A139B3C5F9A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k and Cancel Buttons, Take O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5472"/>
                </a:solidFill>
                <a:latin typeface="Tahoma"/>
              </a:rPr>
              <a:t>Giving structure to the GUI code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2000" spc="-1" strike="noStrike">
                <a:solidFill>
                  <a:srgbClr val="660066"/>
                </a:solidFill>
                <a:latin typeface="Courier New"/>
              </a:rPr>
              <a:t>// “Tree-structured” code</a:t>
            </a:r>
            <a:br>
              <a:rPr sz="2000"/>
            </a:br>
            <a:r>
              <a:rPr b="1" lang="en-US" sz="2000" spc="-1" strike="noStrike">
                <a:solidFill>
                  <a:srgbClr val="660066"/>
                </a:solidFill>
                <a:latin typeface="Courier New"/>
              </a:rPr>
              <a:t>//   (similar to a </a:t>
            </a:r>
            <a:br>
              <a:rPr sz="2000"/>
            </a:br>
            <a:r>
              <a:rPr b="1" lang="en-US" sz="2000" spc="-1" strike="noStrike">
                <a:solidFill>
                  <a:srgbClr val="660066"/>
                </a:solidFill>
                <a:latin typeface="Courier New"/>
              </a:rPr>
              <a:t>//      recursive-descent parser)</a:t>
            </a:r>
            <a:br>
              <a:rPr sz="2000"/>
            </a:br>
            <a:r>
              <a:rPr b="1" lang="en-US" sz="2000" spc="-1" strike="noStrike">
                <a:solidFill>
                  <a:srgbClr val="c7c7df"/>
                </a:solidFill>
                <a:latin typeface="Courier New"/>
              </a:rPr>
              <a:t>protected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 Button getOkButton() {</a:t>
            </a:r>
            <a:br>
              <a:rPr sz="2000"/>
            </a:b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7c7df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7c7df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 Button(</a:t>
            </a:r>
            <a:r>
              <a:rPr b="1" lang="en-US" sz="2000" spc="-1" strike="noStrike">
                <a:solidFill>
                  <a:srgbClr val="8888ae"/>
                </a:solidFill>
                <a:latin typeface="Courier New"/>
              </a:rPr>
              <a:t>“Ok”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);</a:t>
            </a:r>
            <a:br>
              <a:rPr sz="2000"/>
            </a:b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}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c7c7df"/>
                </a:solidFill>
                <a:latin typeface="Courier New"/>
              </a:rPr>
              <a:t>protected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 Button getCancelButton() {</a:t>
            </a:r>
            <a:br>
              <a:rPr sz="2000"/>
            </a:b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7c7df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7c7df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 Button(</a:t>
            </a:r>
            <a:r>
              <a:rPr b="1" lang="en-US" sz="2000" spc="-1" strike="noStrike">
                <a:solidFill>
                  <a:srgbClr val="8888ae"/>
                </a:solidFill>
                <a:latin typeface="Courier New"/>
              </a:rPr>
              <a:t>“Cancel”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);</a:t>
            </a:r>
            <a:br>
              <a:rPr sz="2000"/>
            </a:b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10C3-969F-4681-84FE-CD084CD27A72}" type="slidenum">
              <a:t>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4B5BCF-FEDF-4B7B-886B-7E28B77EEA4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k and Cancel Buttons, Take O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2000" spc="-1" strike="noStrike">
                <a:solidFill>
                  <a:srgbClr val="660066"/>
                </a:solidFill>
                <a:latin typeface="Courier New"/>
              </a:rPr>
              <a:t>// getButtonPanel() calls</a:t>
            </a:r>
            <a:br>
              <a:rPr sz="2000"/>
            </a:br>
            <a:r>
              <a:rPr b="1" lang="en-US" sz="2000" spc="-1" strike="noStrike">
                <a:solidFill>
                  <a:srgbClr val="660066"/>
                </a:solidFill>
                <a:latin typeface="Courier New"/>
              </a:rPr>
              <a:t>//   getOkButton()</a:t>
            </a:r>
            <a:br>
              <a:rPr sz="2000"/>
            </a:br>
            <a:r>
              <a:rPr b="1" lang="en-US" sz="2000" spc="-1" strike="noStrike">
                <a:solidFill>
                  <a:srgbClr val="660066"/>
                </a:solidFill>
                <a:latin typeface="Courier New"/>
              </a:rPr>
              <a:t>//   getCancelButton()</a:t>
            </a:r>
            <a:br>
              <a:rPr sz="2000"/>
            </a:br>
            <a:r>
              <a:rPr b="1" lang="en-US" sz="2000" spc="-1" strike="noStrike">
                <a:solidFill>
                  <a:srgbClr val="c7c7df"/>
                </a:solidFill>
                <a:latin typeface="Courier New"/>
              </a:rPr>
              <a:t>protected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 Panel getButtonPanel() {</a:t>
            </a:r>
            <a:br>
              <a:rPr sz="2000"/>
            </a:b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Panel p </a:t>
            </a:r>
            <a:r>
              <a:rPr b="1" lang="en-US" sz="2000" spc="-1" strike="noStrike">
                <a:solidFill>
                  <a:srgbClr val="ff5050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7c7df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 Panel(</a:t>
            </a:r>
            <a:r>
              <a:rPr b="1" lang="en-US" sz="2000" spc="-1" strike="noStrike">
                <a:solidFill>
                  <a:srgbClr val="c7c7df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 FlowLayout(</a:t>
            </a:r>
            <a:br>
              <a:rPr sz="2000"/>
            </a:b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FlowLayout</a:t>
            </a:r>
            <a:r>
              <a:rPr b="1" lang="en-US" sz="2000" spc="-1" strike="noStrike">
                <a:solidFill>
                  <a:srgbClr val="ff5050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RIGHT));</a:t>
            </a:r>
            <a:br>
              <a:rPr sz="2000"/>
            </a:b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p</a:t>
            </a:r>
            <a:r>
              <a:rPr b="1" lang="en-US" sz="2000" spc="-1" strike="noStrike">
                <a:solidFill>
                  <a:srgbClr val="ff5050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add(getOkButton());</a:t>
            </a:r>
            <a:br>
              <a:rPr sz="2000"/>
            </a:b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p</a:t>
            </a:r>
            <a:r>
              <a:rPr b="1" lang="en-US" sz="2000" spc="-1" strike="noStrike">
                <a:solidFill>
                  <a:srgbClr val="ff5050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add(getCancelButton()); </a:t>
            </a:r>
            <a:br>
              <a:rPr sz="2000"/>
            </a:b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7c7df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p;</a:t>
            </a:r>
            <a:br>
              <a:rPr sz="2000"/>
            </a:b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8695-C4A0-4883-8987-E9CA9BF19367}" type="slidenum">
              <a:t>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8FBA7D-D688-44C2-B939-7E4C7192BC9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aying Out GU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Absolute positioning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You place/size component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EVIL!!!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Layout Manager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lgorithms place/size component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WELL!!!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A9C1-0122-4FF3-B77B-B3CA9BDC9B3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13F2B8-B615-4511-A8DA-E44A28F0BBE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k and Cancel Buttons, Take O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2000" spc="-1" strike="noStrike">
                <a:solidFill>
                  <a:srgbClr val="660066"/>
                </a:solidFill>
                <a:latin typeface="Courier New"/>
              </a:rPr>
              <a:t>// getOverallPanel() calls</a:t>
            </a:r>
            <a:br>
              <a:rPr sz="2000"/>
            </a:br>
            <a:r>
              <a:rPr b="1" lang="en-US" sz="2000" spc="-1" strike="noStrike">
                <a:solidFill>
                  <a:srgbClr val="660066"/>
                </a:solidFill>
                <a:latin typeface="Courier New"/>
              </a:rPr>
              <a:t>//   getButtonPanel()</a:t>
            </a:r>
            <a:br>
              <a:rPr sz="2000"/>
            </a:br>
            <a:r>
              <a:rPr b="1" lang="en-US" sz="2000" spc="-1" strike="noStrike">
                <a:solidFill>
                  <a:srgbClr val="c7c7df"/>
                </a:solidFill>
                <a:latin typeface="Courier New"/>
              </a:rPr>
              <a:t>protected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 Panel getOverallPanel() {</a:t>
            </a:r>
            <a:br>
              <a:rPr sz="2000"/>
            </a:b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Panel p </a:t>
            </a:r>
            <a:r>
              <a:rPr b="1" lang="en-US" sz="2000" spc="-1" strike="noStrike">
                <a:solidFill>
                  <a:srgbClr val="ff5050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7c7df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 Panel(</a:t>
            </a:r>
            <a:r>
              <a:rPr b="1" lang="en-US" sz="2000" spc="-1" strike="noStrike">
                <a:solidFill>
                  <a:srgbClr val="c7c7df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 BorderLayout());</a:t>
            </a:r>
            <a:br>
              <a:rPr sz="2000"/>
            </a:b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p</a:t>
            </a:r>
            <a:r>
              <a:rPr b="1" lang="en-US" sz="2000" spc="-1" strike="noStrike">
                <a:solidFill>
                  <a:srgbClr val="ff5050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add(getButtonPanel(),</a:t>
            </a:r>
            <a:br>
              <a:rPr sz="2000"/>
            </a:b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      BorderLayout</a:t>
            </a:r>
            <a:r>
              <a:rPr b="1" lang="en-US" sz="2000" spc="-1" strike="noStrike">
                <a:solidFill>
                  <a:srgbClr val="ff5050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SOUTH);</a:t>
            </a:r>
            <a:br>
              <a:rPr sz="2000"/>
            </a:b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7c7df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p;</a:t>
            </a:r>
            <a:br>
              <a:rPr sz="2000"/>
            </a:b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2867-911C-466D-8FBD-4740663A3FA8}" type="slidenum">
              <a:t>7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BBC4BE-5144-41C8-8AB9-4E5BF0A2935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k and Cancel Buttons, Take O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Overall calling structur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getOverallPanel() call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getButtonPanel() call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getOkButton(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getCancelButton(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ame structure as tree description of GUI!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Design maps exactly to cod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9DB0-0B0A-4A42-8438-95A8BA1FD878}" type="slidenum">
              <a:t>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3A54D7-01DF-411D-A3B6-3EB4F2591EC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k and Cancel Buttons, Take O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e GUI isn’t quite right…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Ok and Cancel not same siz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We’ll see how to fix this later…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381" name="OkCancel1" descr=""/>
          <p:cNvPicPr/>
          <p:nvPr/>
        </p:nvPicPr>
        <p:blipFill>
          <a:blip r:embed="rId5"/>
          <a:stretch/>
        </p:blipFill>
        <p:spPr>
          <a:xfrm>
            <a:off x="2751120" y="2995560"/>
            <a:ext cx="4030560" cy="2490840"/>
          </a:xfrm>
          <a:prstGeom prst="rect">
            <a:avLst/>
          </a:prstGeom>
          <a:ln w="9360">
            <a:solidFill>
              <a:srgbClr val="545472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C7DF-0330-4F13-AACC-C19A6AE61041}" type="slidenum">
              <a:t>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C36ECD-ECA3-41B0-8800-A1FAAF4BE67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eferred Size of a BorderLayou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45472"/>
                </a:solidFill>
                <a:latin typeface="Tahoma"/>
              </a:rPr>
              <a:t>“</a:t>
            </a:r>
            <a:r>
              <a:rPr b="0" i="1" lang="en-US" sz="3200" spc="-1" strike="noStrike">
                <a:solidFill>
                  <a:srgbClr val="545472"/>
                </a:solidFill>
                <a:latin typeface="Tahoma"/>
              </a:rPr>
              <a:t>If I had </a:t>
            </a:r>
            <a:r>
              <a:rPr b="0" i="1" lang="en-US" sz="3200" spc="-1" strike="noStrike">
                <a:solidFill>
                  <a:srgbClr val="8888ae"/>
                </a:solidFill>
                <a:latin typeface="Tahoma"/>
              </a:rPr>
              <a:t>infinite</a:t>
            </a:r>
            <a:r>
              <a:rPr b="0" i="1" lang="en-US" sz="3200" spc="-1" strike="noStrike">
                <a:solidFill>
                  <a:srgbClr val="545472"/>
                </a:solidFill>
                <a:latin typeface="Tahoma"/>
              </a:rPr>
              <a:t> screen space, how big would I </a:t>
            </a:r>
            <a:r>
              <a:rPr b="0" i="1" lang="en-US" sz="3200" spc="-1" strike="noStrike">
                <a:solidFill>
                  <a:srgbClr val="8888ae"/>
                </a:solidFill>
                <a:latin typeface="Tahoma"/>
              </a:rPr>
              <a:t>like</a:t>
            </a:r>
            <a:r>
              <a:rPr b="0" i="1" lang="en-US" sz="3200" spc="-1" strike="noStrike">
                <a:solidFill>
                  <a:srgbClr val="545472"/>
                </a:solidFill>
                <a:latin typeface="Tahoma"/>
              </a:rPr>
              <a:t> to be?”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545472"/>
                </a:solidFill>
                <a:latin typeface="Courier New"/>
              </a:rPr>
              <a:t>pw = max(n.pw, s.pw, (w.pw+c.pw+e.pw))</a:t>
            </a:r>
            <a:br>
              <a:rPr sz="2400"/>
            </a:br>
            <a:r>
              <a:rPr b="1" lang="en-US" sz="2400" spc="-1" strike="noStrike">
                <a:solidFill>
                  <a:srgbClr val="545472"/>
                </a:solidFill>
                <a:latin typeface="Courier New"/>
              </a:rPr>
              <a:t>ph = n.ph + s.ph + max(w.ph, c.ph, e.ph)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384" name="border1" descr=""/>
          <p:cNvPicPr/>
          <p:nvPr/>
        </p:nvPicPr>
        <p:blipFill>
          <a:blip r:embed="rId3"/>
          <a:stretch/>
        </p:blipFill>
        <p:spPr>
          <a:xfrm>
            <a:off x="5257800" y="4114800"/>
            <a:ext cx="3505320" cy="2243160"/>
          </a:xfrm>
          <a:prstGeom prst="rect">
            <a:avLst/>
          </a:prstGeom>
          <a:ln w="9360">
            <a:solidFill>
              <a:srgbClr val="545472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1B60-15F2-4E1A-8787-F720B4139DEE}" type="slidenum">
              <a:t>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78A878-4FB1-4E29-9295-D9B543EECD0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eferredSize of a BorderLayou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nk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referred width is “widest row”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referred height is sum of row height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387" name="border1" descr=""/>
          <p:cNvPicPr/>
          <p:nvPr/>
        </p:nvPicPr>
        <p:blipFill>
          <a:blip r:embed="rId5"/>
          <a:stretch/>
        </p:blipFill>
        <p:spPr>
          <a:xfrm>
            <a:off x="5257800" y="4114800"/>
            <a:ext cx="3505320" cy="2243160"/>
          </a:xfrm>
          <a:prstGeom prst="rect">
            <a:avLst/>
          </a:prstGeom>
          <a:ln w="9360">
            <a:solidFill>
              <a:srgbClr val="545472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428E-B33E-4919-B257-457B8C375088}" type="slidenum">
              <a:t>7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131303-E759-48C8-A27B-144B310E93C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ridLayou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Lays components out in a grid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Like a calculator or phone keypad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390" name="Grid1" descr=""/>
          <p:cNvPicPr/>
          <p:nvPr/>
        </p:nvPicPr>
        <p:blipFill>
          <a:blip r:embed="rId4"/>
          <a:stretch/>
        </p:blipFill>
        <p:spPr>
          <a:xfrm>
            <a:off x="2286000" y="3192480"/>
            <a:ext cx="4343400" cy="2979720"/>
          </a:xfrm>
          <a:prstGeom prst="rect">
            <a:avLst/>
          </a:prstGeom>
          <a:ln w="9360">
            <a:solidFill>
              <a:srgbClr val="545472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B9C5-93DA-47BA-91AE-3CE11CBC50B7}" type="slidenum">
              <a:t>7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EAAF07-DEB2-480C-8823-B66368DEF04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ridLayou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c7c7df"/>
                </a:solidFill>
                <a:latin typeface="Courier New"/>
              </a:rPr>
              <a:t>new</a:t>
            </a:r>
            <a:r>
              <a:rPr b="1" lang="en-US" sz="2800" spc="-1" strike="noStrike">
                <a:solidFill>
                  <a:srgbClr val="545472"/>
                </a:solidFill>
                <a:latin typeface="Courier New"/>
              </a:rPr>
              <a:t> GridLayout(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3</a:t>
            </a:r>
            <a:r>
              <a:rPr b="1" lang="en-US" sz="2800" spc="-1" strike="noStrike">
                <a:solidFill>
                  <a:srgbClr val="545472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4</a:t>
            </a:r>
            <a:r>
              <a:rPr b="1" lang="en-US" sz="2800" spc="-1" strike="noStrike">
                <a:solidFill>
                  <a:srgbClr val="545472"/>
                </a:solidFill>
                <a:latin typeface="Courier New"/>
              </a:rPr>
              <a:t>);</a:t>
            </a:r>
            <a:br>
              <a:rPr sz="2800"/>
            </a:b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// 3 rows</a:t>
            </a:r>
            <a:br>
              <a:rPr sz="2800"/>
            </a:b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// 4 columns</a:t>
            </a:r>
            <a:br>
              <a:rPr sz="2800"/>
            </a:b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// we added 12 buttons..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393" name="Grid1" descr=""/>
          <p:cNvPicPr/>
          <p:nvPr/>
        </p:nvPicPr>
        <p:blipFill>
          <a:blip r:embed="rId2"/>
          <a:stretch/>
        </p:blipFill>
        <p:spPr>
          <a:xfrm>
            <a:off x="5715000" y="4114800"/>
            <a:ext cx="3276720" cy="2247840"/>
          </a:xfrm>
          <a:prstGeom prst="rect">
            <a:avLst/>
          </a:prstGeom>
          <a:ln w="9360">
            <a:solidFill>
              <a:srgbClr val="545472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96E2-C436-49DA-ACC0-FB146CEB5774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22502D-B4F2-40F4-ACB7-2F79D0C9332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n-Full GridLayou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What if there aren’t 12 buttons…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396" name="Grid1" descr=""/>
          <p:cNvPicPr/>
          <p:nvPr/>
        </p:nvPicPr>
        <p:blipFill>
          <a:blip r:embed="rId3"/>
          <a:stretch/>
        </p:blipFill>
        <p:spPr>
          <a:xfrm>
            <a:off x="1930320" y="2548080"/>
            <a:ext cx="5283360" cy="3624120"/>
          </a:xfrm>
          <a:prstGeom prst="rect">
            <a:avLst/>
          </a:prstGeom>
          <a:ln w="9360">
            <a:solidFill>
              <a:srgbClr val="545472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4AAC-D886-4C08-AEB9-14CA5E047CB0}" type="slidenum">
              <a:t>7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A07744-4AB0-4667-B975-A57E8A434F5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n-Full GridLayou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en there were 11…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399" name="Grid2" descr=""/>
          <p:cNvPicPr/>
          <p:nvPr/>
        </p:nvPicPr>
        <p:blipFill>
          <a:blip r:embed="rId3"/>
          <a:stretch/>
        </p:blipFill>
        <p:spPr>
          <a:xfrm>
            <a:off x="1930320" y="2548080"/>
            <a:ext cx="5283360" cy="3624120"/>
          </a:xfrm>
          <a:prstGeom prst="rect">
            <a:avLst/>
          </a:prstGeom>
          <a:ln w="9360">
            <a:solidFill>
              <a:srgbClr val="545472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2305-965D-4008-870C-0DFAD69102B6}" type="slidenum">
              <a:t>7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27EE4B-E227-4924-993D-23E418860B1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n-Full GridLayou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And then there were 10…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402" name="Grid3" descr=""/>
          <p:cNvPicPr/>
          <p:nvPr/>
        </p:nvPicPr>
        <p:blipFill>
          <a:blip r:embed="rId3"/>
          <a:stretch/>
        </p:blipFill>
        <p:spPr>
          <a:xfrm>
            <a:off x="1930320" y="2548080"/>
            <a:ext cx="5283360" cy="3624120"/>
          </a:xfrm>
          <a:prstGeom prst="rect">
            <a:avLst/>
          </a:prstGeom>
          <a:ln w="9360">
            <a:solidFill>
              <a:srgbClr val="545472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A186-B8CF-4D0B-B928-7F07E66A8AE3}" type="slidenum">
              <a:t>7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C84927-FA28-4C13-918C-B949268F763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bsolute Positioning/Siz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You position/size component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400" spc="-1" strike="noStrike">
                <a:solidFill>
                  <a:srgbClr val="545472"/>
                </a:solidFill>
                <a:latin typeface="Courier New"/>
              </a:rPr>
              <a:t>Button b </a:t>
            </a:r>
            <a:r>
              <a:rPr b="1" lang="en-US" sz="2400" spc="-1" strike="noStrike">
                <a:solidFill>
                  <a:srgbClr val="ff505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545472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c7c7df"/>
                </a:solidFill>
                <a:latin typeface="Courier New"/>
              </a:rPr>
              <a:t>new</a:t>
            </a:r>
            <a:r>
              <a:rPr b="1" lang="en-US" sz="2400" spc="-1" strike="noStrike">
                <a:solidFill>
                  <a:srgbClr val="545472"/>
                </a:solidFill>
                <a:latin typeface="Courier New"/>
              </a:rPr>
              <a:t> Button(</a:t>
            </a:r>
            <a:r>
              <a:rPr b="1" lang="en-US" sz="2400" spc="-1" strike="noStrike">
                <a:solidFill>
                  <a:srgbClr val="a7ccd9"/>
                </a:solidFill>
                <a:latin typeface="Courier New"/>
              </a:rPr>
              <a:t>“Ok”</a:t>
            </a:r>
            <a:r>
              <a:rPr b="1" lang="en-US" sz="2400" spc="-1" strike="noStrike">
                <a:solidFill>
                  <a:srgbClr val="545472"/>
                </a:solidFill>
                <a:latin typeface="Courier New"/>
              </a:rPr>
              <a:t>);</a:t>
            </a:r>
            <a:br>
              <a:rPr sz="2400"/>
            </a:br>
            <a:r>
              <a:rPr b="1" lang="en-US" sz="2400" spc="-1" strike="noStrike">
                <a:solidFill>
                  <a:srgbClr val="545472"/>
                </a:solidFill>
                <a:latin typeface="Courier New"/>
              </a:rPr>
              <a:t>panel</a:t>
            </a:r>
            <a:r>
              <a:rPr b="1" lang="en-US" sz="2400" spc="-1" strike="noStrike">
                <a:solidFill>
                  <a:srgbClr val="ff5050"/>
                </a:solidFill>
                <a:latin typeface="Courier New"/>
              </a:rPr>
              <a:t>.</a:t>
            </a:r>
            <a:r>
              <a:rPr b="1" lang="en-US" sz="2400" spc="-1" strike="noStrike">
                <a:solidFill>
                  <a:srgbClr val="545472"/>
                </a:solidFill>
                <a:latin typeface="Courier New"/>
              </a:rPr>
              <a:t>add(b);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545472"/>
                </a:solidFill>
                <a:latin typeface="Courier New"/>
              </a:rPr>
              <a:t>b</a:t>
            </a:r>
            <a:r>
              <a:rPr b="1" lang="en-US" sz="2400" spc="-1" strike="noStrike">
                <a:solidFill>
                  <a:srgbClr val="ff5050"/>
                </a:solidFill>
                <a:latin typeface="Courier New"/>
              </a:rPr>
              <a:t>.</a:t>
            </a:r>
            <a:r>
              <a:rPr b="1" lang="en-US" sz="2400" spc="-1" strike="noStrike">
                <a:solidFill>
                  <a:srgbClr val="545472"/>
                </a:solidFill>
                <a:latin typeface="Courier New"/>
              </a:rPr>
              <a:t>setLocation(</a:t>
            </a:r>
            <a:r>
              <a:rPr b="1" lang="en-US" sz="2400" spc="-1" strike="noStrike">
                <a:solidFill>
                  <a:srgbClr val="ff5050"/>
                </a:solidFill>
                <a:latin typeface="Courier New"/>
              </a:rPr>
              <a:t>10</a:t>
            </a:r>
            <a:r>
              <a:rPr b="1" lang="en-US" sz="2400" spc="-1" strike="noStrike">
                <a:solidFill>
                  <a:srgbClr val="545472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ff5050"/>
                </a:solidFill>
                <a:latin typeface="Courier New"/>
              </a:rPr>
              <a:t>10</a:t>
            </a:r>
            <a:r>
              <a:rPr b="1" lang="en-US" sz="2400" spc="-1" strike="noStrike">
                <a:solidFill>
                  <a:srgbClr val="545472"/>
                </a:solidFill>
                <a:latin typeface="Courier New"/>
              </a:rPr>
              <a:t>);</a:t>
            </a:r>
            <a:br>
              <a:rPr sz="2400"/>
            </a:br>
            <a:r>
              <a:rPr b="1" lang="en-US" sz="2400" spc="-1" strike="noStrike">
                <a:solidFill>
                  <a:srgbClr val="545472"/>
                </a:solidFill>
                <a:latin typeface="Courier New"/>
              </a:rPr>
              <a:t>b</a:t>
            </a:r>
            <a:r>
              <a:rPr b="1" lang="en-US" sz="2400" spc="-1" strike="noStrike">
                <a:solidFill>
                  <a:srgbClr val="ff5050"/>
                </a:solidFill>
                <a:latin typeface="Courier New"/>
              </a:rPr>
              <a:t>.</a:t>
            </a:r>
            <a:r>
              <a:rPr b="1" lang="en-US" sz="2400" spc="-1" strike="noStrike">
                <a:solidFill>
                  <a:srgbClr val="545472"/>
                </a:solidFill>
                <a:latin typeface="Courier New"/>
              </a:rPr>
              <a:t>setSize(</a:t>
            </a:r>
            <a:r>
              <a:rPr b="1" lang="en-US" sz="2400" spc="-1" strike="noStrike">
                <a:solidFill>
                  <a:srgbClr val="ff5050"/>
                </a:solidFill>
                <a:latin typeface="Courier New"/>
              </a:rPr>
              <a:t>100</a:t>
            </a:r>
            <a:r>
              <a:rPr b="1" lang="en-US" sz="2400" spc="-1" strike="noStrike">
                <a:solidFill>
                  <a:srgbClr val="545472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ff5050"/>
                </a:solidFill>
                <a:latin typeface="Courier New"/>
              </a:rPr>
              <a:t>20</a:t>
            </a:r>
            <a:r>
              <a:rPr b="1" lang="en-US" sz="2400" spc="-1" strike="noStrike">
                <a:solidFill>
                  <a:srgbClr val="545472"/>
                </a:solidFill>
                <a:latin typeface="Courier New"/>
              </a:rPr>
              <a:t>);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// or..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545472"/>
                </a:solidFill>
                <a:latin typeface="Courier New"/>
              </a:rPr>
              <a:t>b</a:t>
            </a:r>
            <a:r>
              <a:rPr b="1" lang="en-US" sz="2400" spc="-1" strike="noStrike">
                <a:solidFill>
                  <a:srgbClr val="ff5050"/>
                </a:solidFill>
                <a:latin typeface="Courier New"/>
              </a:rPr>
              <a:t>.</a:t>
            </a:r>
            <a:r>
              <a:rPr b="1" lang="en-US" sz="2400" spc="-1" strike="noStrike">
                <a:solidFill>
                  <a:srgbClr val="545472"/>
                </a:solidFill>
                <a:latin typeface="Courier New"/>
              </a:rPr>
              <a:t>setBounds(</a:t>
            </a:r>
            <a:r>
              <a:rPr b="1" lang="en-US" sz="2400" spc="-1" strike="noStrike">
                <a:solidFill>
                  <a:srgbClr val="ff5050"/>
                </a:solidFill>
                <a:latin typeface="Courier New"/>
              </a:rPr>
              <a:t>10</a:t>
            </a:r>
            <a:r>
              <a:rPr b="1" lang="en-US" sz="2400" spc="-1" strike="noStrike">
                <a:solidFill>
                  <a:srgbClr val="545472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ff5050"/>
                </a:solidFill>
                <a:latin typeface="Courier New"/>
              </a:rPr>
              <a:t>10</a:t>
            </a:r>
            <a:r>
              <a:rPr b="1" lang="en-US" sz="2400" spc="-1" strike="noStrike">
                <a:solidFill>
                  <a:srgbClr val="545472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ff5050"/>
                </a:solidFill>
                <a:latin typeface="Courier New"/>
              </a:rPr>
              <a:t>100</a:t>
            </a:r>
            <a:r>
              <a:rPr b="1" lang="en-US" sz="2400" spc="-1" strike="noStrike">
                <a:solidFill>
                  <a:srgbClr val="545472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ff5050"/>
                </a:solidFill>
                <a:latin typeface="Courier New"/>
              </a:rPr>
              <a:t>20</a:t>
            </a:r>
            <a:r>
              <a:rPr b="1" lang="en-US" sz="2400" spc="-1" strike="noStrike">
                <a:solidFill>
                  <a:srgbClr val="545472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958C-B4A0-4E08-8F2C-AB0BA6F849E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5B04D6-C293-4B50-AD97-3BE13AE5D10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n-Full GridLayou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Nine…Uh oh… That doesn’t look right…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405" name="Grid4" descr=""/>
          <p:cNvPicPr/>
          <p:nvPr/>
        </p:nvPicPr>
        <p:blipFill>
          <a:blip r:embed="rId3"/>
          <a:stretch/>
        </p:blipFill>
        <p:spPr>
          <a:xfrm>
            <a:off x="1930320" y="2548080"/>
            <a:ext cx="5283360" cy="3624120"/>
          </a:xfrm>
          <a:prstGeom prst="rect">
            <a:avLst/>
          </a:prstGeom>
          <a:ln w="9360">
            <a:solidFill>
              <a:srgbClr val="545472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233D-BEDC-41B2-9B0F-652025A0C5DD}" type="slidenum">
              <a:t>8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7183E7-16CD-4F8E-918D-4A54C9129F5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ridLayout Rows/Colum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When creating a GridLayout instanc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2800" spc="-1" strike="noStrike">
                <a:solidFill>
                  <a:srgbClr val="c7c7df"/>
                </a:solidFill>
                <a:latin typeface="Courier New"/>
              </a:rPr>
              <a:t>new</a:t>
            </a:r>
            <a:r>
              <a:rPr b="1" lang="en-US" sz="2800" spc="-1" strike="noStrike">
                <a:solidFill>
                  <a:srgbClr val="545472"/>
                </a:solidFill>
                <a:latin typeface="Courier New"/>
              </a:rPr>
              <a:t> GridLayout(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3</a:t>
            </a:r>
            <a:r>
              <a:rPr b="1" lang="en-US" sz="2800" spc="-1" strike="noStrike">
                <a:solidFill>
                  <a:srgbClr val="545472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4</a:t>
            </a:r>
            <a:r>
              <a:rPr b="1" lang="en-US" sz="2800" spc="-1" strike="noStrike">
                <a:solidFill>
                  <a:srgbClr val="545472"/>
                </a:solidFill>
                <a:latin typeface="Courier New"/>
              </a:rPr>
              <a:t>);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GridLayout </a:t>
            </a:r>
            <a:r>
              <a:rPr b="0" lang="en-US" sz="3200" spc="-1" strike="noStrike">
                <a:solidFill>
                  <a:srgbClr val="8888ae"/>
                </a:solidFill>
                <a:latin typeface="Tahoma"/>
              </a:rPr>
              <a:t>only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heeds the first </a:t>
            </a:r>
            <a:r>
              <a:rPr b="0" lang="en-US" sz="3200" spc="-1" strike="noStrike">
                <a:solidFill>
                  <a:srgbClr val="8888ae"/>
                </a:solidFill>
                <a:latin typeface="Tahoma"/>
              </a:rPr>
              <a:t>non-zero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05A9-6399-4A6C-B5C1-3936FB697154}" type="slidenum">
              <a:t>8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37B1CC-09BF-4F91-BBA8-9CD7C906E66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ridLayout Rows/Colum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c7c7df"/>
                </a:solidFill>
                <a:latin typeface="Courier New"/>
              </a:rPr>
              <a:t>new</a:t>
            </a:r>
            <a:r>
              <a:rPr b="1" lang="en-US" sz="2800" spc="-1" strike="noStrike">
                <a:solidFill>
                  <a:srgbClr val="545472"/>
                </a:solidFill>
                <a:latin typeface="Courier New"/>
              </a:rPr>
              <a:t> GridLayout(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3</a:t>
            </a:r>
            <a:r>
              <a:rPr b="1" lang="en-US" sz="2800" spc="-1" strike="noStrike">
                <a:solidFill>
                  <a:srgbClr val="545472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4</a:t>
            </a:r>
            <a:r>
              <a:rPr b="1" lang="en-US" sz="2800" spc="-1" strike="noStrike">
                <a:solidFill>
                  <a:srgbClr val="545472"/>
                </a:solidFill>
                <a:latin typeface="Courier New"/>
              </a:rPr>
              <a:t>);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// under the covers..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c7c7d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545472"/>
                </a:solidFill>
                <a:latin typeface="Courier New"/>
              </a:rPr>
              <a:t> (rows 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!=</a:t>
            </a:r>
            <a:r>
              <a:rPr b="1" lang="en-US" sz="2800" spc="-1" strike="noStrike">
                <a:solidFill>
                  <a:srgbClr val="545472"/>
                </a:solidFill>
                <a:latin typeface="Courier New"/>
              </a:rPr>
              <a:t> 0)</a:t>
            </a:r>
            <a:br>
              <a:rPr sz="2800"/>
            </a:br>
            <a:r>
              <a:rPr b="1" lang="en-US" sz="2800" spc="-1" strike="noStrike">
                <a:solidFill>
                  <a:srgbClr val="545472"/>
                </a:solidFill>
                <a:latin typeface="Courier New"/>
              </a:rPr>
              <a:t>  cols 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=</a:t>
            </a:r>
            <a:r>
              <a:rPr b="1" lang="en-US" sz="2800" spc="-1" strike="noStrike">
                <a:solidFill>
                  <a:srgbClr val="545472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// number necessary</a:t>
            </a:r>
            <a:br>
              <a:rPr sz="2800"/>
            </a:br>
            <a:r>
              <a:rPr b="1" lang="en-US" sz="2800" spc="-1" strike="noStrike">
                <a:solidFill>
                  <a:srgbClr val="c7c7df"/>
                </a:solidFill>
                <a:latin typeface="Courier New"/>
              </a:rPr>
              <a:t>else</a:t>
            </a:r>
            <a:br>
              <a:rPr sz="2800"/>
            </a:br>
            <a:r>
              <a:rPr b="1" lang="en-US" sz="2800" spc="-1" strike="noStrike">
                <a:solidFill>
                  <a:srgbClr val="545472"/>
                </a:solidFill>
                <a:latin typeface="Courier New"/>
              </a:rPr>
              <a:t>  rows 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=</a:t>
            </a:r>
            <a:r>
              <a:rPr b="1" lang="en-US" sz="2800" spc="-1" strike="noStrike">
                <a:solidFill>
                  <a:srgbClr val="545472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// number necessary</a:t>
            </a:r>
            <a:br>
              <a:rPr sz="2800"/>
            </a:b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BD2B-FD2A-4148-950A-B924F0CE523A}" type="slidenum">
              <a:t>8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0F5E9E-330D-46AD-AA00-DBBF0FCFA1D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ridLayout Rows/Colum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// better</a:t>
            </a:r>
            <a:br>
              <a:rPr sz="2800"/>
            </a:br>
            <a:r>
              <a:rPr b="1" lang="en-US" sz="2800" spc="-1" strike="noStrike">
                <a:solidFill>
                  <a:srgbClr val="c7c7df"/>
                </a:solidFill>
                <a:latin typeface="Courier New"/>
              </a:rPr>
              <a:t>new</a:t>
            </a:r>
            <a:r>
              <a:rPr b="1" lang="en-US" sz="2800" spc="-1" strike="noStrike">
                <a:solidFill>
                  <a:srgbClr val="545472"/>
                </a:solidFill>
                <a:latin typeface="Courier New"/>
              </a:rPr>
              <a:t> GridLayout(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3</a:t>
            </a:r>
            <a:r>
              <a:rPr b="1" lang="en-US" sz="2800" spc="-1" strike="noStrike">
                <a:solidFill>
                  <a:srgbClr val="545472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545472"/>
                </a:solidFill>
                <a:latin typeface="Courier New"/>
              </a:rPr>
              <a:t>);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// or...</a:t>
            </a:r>
            <a:br>
              <a:rPr sz="2800"/>
            </a:br>
            <a:r>
              <a:rPr b="1" lang="en-US" sz="2800" spc="-1" strike="noStrike">
                <a:solidFill>
                  <a:srgbClr val="c7c7df"/>
                </a:solidFill>
                <a:latin typeface="Courier New"/>
              </a:rPr>
              <a:t>new</a:t>
            </a:r>
            <a:r>
              <a:rPr b="1" lang="en-US" sz="2800" spc="-1" strike="noStrike">
                <a:solidFill>
                  <a:srgbClr val="545472"/>
                </a:solidFill>
                <a:latin typeface="Courier New"/>
              </a:rPr>
              <a:t> GridLayout(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545472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4</a:t>
            </a:r>
            <a:r>
              <a:rPr b="1" lang="en-US" sz="2800" spc="-1" strike="noStrike">
                <a:solidFill>
                  <a:srgbClr val="545472"/>
                </a:solidFill>
                <a:latin typeface="Courier New"/>
              </a:rPr>
              <a:t>);</a:t>
            </a:r>
            <a:br>
              <a:rPr sz="2800"/>
            </a:b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Always make one parameter zero!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66FE-B223-4609-859A-1BE4A695D917}" type="slidenum">
              <a:t>8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E5CD10-8DC9-4189-B6D2-21A296499B9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ridLayout hgap/vga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// with hgap and vgap</a:t>
            </a:r>
            <a:br>
              <a:rPr sz="2800"/>
            </a:br>
            <a:r>
              <a:rPr b="1" lang="en-US" sz="2800" spc="-1" strike="noStrike">
                <a:solidFill>
                  <a:srgbClr val="c7c7df"/>
                </a:solidFill>
                <a:latin typeface="Courier New"/>
              </a:rPr>
              <a:t>new</a:t>
            </a:r>
            <a:r>
              <a:rPr b="1" lang="en-US" sz="2800" spc="-1" strike="noStrike">
                <a:solidFill>
                  <a:srgbClr val="545472"/>
                </a:solidFill>
                <a:latin typeface="Courier New"/>
              </a:rPr>
              <a:t> GridLayout(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3</a:t>
            </a:r>
            <a:r>
              <a:rPr b="1" lang="en-US" sz="2800" spc="-1" strike="noStrike">
                <a:solidFill>
                  <a:srgbClr val="545472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0,3,5</a:t>
            </a:r>
            <a:r>
              <a:rPr b="1" lang="en-US" sz="2800" spc="-1" strike="noStrike">
                <a:solidFill>
                  <a:srgbClr val="545472"/>
                </a:solidFill>
                <a:latin typeface="Courier New"/>
              </a:rPr>
              <a:t>);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// rows=3</a:t>
            </a:r>
            <a:br>
              <a:rPr sz="2800"/>
            </a:b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// cols=0 (as many as needed)</a:t>
            </a:r>
            <a:br>
              <a:rPr sz="2800"/>
            </a:b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// hgap=3</a:t>
            </a:r>
            <a:br>
              <a:rPr sz="2800"/>
            </a:b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// vgap=5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813B-2EF0-4BCF-BA18-A2644F73FCE2}" type="slidenum">
              <a:t>8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BBA4CB-B7DC-4A64-ACAD-FC57B0C9B32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s GridLayout Useful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Interesting layout, but…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How many calculators do you write???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How many phone keypads do you write???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93F2-588F-468B-86A7-C1D9DC9F3F9A}" type="slidenum">
              <a:t>8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963901-09A4-4B20-8632-8D3C43CD2F5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ridLayout </a:t>
            </a:r>
            <a:r>
              <a:rPr b="0" i="1" lang="en-US" sz="4400" spc="-1" strike="noStrike">
                <a:solidFill>
                  <a:srgbClr val="660066"/>
                </a:solidFill>
                <a:latin typeface="Tahoma"/>
              </a:rPr>
              <a:t>Is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Useful!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at’s not the point!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Useful for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wo or more </a:t>
            </a:r>
            <a:r>
              <a:rPr b="0" lang="en-US" sz="2800" spc="-1" strike="noStrike">
                <a:solidFill>
                  <a:srgbClr val="8888ae"/>
                </a:solidFill>
                <a:latin typeface="Tahoma"/>
              </a:rPr>
              <a:t>adjacent component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Making components </a:t>
            </a:r>
            <a:r>
              <a:rPr b="0" lang="en-US" sz="2800" spc="-1" strike="noStrike">
                <a:solidFill>
                  <a:srgbClr val="8888ae"/>
                </a:solidFill>
                <a:latin typeface="Tahoma"/>
              </a:rPr>
              <a:t>same siz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Often only contains two components!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34C0-3F0A-4965-AF13-7D7755398E97}" type="slidenum">
              <a:t>8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F8652B-119F-4E28-9281-434C2A0215C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k and Cancel Buttons, Revisite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Want Ok/Cancel to be same siz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ey’re adjacent…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lace them in a GridLayou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420" name="OkCancel2" descr=""/>
          <p:cNvPicPr/>
          <p:nvPr/>
        </p:nvPicPr>
        <p:blipFill>
          <a:blip r:embed="rId5"/>
          <a:stretch/>
        </p:blipFill>
        <p:spPr>
          <a:xfrm>
            <a:off x="2550960" y="3828960"/>
            <a:ext cx="4040280" cy="2495520"/>
          </a:xfrm>
          <a:prstGeom prst="rect">
            <a:avLst/>
          </a:prstGeom>
          <a:ln w="9360">
            <a:solidFill>
              <a:srgbClr val="545472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A26A-FE23-4AA3-851F-8A8BA55896DE}" type="slidenum">
              <a:t>8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7812B4-72C0-4BA7-BE8D-DDF45B74A3F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k and Cancel Buttons, Revisite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anel [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BorderLayout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]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OUTH=Panel 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[FlowLayout(RIGHT)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]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Panel [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GridLayout(1,0)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]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Button(</a:t>
            </a:r>
            <a:r>
              <a:rPr b="0" lang="en-US" sz="2000" spc="-1" strike="noStrike">
                <a:solidFill>
                  <a:srgbClr val="8888ae"/>
                </a:solidFill>
                <a:latin typeface="Tahoma"/>
              </a:rPr>
              <a:t>“Ok”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Button(</a:t>
            </a:r>
            <a:r>
              <a:rPr b="0" lang="en-US" sz="2000" spc="-1" strike="noStrike">
                <a:solidFill>
                  <a:srgbClr val="8888ae"/>
                </a:solidFill>
                <a:latin typeface="Tahoma"/>
              </a:rPr>
              <a:t>“Cancel”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423" name="OkCancel2" descr=""/>
          <p:cNvPicPr/>
          <p:nvPr/>
        </p:nvPicPr>
        <p:blipFill>
          <a:blip r:embed="rId7"/>
          <a:stretch/>
        </p:blipFill>
        <p:spPr>
          <a:xfrm>
            <a:off x="4952880" y="3524400"/>
            <a:ext cx="4040280" cy="2495520"/>
          </a:xfrm>
          <a:prstGeom prst="rect">
            <a:avLst/>
          </a:prstGeom>
          <a:ln w="9360">
            <a:solidFill>
              <a:srgbClr val="545472"/>
            </a:solidFill>
            <a:miter/>
          </a:ln>
        </p:spPr>
      </p:pic>
      <p:sp>
        <p:nvSpPr>
          <p:cNvPr id="424" name=""/>
          <p:cNvSpPr/>
          <p:nvPr/>
        </p:nvSpPr>
        <p:spPr>
          <a:xfrm>
            <a:off x="6686640" y="5353200"/>
            <a:ext cx="2209680" cy="533160"/>
          </a:xfrm>
          <a:prstGeom prst="rect">
            <a:avLst/>
          </a:prstGeom>
          <a:solidFill>
            <a:srgbClr val="a7ccd9">
              <a:alpha val="50000"/>
            </a:srgbClr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529C-E9B6-480A-8B32-53B77C2B5DCE}" type="slidenum">
              <a:t>8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BFE30D-D917-43DD-ABE8-53D60F7372D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k and Cancel Buttons, Revisite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426" name="OkCancel2a" descr=""/>
          <p:cNvPicPr/>
          <p:nvPr/>
        </p:nvPicPr>
        <p:blipFill>
          <a:blip r:embed="rId2"/>
          <a:stretch/>
        </p:blipFill>
        <p:spPr>
          <a:xfrm>
            <a:off x="2133720" y="1905120"/>
            <a:ext cx="4895640" cy="4246560"/>
          </a:xfrm>
          <a:prstGeom prst="rect">
            <a:avLst/>
          </a:prstGeom>
          <a:ln w="9360">
            <a:solidFill>
              <a:srgbClr val="545472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EE38-A298-4193-8444-489EF77027CD}" type="slidenum">
              <a:t>8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97587B-4FB8-4807-82F4-7C1822EB8B2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Using a Layout Manag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Layout manager positions/sizes component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2800" spc="-1" strike="noStrike">
                <a:solidFill>
                  <a:srgbClr val="545472"/>
                </a:solidFill>
                <a:latin typeface="Courier New"/>
              </a:rPr>
              <a:t>Button b 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=</a:t>
            </a:r>
            <a:r>
              <a:rPr b="1" lang="en-US" sz="2800" spc="-1" strike="noStrike">
                <a:solidFill>
                  <a:srgbClr val="545472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c7c7df"/>
                </a:solidFill>
                <a:latin typeface="Courier New"/>
              </a:rPr>
              <a:t>new</a:t>
            </a:r>
            <a:r>
              <a:rPr b="1" lang="en-US" sz="2800" spc="-1" strike="noStrike">
                <a:solidFill>
                  <a:srgbClr val="545472"/>
                </a:solidFill>
                <a:latin typeface="Courier New"/>
              </a:rPr>
              <a:t> Button(</a:t>
            </a:r>
            <a:r>
              <a:rPr b="1" lang="en-US" sz="2800" spc="-1" strike="noStrike">
                <a:solidFill>
                  <a:srgbClr val="a7ccd9"/>
                </a:solidFill>
                <a:latin typeface="Courier New"/>
              </a:rPr>
              <a:t>“Ok”</a:t>
            </a:r>
            <a:r>
              <a:rPr b="1" lang="en-US" sz="2800" spc="-1" strike="noStrike">
                <a:solidFill>
                  <a:srgbClr val="545472"/>
                </a:solidFill>
                <a:latin typeface="Courier New"/>
              </a:rPr>
              <a:t>);</a:t>
            </a:r>
            <a:br>
              <a:rPr sz="2800"/>
            </a:br>
            <a:r>
              <a:rPr b="1" lang="en-US" sz="2800" spc="-1" strike="noStrike">
                <a:solidFill>
                  <a:srgbClr val="545472"/>
                </a:solidFill>
                <a:latin typeface="Courier New"/>
              </a:rPr>
              <a:t>panel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.</a:t>
            </a:r>
            <a:r>
              <a:rPr b="1" lang="en-US" sz="2800" spc="-1" strike="noStrike">
                <a:solidFill>
                  <a:srgbClr val="545472"/>
                </a:solidFill>
                <a:latin typeface="Courier New"/>
              </a:rPr>
              <a:t>setLayout(</a:t>
            </a:r>
            <a:r>
              <a:rPr b="1" lang="en-US" sz="2800" spc="-1" strike="noStrike">
                <a:solidFill>
                  <a:srgbClr val="c7c7df"/>
                </a:solidFill>
                <a:latin typeface="Courier New"/>
              </a:rPr>
              <a:t>new</a:t>
            </a:r>
            <a:r>
              <a:rPr b="1" lang="en-US" sz="2800" spc="-1" strike="noStrike">
                <a:solidFill>
                  <a:srgbClr val="545472"/>
                </a:solidFill>
                <a:latin typeface="Courier New"/>
              </a:rPr>
              <a:t> FlowLayout());</a:t>
            </a:r>
            <a:br>
              <a:rPr sz="2800"/>
            </a:br>
            <a:r>
              <a:rPr b="1" lang="en-US" sz="2800" spc="-1" strike="noStrike">
                <a:solidFill>
                  <a:srgbClr val="545472"/>
                </a:solidFill>
                <a:latin typeface="Courier New"/>
              </a:rPr>
              <a:t>panel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.</a:t>
            </a:r>
            <a:r>
              <a:rPr b="1" lang="en-US" sz="2800" spc="-1" strike="noStrike">
                <a:solidFill>
                  <a:srgbClr val="545472"/>
                </a:solidFill>
                <a:latin typeface="Courier New"/>
              </a:rPr>
              <a:t>add(b);</a:t>
            </a:r>
            <a:br>
              <a:rPr sz="2800"/>
            </a:b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7A44-332A-475E-BD83-C8AB84667DF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11AFF5-4480-4A9F-A796-207D28531AC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eferred Size of GridLayou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Make sure all components are happy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Each cell must b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s wide as widest component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s tall as tallest component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ame size as all other cell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DA07-BEAE-468A-9B0E-A4A378E1F2CB}" type="slidenum">
              <a:t>9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0A2806-6853-4F24-86D0-E4A712D44CC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ardLayou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Like a stack of index card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One component visible at a tim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an move between card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Least used standard layout manager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1C8F-FF24-4C99-9BA6-F907DFA8D14A}" type="slidenum">
              <a:t>9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9AE649-3BB7-4FE6-8A8E-EADD760F7B3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hat is CardLayout Useful For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abbed Panel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Wizard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433" name="tabsplitter" descr=""/>
          <p:cNvPicPr/>
          <p:nvPr/>
        </p:nvPicPr>
        <p:blipFill>
          <a:blip r:embed="rId4"/>
          <a:stretch/>
        </p:blipFill>
        <p:spPr>
          <a:xfrm>
            <a:off x="4343400" y="1933560"/>
            <a:ext cx="3038400" cy="1952640"/>
          </a:xfrm>
          <a:prstGeom prst="rect">
            <a:avLst/>
          </a:prstGeom>
          <a:ln w="9360">
            <a:solidFill>
              <a:srgbClr val="545472"/>
            </a:solidFill>
            <a:miter/>
          </a:ln>
        </p:spPr>
      </p:pic>
      <p:pic>
        <p:nvPicPr>
          <p:cNvPr id="434" name="wizard" descr=""/>
          <p:cNvPicPr/>
          <p:nvPr/>
        </p:nvPicPr>
        <p:blipFill>
          <a:blip r:embed="rId5"/>
          <a:stretch/>
        </p:blipFill>
        <p:spPr>
          <a:xfrm>
            <a:off x="4343400" y="4114800"/>
            <a:ext cx="3009960" cy="1981080"/>
          </a:xfrm>
          <a:prstGeom prst="rect">
            <a:avLst/>
          </a:prstGeom>
          <a:ln w="9360">
            <a:solidFill>
              <a:srgbClr val="545472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E2C0-AD9F-4F98-8ABD-E8FAB14C0E24}" type="slidenum">
              <a:t>9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6C92CE-1A50-4C95-AEE6-2A6E4BFB04E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hat is CardLayout Useful For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Empty Border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Better to use Swing Border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2800" spc="-1" strike="noStrike">
                <a:solidFill>
                  <a:srgbClr val="c7c7df"/>
                </a:solidFill>
                <a:latin typeface="Courier New"/>
              </a:rPr>
              <a:t>Panel</a:t>
            </a:r>
            <a:r>
              <a:rPr b="1" lang="en-US" sz="2800" spc="-1" strike="noStrike">
                <a:solidFill>
                  <a:srgbClr val="545472"/>
                </a:solidFill>
                <a:latin typeface="Courier New"/>
              </a:rPr>
              <a:t> dummy 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=</a:t>
            </a:r>
            <a:r>
              <a:rPr b="1" lang="en-US" sz="2800" spc="-1" strike="noStrike">
                <a:solidFill>
                  <a:srgbClr val="545472"/>
                </a:solidFill>
                <a:latin typeface="Courier New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545472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c7c7df"/>
                </a:solidFill>
                <a:latin typeface="Courier New"/>
              </a:rPr>
              <a:t>new</a:t>
            </a:r>
            <a:r>
              <a:rPr b="1" lang="en-US" sz="2800" spc="-1" strike="noStrike">
                <a:solidFill>
                  <a:srgbClr val="545472"/>
                </a:solidFill>
                <a:latin typeface="Courier New"/>
              </a:rPr>
              <a:t> Panel(</a:t>
            </a:r>
            <a:r>
              <a:rPr b="1" lang="en-US" sz="2800" spc="-1" strike="noStrike">
                <a:solidFill>
                  <a:srgbClr val="c7c7df"/>
                </a:solidFill>
                <a:latin typeface="Courier New"/>
              </a:rPr>
              <a:t>new</a:t>
            </a:r>
            <a:r>
              <a:rPr b="1" lang="en-US" sz="2800" spc="-1" strike="noStrike">
                <a:solidFill>
                  <a:srgbClr val="545472"/>
                </a:solidFill>
                <a:latin typeface="Courier New"/>
              </a:rPr>
              <a:t> CardLayout(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10</a:t>
            </a:r>
            <a:r>
              <a:rPr b="1" lang="en-US" sz="2800" spc="-1" strike="noStrike">
                <a:solidFill>
                  <a:srgbClr val="545472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10</a:t>
            </a:r>
            <a:r>
              <a:rPr b="1" lang="en-US" sz="2800" spc="-1" strike="noStrike">
                <a:solidFill>
                  <a:srgbClr val="545472"/>
                </a:solidFill>
                <a:latin typeface="Courier New"/>
              </a:rPr>
              <a:t>));</a:t>
            </a:r>
            <a:br>
              <a:rPr sz="2800"/>
            </a:br>
            <a:r>
              <a:rPr b="1" lang="en-US" sz="2800" spc="-1" strike="noStrike">
                <a:solidFill>
                  <a:srgbClr val="545472"/>
                </a:solidFill>
                <a:latin typeface="Courier New"/>
              </a:rPr>
              <a:t>dummy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.</a:t>
            </a:r>
            <a:r>
              <a:rPr b="1" lang="en-US" sz="2800" spc="-1" strike="noStrike">
                <a:solidFill>
                  <a:srgbClr val="545472"/>
                </a:solidFill>
                <a:latin typeface="Courier New"/>
              </a:rPr>
              <a:t>add(realStuffPanel);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2C82-97F5-423A-B6E4-2FBC9D6E0311}" type="slidenum">
              <a:t>9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014D0B-CF31-456C-9FBE-6BD261D91D5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xed-Size Componen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Maximum = Minimum = Preferred size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Useful for BoxLayou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86B1-CD22-450E-8E76-8F9666CA34FC}" type="slidenum">
              <a:t>9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C65EBB-EC6B-47FC-9AF5-B896A844A4B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correct Size Fix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JButton b </a:t>
            </a:r>
            <a:r>
              <a:rPr b="1" lang="en-US" sz="2000" spc="-1" strike="noStrike">
                <a:solidFill>
                  <a:srgbClr val="ff5050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7c7df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 JButton(</a:t>
            </a:r>
            <a:r>
              <a:rPr b="1" lang="en-US" sz="2000" spc="-1" strike="noStrike">
                <a:solidFill>
                  <a:srgbClr val="8888ae"/>
                </a:solidFill>
                <a:latin typeface="Courier New"/>
              </a:rPr>
              <a:t>“Hello”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);</a:t>
            </a:r>
            <a:br>
              <a:rPr sz="2000"/>
            </a:b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b</a:t>
            </a:r>
            <a:r>
              <a:rPr b="1" lang="en-US" sz="2000" spc="-1" strike="noStrike">
                <a:solidFill>
                  <a:srgbClr val="ff5050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setMinimumSize(b</a:t>
            </a:r>
            <a:r>
              <a:rPr b="1" lang="en-US" sz="2000" spc="-1" strike="noStrike">
                <a:solidFill>
                  <a:srgbClr val="ff5050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getPreferredSize());</a:t>
            </a:r>
            <a:br>
              <a:rPr sz="2000"/>
            </a:b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b</a:t>
            </a:r>
            <a:r>
              <a:rPr b="1" lang="en-US" sz="2000" spc="-1" strike="noStrike">
                <a:solidFill>
                  <a:srgbClr val="ff5050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setMaximumSize(b</a:t>
            </a:r>
            <a:r>
              <a:rPr b="1" lang="en-US" sz="2000" spc="-1" strike="noStrike">
                <a:solidFill>
                  <a:srgbClr val="ff5050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getPreferredSize());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660066"/>
                </a:solidFill>
                <a:latin typeface="Courier New"/>
              </a:rPr>
              <a:t>// Locks max and min at </a:t>
            </a:r>
            <a:r>
              <a:rPr b="1" i="1" lang="en-US" sz="2000" spc="-1" strike="noStrike">
                <a:solidFill>
                  <a:srgbClr val="660066"/>
                </a:solidFill>
                <a:latin typeface="Courier New"/>
              </a:rPr>
              <a:t>current</a:t>
            </a:r>
            <a:r>
              <a:rPr b="1" lang="en-US" sz="2000" spc="-1" strike="noStrike">
                <a:solidFill>
                  <a:srgbClr val="660066"/>
                </a:solidFill>
                <a:latin typeface="Courier New"/>
              </a:rPr>
              <a:t> preferred siz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660066"/>
                </a:solidFill>
                <a:latin typeface="Courier New"/>
              </a:rPr>
              <a:t>// Think about</a:t>
            </a:r>
            <a:br>
              <a:rPr sz="2000"/>
            </a:b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b</a:t>
            </a:r>
            <a:r>
              <a:rPr b="1" lang="en-US" sz="2000" spc="-1" strike="noStrike">
                <a:solidFill>
                  <a:srgbClr val="ff5050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setText(</a:t>
            </a:r>
            <a:r>
              <a:rPr b="1" lang="en-US" sz="2000" spc="-1" strike="noStrike">
                <a:solidFill>
                  <a:srgbClr val="8888ae"/>
                </a:solidFill>
                <a:latin typeface="Courier New"/>
              </a:rPr>
              <a:t>“Duke loves Java”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);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660066"/>
                </a:solidFill>
                <a:latin typeface="Courier New"/>
              </a:rPr>
              <a:t>// max and min are still set for “Hello”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AB26-35B1-46DC-B3A6-DE9D7DB52074}" type="slidenum">
              <a:t>9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0A9BEB-A262-4D33-B963-D729BA945F6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rrect Fixing Via Extens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2000" spc="-1" strike="noStrike">
                <a:solidFill>
                  <a:srgbClr val="c7c7df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7c7df"/>
                </a:solidFill>
                <a:latin typeface="Courier New"/>
              </a:rPr>
              <a:t>class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 FixedJButton </a:t>
            </a:r>
            <a:r>
              <a:rPr b="1" lang="en-US" sz="2000" spc="-1" strike="noStrike">
                <a:solidFill>
                  <a:srgbClr val="c7c7df"/>
                </a:solidFill>
                <a:latin typeface="Courier New"/>
              </a:rPr>
              <a:t>extends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 JButton {</a:t>
            </a:r>
            <a:br>
              <a:rPr sz="2000"/>
            </a:b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c7c7df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 FixedJButton(String text) {</a:t>
            </a:r>
            <a:br>
              <a:rPr sz="2000"/>
            </a:b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7c7df"/>
                </a:solidFill>
                <a:latin typeface="Courier New"/>
              </a:rPr>
              <a:t>super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(text);</a:t>
            </a:r>
            <a:br>
              <a:rPr sz="2000"/>
            </a:b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  }</a:t>
            </a:r>
            <a:br>
              <a:rPr sz="2000"/>
            </a:b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c7c7df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 Dimension getMaximumSize() {</a:t>
            </a:r>
            <a:br>
              <a:rPr sz="2000"/>
            </a:b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7c7df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 getPreferredSize();</a:t>
            </a:r>
            <a:br>
              <a:rPr sz="2000"/>
            </a:b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  }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c7c7df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 Dimension getMinimumSize() {</a:t>
            </a:r>
            <a:br>
              <a:rPr sz="2000"/>
            </a:b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7c7df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 getPreferredSize();</a:t>
            </a:r>
            <a:br>
              <a:rPr sz="2000"/>
            </a:b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  }</a:t>
            </a:r>
            <a:br>
              <a:rPr sz="2000"/>
            </a:b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EFAE-A0B2-4862-8EE7-DCFAA2147816}" type="slidenum">
              <a:t>9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988C60-8253-4140-852D-384B2AC7CEC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xing Via Decor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1800" spc="-1" strike="noStrike">
                <a:solidFill>
                  <a:srgbClr val="c7c7df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c7c7df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FixedDecorator 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c7c7df"/>
                </a:solidFill>
                <a:latin typeface="Courier New"/>
              </a:rPr>
              <a:t>extends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Container {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c7c7df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FixedDecorator() {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  setLayout(</a:t>
            </a:r>
            <a:r>
              <a:rPr b="1" lang="en-US" sz="1800" spc="-1" strike="noStrike">
                <a:solidFill>
                  <a:srgbClr val="c7c7df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GridLayout(</a:t>
            </a: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,</a:t>
            </a: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0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))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}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c7c7df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Dimension getMaximumSize() {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c7c7df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getPreferredSize()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}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c7c7df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Dimension getMinimumSize() {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c7c7df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getPreferredSize()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}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EDD5-93A1-405E-A42C-A491E78E601F}" type="slidenum">
              <a:t>9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EE7CF6-CE7E-459C-B37F-0F8A2AF6B08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Using Fixed Componen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2000" spc="-1" strike="noStrike">
                <a:solidFill>
                  <a:srgbClr val="660066"/>
                </a:solidFill>
                <a:latin typeface="Courier New"/>
              </a:rPr>
              <a:t>// Using the extended button</a:t>
            </a:r>
            <a:br>
              <a:rPr sz="2000"/>
            </a:b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FixedJButton b </a:t>
            </a:r>
            <a:r>
              <a:rPr b="1" lang="en-US" sz="2000" spc="-1" strike="noStrike">
                <a:solidFill>
                  <a:srgbClr val="ff5050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7c7df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 FixedJButton(</a:t>
            </a:r>
            <a:r>
              <a:rPr b="1" lang="en-US" sz="2000" spc="-1" strike="noStrike">
                <a:solidFill>
                  <a:srgbClr val="8888ae"/>
                </a:solidFill>
                <a:latin typeface="Courier New"/>
              </a:rPr>
              <a:t>“Hello”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);</a:t>
            </a:r>
            <a:br>
              <a:rPr sz="2000"/>
            </a:br>
            <a:r>
              <a:rPr b="1" lang="en-US" sz="2000" spc="-1" strike="noStrike">
                <a:solidFill>
                  <a:srgbClr val="660066"/>
                </a:solidFill>
                <a:latin typeface="Courier New"/>
              </a:rPr>
              <a:t>// use b just like a normal JButton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660066"/>
                </a:solidFill>
                <a:latin typeface="Courier New"/>
              </a:rPr>
              <a:t>// Using the decorator</a:t>
            </a:r>
            <a:br>
              <a:rPr sz="2000"/>
            </a:b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FixedDecorator d </a:t>
            </a:r>
            <a:r>
              <a:rPr b="1" lang="en-US" sz="2000" spc="-1" strike="noStrike">
                <a:solidFill>
                  <a:srgbClr val="ff5050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7c7df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 FixedDecorator();</a:t>
            </a:r>
            <a:br>
              <a:rPr sz="2000"/>
            </a:b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JButton b </a:t>
            </a:r>
            <a:r>
              <a:rPr b="1" lang="en-US" sz="2000" spc="-1" strike="noStrike">
                <a:solidFill>
                  <a:srgbClr val="ff5050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7c7df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 JButton(</a:t>
            </a:r>
            <a:r>
              <a:rPr b="1" lang="en-US" sz="2000" spc="-1" strike="noStrike">
                <a:solidFill>
                  <a:srgbClr val="8888ae"/>
                </a:solidFill>
                <a:latin typeface="Courier New"/>
              </a:rPr>
              <a:t>“Hello”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);</a:t>
            </a:r>
            <a:br>
              <a:rPr sz="2000"/>
            </a:b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d</a:t>
            </a:r>
            <a:r>
              <a:rPr b="1" lang="en-US" sz="2000" spc="-1" strike="noStrike">
                <a:solidFill>
                  <a:srgbClr val="ff5050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add(b);</a:t>
            </a:r>
            <a:br>
              <a:rPr sz="2000"/>
            </a:br>
            <a:r>
              <a:rPr b="1" lang="en-US" sz="2000" spc="-1" strike="noStrike">
                <a:solidFill>
                  <a:srgbClr val="660066"/>
                </a:solidFill>
                <a:latin typeface="Courier New"/>
              </a:rPr>
              <a:t>// add d into the GUI where you want</a:t>
            </a:r>
            <a:br>
              <a:rPr sz="2000"/>
            </a:br>
            <a:r>
              <a:rPr b="1" lang="en-US" sz="2000" spc="-1" strike="noStrike">
                <a:solidFill>
                  <a:srgbClr val="660066"/>
                </a:solidFill>
                <a:latin typeface="Courier New"/>
              </a:rPr>
              <a:t>//   the button</a:t>
            </a:r>
            <a:br>
              <a:rPr sz="2000"/>
            </a:br>
            <a:r>
              <a:rPr b="1" lang="en-US" sz="2000" spc="-1" strike="noStrike">
                <a:solidFill>
                  <a:srgbClr val="660066"/>
                </a:solidFill>
                <a:latin typeface="Courier New"/>
              </a:rPr>
              <a:t>// interact with b for button events etc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F3F6-2C1E-43F2-823D-34437D1B2C4C}" type="slidenum">
              <a:t>9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F1A591-6825-4BA8-8C5D-AC69506002C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oxLayou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Arranges components in a single lin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Horizontally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Vertically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Respect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referred Siz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Maximum Siz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Minimum Siz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42AF-8C04-4CA7-8E36-ADEEA84BF8FA}" type="slidenum">
              <a:t>9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7899C7-2F5E-4A90-86CD-453CC5B4412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9T00:58:45Z</dcterms:created>
  <dc:creator>Scott Stanchfield</dc:creator>
  <dc:description/>
  <dc:language>en-US</dc:language>
  <cp:lastModifiedBy>Scott Stanchfield</cp:lastModifiedBy>
  <dcterms:modified xsi:type="dcterms:W3CDTF">2002-04-08T01:02:28Z</dcterms:modified>
  <cp:revision>316</cp:revision>
  <dc:subject/>
  <dc:title>Effective Layout Management</dc:title>
</cp:coreProperties>
</file>