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EB1-8D26-4723-AF3C-16289B28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D08-0001-40DC-848D-38ECC39D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60F-C5AC-449A-A39B-0558DFBF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916-FB62-47E6-86E4-B33E7021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A0EB-51E4-408C-9B39-1711FE39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1D35-2E19-4F14-99C6-987C3DB9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B5C1-D5FA-4F02-9F0A-59012BED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B6EA-4B81-48B7-86A8-2C02078E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1516-F5EC-4ADC-8F94-6AD49AA3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261A-BE0D-4446-813B-BC82C033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5132-A06E-4174-991E-1327A95D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514-3EE4-41EA-9166-97C4F030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EBA8-163F-466B-972E-167D9C59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3191-B9D3-4158-AB9E-4B0F1C12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7BA2-033D-4342-811B-97A03712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7DE8-B83E-4CD5-88AF-BB211036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AF3E-FB02-4DC2-A7CA-4EAE23B8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625-480A-41BA-9825-856EA717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71D-9F2F-49BE-93A5-5EEDC6D2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29F-DDCA-4228-AF77-20BA0F77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156-F8B5-47E2-8D23-2A069719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F7E-AAA7-445F-9A5E-22633D86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240-10C1-4B8A-A8CE-0C26089E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E1F-2735-4356-8DFD-625C0807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FECD-5EA5-4B83-AFB7-05F6F0904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E9D2-58F2-44E5-920F-FABC3AF1C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hetick@javadude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VC for You and 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tt Stanch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r Technology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thetick@javadude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javadude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tended MV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xy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-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xy 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xy Mod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3120" y="469980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4"/>
            <a:endCxn id="191" idx="0"/>
          </p:cNvCxnSpPr>
          <p:nvPr/>
        </p:nvCxnSpPr>
        <p:spPr>
          <a:xfrm>
            <a:off x="2093760" y="4114440"/>
            <a:ext cx="5760" cy="60084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5905800" y="470916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6" idx="4"/>
            <a:endCxn id="194" idx="0"/>
          </p:cNvCxnSpPr>
          <p:nvPr/>
        </p:nvCxnSpPr>
        <p:spPr>
          <a:xfrm>
            <a:off x="6254640" y="4123800"/>
            <a:ext cx="7200" cy="60084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5149080" y="3489840"/>
            <a:ext cx="220968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8" idx="4"/>
            <a:endCxn id="196" idx="1"/>
          </p:cNvCxnSpPr>
          <p:nvPr/>
        </p:nvCxnSpPr>
        <p:spPr>
          <a:xfrm>
            <a:off x="4917600" y="2971440"/>
            <a:ext cx="57852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3777840" y="2337480"/>
            <a:ext cx="22806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200" idx="4"/>
            <a:endCxn id="196" idx="7"/>
          </p:cNvCxnSpPr>
          <p:nvPr/>
        </p:nvCxnSpPr>
        <p:spPr>
          <a:xfrm flipH="1">
            <a:off x="7011720" y="2971440"/>
            <a:ext cx="57384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880200" y="3480480"/>
            <a:ext cx="242748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ter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202" idx="4"/>
            <a:endCxn id="193" idx="0"/>
          </p:cNvCxnSpPr>
          <p:nvPr/>
        </p:nvCxnSpPr>
        <p:spPr>
          <a:xfrm>
            <a:off x="2092320" y="2980800"/>
            <a:ext cx="2160" cy="5151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952200" y="2346840"/>
            <a:ext cx="22806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45080" y="2337480"/>
            <a:ext cx="22806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lec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71960" y="470916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6" idx="4"/>
            <a:endCxn id="204" idx="0"/>
          </p:cNvCxnSpPr>
          <p:nvPr/>
        </p:nvCxnSpPr>
        <p:spPr>
          <a:xfrm flipH="1">
            <a:off x="3526920" y="2828520"/>
            <a:ext cx="1045440" cy="1896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5110200" y="470916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6" idx="4"/>
            <a:endCxn id="207" idx="0"/>
          </p:cNvCxnSpPr>
          <p:nvPr/>
        </p:nvCxnSpPr>
        <p:spPr>
          <a:xfrm>
            <a:off x="4571640" y="2828520"/>
            <a:ext cx="894600" cy="1896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431880" y="2194560"/>
            <a:ext cx="22806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0240" y="1752480"/>
            <a:ext cx="126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828080" y="4343400"/>
            <a:ext cx="5457960" cy="1191240"/>
            <a:chOff x="1828080" y="4343400"/>
            <a:chExt cx="5457960" cy="1191240"/>
          </a:xfrm>
        </p:grpSpPr>
        <p:sp>
          <p:nvSpPr>
            <p:cNvPr id="211" name=""/>
            <p:cNvSpPr/>
            <p:nvPr/>
          </p:nvSpPr>
          <p:spPr>
            <a:xfrm>
              <a:off x="6018840" y="4343400"/>
              <a:ext cx="126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l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ck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re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28080" y="4343400"/>
              <a:ext cx="126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l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ck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re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lec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9960" y="5706360"/>
            <a:ext cx="1862640" cy="116676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6" idx="4"/>
            <a:endCxn id="214" idx="1"/>
          </p:cNvCxnSpPr>
          <p:nvPr/>
        </p:nvCxnSpPr>
        <p:spPr>
          <a:xfrm>
            <a:off x="3527280" y="5343120"/>
            <a:ext cx="410400" cy="5454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17" name=""/>
          <p:cNvCxnSpPr>
            <a:stCxn id="218" idx="4"/>
            <a:endCxn id="214" idx="7"/>
          </p:cNvCxnSpPr>
          <p:nvPr/>
        </p:nvCxnSpPr>
        <p:spPr>
          <a:xfrm flipH="1">
            <a:off x="5204880" y="5343120"/>
            <a:ext cx="261360" cy="5454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3171960" y="470916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0200" y="470916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20" idx="4"/>
            <a:endCxn id="216" idx="0"/>
          </p:cNvCxnSpPr>
          <p:nvPr/>
        </p:nvCxnSpPr>
        <p:spPr>
          <a:xfrm flipH="1">
            <a:off x="3526920" y="2828520"/>
            <a:ext cx="1045440" cy="1896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21" name=""/>
          <p:cNvCxnSpPr>
            <a:stCxn id="220" idx="4"/>
            <a:endCxn id="214" idx="0"/>
          </p:cNvCxnSpPr>
          <p:nvPr/>
        </p:nvCxnSpPr>
        <p:spPr>
          <a:xfrm>
            <a:off x="4571640" y="2828520"/>
            <a:ext cx="1080" cy="28933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22" name=""/>
          <p:cNvCxnSpPr>
            <a:endCxn id="218" idx="0"/>
          </p:cNvCxnSpPr>
          <p:nvPr/>
        </p:nvCxnSpPr>
        <p:spPr>
          <a:xfrm>
            <a:off x="4571640" y="2828520"/>
            <a:ext cx="894600" cy="1896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3431880" y="2194560"/>
            <a:ext cx="22806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ct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/duplicate data needed in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60000" y="3663000"/>
            <a:ext cx="157428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52640" y="530928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91240" y="530928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9" idx="4"/>
            <a:endCxn id="226" idx="0"/>
          </p:cNvCxnSpPr>
          <p:nvPr/>
        </p:nvCxnSpPr>
        <p:spPr>
          <a:xfrm flipH="1">
            <a:off x="2307600" y="3428640"/>
            <a:ext cx="1045080" cy="1896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30" name=""/>
          <p:cNvCxnSpPr>
            <a:endCxn id="227" idx="0"/>
          </p:cNvCxnSpPr>
          <p:nvPr/>
        </p:nvCxnSpPr>
        <p:spPr>
          <a:xfrm>
            <a:off x="3352320" y="3428640"/>
            <a:ext cx="894600" cy="1896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2212560" y="2794680"/>
            <a:ext cx="22806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29" idx="6"/>
            <a:endCxn id="225" idx="0"/>
          </p:cNvCxnSpPr>
          <p:nvPr/>
        </p:nvCxnSpPr>
        <p:spPr>
          <a:xfrm>
            <a:off x="4460400" y="3119400"/>
            <a:ext cx="2086920" cy="5590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xy U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2133720"/>
            <a:ext cx="3505320" cy="4190760"/>
          </a:xfrm>
          <a:custGeom>
            <a:avLst/>
            <a:gdLst>
              <a:gd name="textAreaLeft" fmla="*/ 171000 w 3505320"/>
              <a:gd name="textAreaRight" fmla="*/ 3334320 w 3505320"/>
              <a:gd name="textAreaTop" fmla="*/ 171000 h 4190760"/>
              <a:gd name="textAreaBottom" fmla="*/ 4019760 h 4190760"/>
            </a:gdLst>
            <a:ahLst/>
            <a:rect l="textAreaLeft" t="textAreaTop" r="textAreaRight" b="textAreaBottom"/>
            <a:pathLst>
              <a:path w="21600" h="25823">
                <a:moveTo>
                  <a:pt x="3600" y="0"/>
                </a:moveTo>
                <a:arcTo wR="3600" hR="3600" stAng="16200000" swAng="-5400000"/>
                <a:lnTo>
                  <a:pt x="0" y="22223"/>
                </a:lnTo>
                <a:arcTo wR="3600" hR="3600" stAng="10800000" swAng="-5400000"/>
                <a:lnTo>
                  <a:pt x="18000" y="25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2133720"/>
            <a:ext cx="3504960" cy="4190760"/>
          </a:xfrm>
          <a:custGeom>
            <a:avLst/>
            <a:gdLst>
              <a:gd name="textAreaLeft" fmla="*/ 171000 w 3504960"/>
              <a:gd name="textAreaRight" fmla="*/ 3333960 w 3504960"/>
              <a:gd name="textAreaTop" fmla="*/ 171000 h 4190760"/>
              <a:gd name="textAreaBottom" fmla="*/ 4019760 h 4190760"/>
            </a:gdLst>
            <a:ahLst/>
            <a:rect l="textAreaLeft" t="textAreaTop" r="textAreaRight" b="textAreaBottom"/>
            <a:pathLst>
              <a:path w="21600" h="25826">
                <a:moveTo>
                  <a:pt x="3600" y="0"/>
                </a:moveTo>
                <a:arcTo wR="3600" hR="3600" stAng="16200000" swAng="-5400000"/>
                <a:lnTo>
                  <a:pt x="0" y="22226"/>
                </a:lnTo>
                <a:arcTo wR="3600" hR="3600" stAng="10800000" swAng="-5400000"/>
                <a:lnTo>
                  <a:pt x="18000" y="258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50720" y="4328640"/>
            <a:ext cx="1681200" cy="151236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roxy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mo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7" idx="5"/>
            <a:endCxn id="235" idx="1"/>
          </p:cNvCxnSpPr>
          <p:nvPr/>
        </p:nvCxnSpPr>
        <p:spPr>
          <a:xfrm>
            <a:off x="1914120" y="3609720"/>
            <a:ext cx="607320" cy="9514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757440" y="3066120"/>
            <a:ext cx="13824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/>
          <p:nvPr/>
        </p:nvCxnSpPr>
        <p:spPr>
          <a:xfrm flipV="1">
            <a:off x="1914120" y="2963520"/>
            <a:ext cx="677160" cy="2088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39" name=""/>
          <p:cNvCxnSpPr>
            <a:stCxn id="240" idx="2"/>
            <a:endCxn id="235" idx="6"/>
          </p:cNvCxnSpPr>
          <p:nvPr/>
        </p:nvCxnSpPr>
        <p:spPr>
          <a:xfrm flipH="1" flipV="1">
            <a:off x="3895200" y="5084280"/>
            <a:ext cx="1439280" cy="57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301360" y="4247640"/>
            <a:ext cx="1791360" cy="168444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rox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i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7"/>
            <a:endCxn id="242" idx="3"/>
          </p:cNvCxnSpPr>
          <p:nvPr/>
        </p:nvCxnSpPr>
        <p:spPr>
          <a:xfrm flipV="1">
            <a:off x="6807240" y="3410640"/>
            <a:ext cx="413280" cy="10947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6976440" y="2500200"/>
            <a:ext cx="1496160" cy="108072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remo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58520" y="2423520"/>
            <a:ext cx="1195200" cy="108072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loc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del View Controll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Parad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sses separa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iness Log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t just for GUI applicat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rts of Appli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47920" y="3429000"/>
            <a:ext cx="5770800" cy="1066680"/>
            <a:chOff x="1447920" y="3429000"/>
            <a:chExt cx="5770800" cy="1066680"/>
          </a:xfrm>
        </p:grpSpPr>
        <p:sp>
          <p:nvSpPr>
            <p:cNvPr id="96" name=""/>
            <p:cNvSpPr/>
            <p:nvPr/>
          </p:nvSpPr>
          <p:spPr>
            <a:xfrm>
              <a:off x="5715000" y="3429000"/>
              <a:ext cx="15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’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hanged!!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9200" y="3581280"/>
              <a:ext cx="914400" cy="914400"/>
            </a:xfrm>
            <a:prstGeom prst="lightningBol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7920" y="3521160"/>
              <a:ext cx="15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’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hanged!!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666160" y="3581280"/>
              <a:ext cx="838440" cy="914400"/>
            </a:xfrm>
            <a:prstGeom prst="lightningBol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00400" y="266688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268440" y="3809520"/>
            <a:ext cx="1002960" cy="1146600"/>
            <a:chOff x="3268440" y="3809520"/>
            <a:chExt cx="1002960" cy="1146600"/>
          </a:xfrm>
        </p:grpSpPr>
        <p:cxnSp>
          <p:nvCxnSpPr>
            <p:cNvPr id="102" name=""/>
            <p:cNvCxnSpPr>
              <a:stCxn id="93" idx="7"/>
              <a:endCxn id="100" idx="4"/>
            </p:cNvCxnSpPr>
            <p:nvPr/>
          </p:nvCxnSpPr>
          <p:spPr>
            <a:xfrm flipV="1">
              <a:off x="3268440" y="3809520"/>
              <a:ext cx="999000" cy="92952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3581640" y="4130640"/>
              <a:ext cx="68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580560" y="3809520"/>
            <a:ext cx="2066040" cy="2238840"/>
            <a:chOff x="3580560" y="3809520"/>
            <a:chExt cx="2066040" cy="2238840"/>
          </a:xfrm>
        </p:grpSpPr>
        <p:cxnSp>
          <p:nvCxnSpPr>
            <p:cNvPr id="105" name=""/>
            <p:cNvCxnSpPr>
              <a:stCxn id="94" idx="2"/>
              <a:endCxn id="93" idx="6"/>
            </p:cNvCxnSpPr>
            <p:nvPr/>
          </p:nvCxnSpPr>
          <p:spPr>
            <a:xfrm flipH="1">
              <a:off x="3580560" y="5143320"/>
              <a:ext cx="1753560" cy="108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4" idx="1"/>
              <a:endCxn id="100" idx="4"/>
            </p:cNvCxnSpPr>
            <p:nvPr/>
          </p:nvCxnSpPr>
          <p:spPr>
            <a:xfrm flipH="1" flipV="1">
              <a:off x="4266720" y="3809520"/>
              <a:ext cx="1380240" cy="92952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7" name=""/>
            <p:cNvSpPr/>
            <p:nvPr/>
          </p:nvSpPr>
          <p:spPr>
            <a:xfrm>
              <a:off x="4106880" y="5222880"/>
              <a:ext cx="116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47360" y="4359240"/>
              <a:ext cx="106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pd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ultiple Views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73392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87692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548640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4" idx="2"/>
            <a:endCxn id="112" idx="6"/>
          </p:cNvCxnSpPr>
          <p:nvPr/>
        </p:nvCxnSpPr>
        <p:spPr>
          <a:xfrm flipH="1">
            <a:off x="5562360" y="5600880"/>
            <a:ext cx="381600" cy="45792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cxnSp>
        <p:nvCxnSpPr>
          <p:cNvPr id="115" name=""/>
          <p:cNvCxnSpPr>
            <a:stCxn id="116" idx="4"/>
            <a:endCxn id="112" idx="0"/>
          </p:cNvCxnSpPr>
          <p:nvPr/>
        </p:nvCxnSpPr>
        <p:spPr>
          <a:xfrm>
            <a:off x="4266720" y="3809520"/>
            <a:ext cx="229320" cy="167724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cxnSp>
        <p:nvCxnSpPr>
          <p:cNvPr id="117" name=""/>
          <p:cNvCxnSpPr>
            <a:stCxn id="116" idx="3"/>
            <a:endCxn id="111" idx="0"/>
          </p:cNvCxnSpPr>
          <p:nvPr/>
        </p:nvCxnSpPr>
        <p:spPr>
          <a:xfrm flipH="1">
            <a:off x="2437920" y="3642840"/>
            <a:ext cx="1075680" cy="123444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cxnSp>
        <p:nvCxnSpPr>
          <p:cNvPr id="118" name=""/>
          <p:cNvCxnSpPr>
            <a:stCxn id="116" idx="2"/>
            <a:endCxn id="110" idx="7"/>
          </p:cNvCxnSpPr>
          <p:nvPr/>
        </p:nvCxnSpPr>
        <p:spPr>
          <a:xfrm flipH="1">
            <a:off x="2048760" y="3238200"/>
            <a:ext cx="1151640" cy="66276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3200400" y="266688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6" idx="6"/>
            <a:endCxn id="120" idx="2"/>
          </p:cNvCxnSpPr>
          <p:nvPr/>
        </p:nvCxnSpPr>
        <p:spPr>
          <a:xfrm>
            <a:off x="5333760" y="3238560"/>
            <a:ext cx="991080" cy="53424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324480" y="320040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502920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paration is the Key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472428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0"/>
            <a:endCxn id="124" idx="3"/>
          </p:cNvCxnSpPr>
          <p:nvPr/>
        </p:nvCxnSpPr>
        <p:spPr>
          <a:xfrm flipV="1">
            <a:off x="2514600" y="3033360"/>
            <a:ext cx="999000" cy="1691280"/>
          </a:xfrm>
          <a:prstGeom prst="straightConnector1">
            <a:avLst/>
          </a:prstGeom>
          <a:ln w="31680">
            <a:solidFill>
              <a:srgbClr val="3366ff"/>
            </a:solidFill>
            <a:miter/>
          </a:ln>
        </p:spPr>
      </p:cxnSp>
      <p:cxnSp>
        <p:nvCxnSpPr>
          <p:cNvPr id="125" name=""/>
          <p:cNvCxnSpPr>
            <a:stCxn id="122" idx="6"/>
            <a:endCxn id="126" idx="2"/>
          </p:cNvCxnSpPr>
          <p:nvPr/>
        </p:nvCxnSpPr>
        <p:spPr>
          <a:xfrm>
            <a:off x="3580920" y="5295600"/>
            <a:ext cx="1753560" cy="1080"/>
          </a:xfrm>
          <a:prstGeom prst="straightConnector1">
            <a:avLst/>
          </a:prstGeom>
          <a:ln w="31680">
            <a:solidFill>
              <a:srgbClr val="3366ff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5334120" y="472428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5"/>
            <a:endCxn id="126" idx="0"/>
          </p:cNvCxnSpPr>
          <p:nvPr/>
        </p:nvCxnSpPr>
        <p:spPr>
          <a:xfrm>
            <a:off x="5021280" y="3033720"/>
            <a:ext cx="1380240" cy="1691280"/>
          </a:xfrm>
          <a:prstGeom prst="straightConnector1">
            <a:avLst/>
          </a:prstGeom>
          <a:ln w="31680">
            <a:solidFill>
              <a:srgbClr val="3366ff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200400" y="205740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352680"/>
            <a:ext cx="8382240" cy="914400"/>
          </a:xfrm>
          <a:custGeom>
            <a:avLst/>
            <a:gdLst>
              <a:gd name="textAreaLeft" fmla="*/ 0 w 8382240"/>
              <a:gd name="textAreaRight" fmla="*/ 8382240 w 838224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3526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paration is the Key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352680"/>
            <a:ext cx="8382240" cy="914400"/>
          </a:xfrm>
          <a:custGeom>
            <a:avLst/>
            <a:gdLst>
              <a:gd name="textAreaLeft" fmla="*/ 0 w 8382240"/>
              <a:gd name="textAreaRight" fmla="*/ 8382240 w 838224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528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3526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409920" y="1752480"/>
            <a:ext cx="2152800" cy="4071600"/>
            <a:chOff x="3409920" y="1752480"/>
            <a:chExt cx="2152800" cy="4071600"/>
          </a:xfrm>
        </p:grpSpPr>
        <p:sp>
          <p:nvSpPr>
            <p:cNvPr id="135" name=""/>
            <p:cNvSpPr/>
            <p:nvPr/>
          </p:nvSpPr>
          <p:spPr>
            <a:xfrm>
              <a:off x="3413160" y="1752480"/>
              <a:ext cx="2149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???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9920" y="4267080"/>
              <a:ext cx="2149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???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mplifi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8" idx="0"/>
            <a:endCxn id="140" idx="3"/>
          </p:cNvCxnSpPr>
          <p:nvPr/>
        </p:nvCxnSpPr>
        <p:spPr>
          <a:xfrm flipV="1">
            <a:off x="2514600" y="3642840"/>
            <a:ext cx="999000" cy="92952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cxnSp>
        <p:nvCxnSpPr>
          <p:cNvPr id="141" name=""/>
          <p:cNvCxnSpPr>
            <a:stCxn id="138" idx="6"/>
            <a:endCxn id="142" idx="2"/>
          </p:cNvCxnSpPr>
          <p:nvPr/>
        </p:nvCxnSpPr>
        <p:spPr>
          <a:xfrm>
            <a:off x="3580920" y="5143320"/>
            <a:ext cx="1753560" cy="108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143000" y="4191120"/>
            <a:ext cx="6858000" cy="2514600"/>
          </a:xfrm>
          <a:prstGeom prst="rect">
            <a:avLst/>
          </a:prstGeom>
          <a:noFill/>
          <a:ln cap="rnd" w="507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8480" y="5622840"/>
            <a:ext cx="428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elegate / UI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2" idx="0"/>
            <a:endCxn id="140" idx="5"/>
          </p:cNvCxnSpPr>
          <p:nvPr/>
        </p:nvCxnSpPr>
        <p:spPr>
          <a:xfrm flipH="1" flipV="1">
            <a:off x="5020920" y="3642840"/>
            <a:ext cx="1380240" cy="92952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3200400" y="266688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plets and MV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133720"/>
            <a:ext cx="2743200" cy="373356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733560"/>
              <a:gd name="textAreaBottom" fmla="*/ 3599640 h 3733560"/>
            </a:gdLst>
            <a:ahLst/>
            <a:rect l="textAreaLeft" t="textAreaTop" r="textAreaRight" b="textAreaBottom"/>
            <a:pathLst>
              <a:path w="21600" h="29397">
                <a:moveTo>
                  <a:pt x="3600" y="0"/>
                </a:moveTo>
                <a:arcTo wR="3600" hR="3600" stAng="16200000" swAng="-5400000"/>
                <a:lnTo>
                  <a:pt x="0" y="25797"/>
                </a:lnTo>
                <a:arcTo wR="3600" hR="3600" stAng="10800000" swAng="-5400000"/>
                <a:lnTo>
                  <a:pt x="18000" y="29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3276720"/>
            <a:ext cx="1295280" cy="1218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2133720"/>
            <a:ext cx="2743200" cy="373356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733560"/>
              <a:gd name="textAreaBottom" fmla="*/ 3599640 h 3733560"/>
            </a:gdLst>
            <a:ahLst/>
            <a:rect l="textAreaLeft" t="textAreaTop" r="textAreaRight" b="textAreaBottom"/>
            <a:pathLst>
              <a:path w="21600" h="29397">
                <a:moveTo>
                  <a:pt x="3600" y="0"/>
                </a:moveTo>
                <a:arcTo wR="3600" hR="3600" stAng="16200000" swAng="-5400000"/>
                <a:lnTo>
                  <a:pt x="0" y="25797"/>
                </a:lnTo>
                <a:arcTo wR="3600" hR="3600" stAng="10800000" swAng="-5400000"/>
                <a:lnTo>
                  <a:pt x="18000" y="29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52680" y="3276720"/>
            <a:ext cx="3733920" cy="1218960"/>
            <a:chOff x="3352680" y="3276720"/>
            <a:chExt cx="3733920" cy="1218960"/>
          </a:xfrm>
        </p:grpSpPr>
        <p:cxnSp>
          <p:nvCxnSpPr>
            <p:cNvPr id="151" name=""/>
            <p:cNvCxnSpPr>
              <a:stCxn id="148" idx="6"/>
              <a:endCxn id="152" idx="2"/>
            </p:cNvCxnSpPr>
            <p:nvPr/>
          </p:nvCxnSpPr>
          <p:spPr>
            <a:xfrm>
              <a:off x="3352680" y="3885840"/>
              <a:ext cx="243900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505320" y="3733920"/>
              <a:ext cx="304560" cy="3045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3733920"/>
              <a:ext cx="304920" cy="304560"/>
            </a:xfrm>
            <a:prstGeom prst="hexagon">
              <a:avLst>
                <a:gd name="adj" fmla="val 25030"/>
                <a:gd name="vf" fmla="val 115470"/>
              </a:avLst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3276720"/>
              <a:ext cx="1295280" cy="1218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96880" y="2362320"/>
            <a:ext cx="2095200" cy="3124080"/>
            <a:chOff x="6896880" y="2362320"/>
            <a:chExt cx="2095200" cy="3124080"/>
          </a:xfrm>
        </p:grpSpPr>
        <p:cxnSp>
          <p:nvCxnSpPr>
            <p:cNvPr id="156" name=""/>
            <p:cNvCxnSpPr>
              <a:stCxn id="157" idx="2"/>
              <a:endCxn id="152" idx="5"/>
            </p:cNvCxnSpPr>
            <p:nvPr/>
          </p:nvCxnSpPr>
          <p:spPr>
            <a:xfrm flipH="1" flipV="1">
              <a:off x="6896880" y="4317480"/>
              <a:ext cx="723240" cy="788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158" name=""/>
            <p:cNvCxnSpPr>
              <a:stCxn id="152" idx="6"/>
            </p:cNvCxnSpPr>
            <p:nvPr/>
          </p:nvCxnSpPr>
          <p:spPr>
            <a:xfrm>
              <a:off x="7086600" y="3885840"/>
              <a:ext cx="1905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59" name=""/>
            <p:cNvSpPr/>
            <p:nvPr/>
          </p:nvSpPr>
          <p:spPr>
            <a:xfrm>
              <a:off x="8153280" y="3733920"/>
              <a:ext cx="304920" cy="304560"/>
            </a:xfrm>
            <a:prstGeom prst="hexagon">
              <a:avLst>
                <a:gd name="adj" fmla="val 25030"/>
                <a:gd name="vf" fmla="val 115470"/>
              </a:avLst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20120" y="4724280"/>
              <a:ext cx="533160" cy="762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61" idx="1"/>
              <a:endCxn id="152" idx="7"/>
            </p:cNvCxnSpPr>
            <p:nvPr/>
          </p:nvCxnSpPr>
          <p:spPr>
            <a:xfrm flipH="1">
              <a:off x="6896880" y="2628720"/>
              <a:ext cx="570600" cy="8262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7467480" y="2362320"/>
              <a:ext cx="685800" cy="533160"/>
            </a:xfrm>
            <a:prstGeom prst="flowChartMultidocumen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vlets/JSP and MV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828800"/>
            <a:ext cx="1524240" cy="152388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1676520"/>
            <a:ext cx="5943600" cy="41148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355920" y="3200400"/>
            <a:ext cx="1275480" cy="1523520"/>
            <a:chOff x="3355920" y="3200400"/>
            <a:chExt cx="1275480" cy="1523520"/>
          </a:xfrm>
        </p:grpSpPr>
        <p:sp>
          <p:nvSpPr>
            <p:cNvPr id="166" name=""/>
            <p:cNvSpPr/>
            <p:nvPr/>
          </p:nvSpPr>
          <p:spPr>
            <a:xfrm>
              <a:off x="3355920" y="3643200"/>
              <a:ext cx="1275480" cy="1080720"/>
            </a:xfrm>
            <a:prstGeom prst="octagon">
              <a:avLst>
                <a:gd name="adj" fmla="val 2928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S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router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8" idx="4"/>
              <a:endCxn id="166" idx="0"/>
            </p:cNvCxnSpPr>
            <p:nvPr/>
          </p:nvCxnSpPr>
          <p:spPr>
            <a:xfrm flipH="1">
              <a:off x="3993840" y="3200400"/>
              <a:ext cx="720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69" name=""/>
          <p:cNvSpPr/>
          <p:nvPr/>
        </p:nvSpPr>
        <p:spPr>
          <a:xfrm>
            <a:off x="4646880" y="52578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r Mac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76520" y="1981080"/>
            <a:ext cx="2971800" cy="1219320"/>
            <a:chOff x="1676520" y="1981080"/>
            <a:chExt cx="2971800" cy="1219320"/>
          </a:xfrm>
        </p:grpSpPr>
        <p:cxnSp>
          <p:nvCxnSpPr>
            <p:cNvPr id="171" name=""/>
            <p:cNvCxnSpPr>
              <a:stCxn id="163" idx="3"/>
              <a:endCxn id="168" idx="2"/>
            </p:cNvCxnSpPr>
            <p:nvPr/>
          </p:nvCxnSpPr>
          <p:spPr>
            <a:xfrm>
              <a:off x="1676520" y="2590560"/>
              <a:ext cx="167688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3352680" y="1981080"/>
              <a:ext cx="1295640" cy="1219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605480" y="2218680"/>
            <a:ext cx="1648800" cy="2785680"/>
            <a:chOff x="4605480" y="2218680"/>
            <a:chExt cx="1648800" cy="2785680"/>
          </a:xfrm>
        </p:grpSpPr>
        <p:cxnSp>
          <p:nvCxnSpPr>
            <p:cNvPr id="173" name=""/>
            <p:cNvCxnSpPr>
              <a:stCxn id="166" idx="3"/>
              <a:endCxn id="174" idx="1"/>
            </p:cNvCxnSpPr>
            <p:nvPr/>
          </p:nvCxnSpPr>
          <p:spPr>
            <a:xfrm flipV="1">
              <a:off x="4605480" y="2734920"/>
              <a:ext cx="776880" cy="14486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6" idx="3"/>
              <a:endCxn id="176" idx="1"/>
            </p:cNvCxnSpPr>
            <p:nvPr/>
          </p:nvCxnSpPr>
          <p:spPr>
            <a:xfrm>
              <a:off x="4605480" y="4183200"/>
              <a:ext cx="713520" cy="3052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74" name=""/>
            <p:cNvSpPr/>
            <p:nvPr/>
          </p:nvSpPr>
          <p:spPr>
            <a:xfrm>
              <a:off x="5352120" y="2218680"/>
              <a:ext cx="902160" cy="1033200"/>
            </a:xfrm>
            <a:prstGeom prst="octagon">
              <a:avLst>
                <a:gd name="adj" fmla="val 2928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S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UI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89120" y="3971160"/>
              <a:ext cx="901440" cy="1033200"/>
            </a:xfrm>
            <a:prstGeom prst="octagon">
              <a:avLst>
                <a:gd name="adj" fmla="val 2928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S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UI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60680" y="2735280"/>
            <a:ext cx="1916640" cy="1752480"/>
            <a:chOff x="6160680" y="2735280"/>
            <a:chExt cx="1916640" cy="1752480"/>
          </a:xfrm>
        </p:grpSpPr>
        <p:cxnSp>
          <p:nvCxnSpPr>
            <p:cNvPr id="178" name=""/>
            <p:cNvCxnSpPr>
              <a:stCxn id="174" idx="3"/>
              <a:endCxn id="179" idx="1"/>
            </p:cNvCxnSpPr>
            <p:nvPr/>
          </p:nvCxnSpPr>
          <p:spPr>
            <a:xfrm>
              <a:off x="6224760" y="2735280"/>
              <a:ext cx="746640" cy="2628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76" idx="3"/>
              <a:endCxn id="179" idx="3"/>
            </p:cNvCxnSpPr>
            <p:nvPr/>
          </p:nvCxnSpPr>
          <p:spPr>
            <a:xfrm flipV="1">
              <a:off x="6160680" y="3860280"/>
              <a:ext cx="810360" cy="6278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79" name=""/>
            <p:cNvSpPr/>
            <p:nvPr/>
          </p:nvSpPr>
          <p:spPr>
            <a:xfrm>
              <a:off x="6781680" y="2819520"/>
              <a:ext cx="1295640" cy="1218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136640" y="2133720"/>
            <a:ext cx="1702440" cy="4539600"/>
            <a:chOff x="7136640" y="2133720"/>
            <a:chExt cx="1702440" cy="4539600"/>
          </a:xfrm>
        </p:grpSpPr>
        <p:cxnSp>
          <p:nvCxnSpPr>
            <p:cNvPr id="182" name=""/>
            <p:cNvCxnSpPr>
              <a:stCxn id="179" idx="5"/>
              <a:endCxn id="183" idx="2"/>
            </p:cNvCxnSpPr>
            <p:nvPr/>
          </p:nvCxnSpPr>
          <p:spPr>
            <a:xfrm>
              <a:off x="7888320" y="3860640"/>
              <a:ext cx="265680" cy="1782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/>
            <p:nvPr/>
          </p:nvCxnSpPr>
          <p:spPr>
            <a:xfrm>
              <a:off x="7429320" y="4038120"/>
              <a:ext cx="1080" cy="21344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7136640" y="62136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??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53280" y="3657600"/>
              <a:ext cx="685800" cy="762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79" idx="7"/>
              <a:endCxn id="187" idx="1"/>
            </p:cNvCxnSpPr>
            <p:nvPr/>
          </p:nvCxnSpPr>
          <p:spPr>
            <a:xfrm flipV="1">
              <a:off x="7888320" y="2400120"/>
              <a:ext cx="265680" cy="5976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87" name=""/>
            <p:cNvSpPr/>
            <p:nvPr/>
          </p:nvSpPr>
          <p:spPr>
            <a:xfrm>
              <a:off x="8153280" y="2133720"/>
              <a:ext cx="609840" cy="533160"/>
            </a:xfrm>
            <a:prstGeom prst="flowChartMultidocumen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6:31:12Z</dcterms:created>
  <dc:creator>Scott Stanchfield</dc:creator>
  <dc:description/>
  <dc:language>en-US</dc:language>
  <cp:lastModifiedBy>Scott Stanchfield</cp:lastModifiedBy>
  <dcterms:modified xsi:type="dcterms:W3CDTF">2000-06-07T09:07:27Z</dcterms:modified>
  <cp:revision>17</cp:revision>
  <dc:subject/>
  <dc:title>MVC for You and Me</dc:title>
</cp:coreProperties>
</file>