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B480-9F6D-4D08-999F-1B43408C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FF87-47CB-454A-976F-4FCDFFA8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DFBE-7A75-4A92-9276-9D702B95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681A-B97C-4656-82C9-87B1810F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6930-9A6B-471E-9191-CADF55A5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CC1E-48F3-44E8-8392-0A253150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B99A-D59C-4E6B-8F80-76B8C506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4951-8359-4639-82E5-CB3EDEFD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8AE9-2B21-462F-A360-428E4C0A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DA4C-E010-4E67-ADE8-8E8DFA91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EAC0-71D3-4935-A926-C5AD54FF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F521-2CFA-4515-A015-C425DBF1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D6AC-31B9-41BD-8F14-6FB2AF16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01BF-6DAD-4E2C-94D6-178A3517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BF67-1A7C-43B4-9088-8E8BC311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55B2-7FA7-49F5-ABDF-2E4B4C9A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2906-C72C-473D-8224-7DFA6957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068A-D444-4E35-90F5-0A3E344A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6FF6-12D2-4ED5-B092-280D9223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DF7D-2C57-44EB-98A2-63103D1F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BDE5-DBF0-4FBB-BAD6-C4D01BD7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C20B-66A5-4C85-AB57-5FE9D7D8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72EB-C7CB-41EE-95CA-590F6543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FB59-551C-4D13-A7B6-844BFB33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B972-E519-49AC-947E-2F6CFAACFD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38D9-3B6F-44CF-9454-791C1CDE92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hetick@javadude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ions: Experience and Specul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tt Stanchfie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er Technology 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thetick@javadude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javadude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n A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f contained manipulation of a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onListen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associated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u i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strok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use Action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 in terms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attached to zero, one, or more GUI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reassigned at run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disabl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no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ntr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model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ions and MV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4572000"/>
            <a:ext cx="213336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4572000"/>
            <a:ext cx="213336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447920" y="3429000"/>
            <a:ext cx="5770800" cy="1066680"/>
            <a:chOff x="1447920" y="3429000"/>
            <a:chExt cx="5770800" cy="1066680"/>
          </a:xfrm>
        </p:grpSpPr>
        <p:sp>
          <p:nvSpPr>
            <p:cNvPr id="98" name=""/>
            <p:cNvSpPr/>
            <p:nvPr/>
          </p:nvSpPr>
          <p:spPr>
            <a:xfrm>
              <a:off x="5715000" y="3429000"/>
              <a:ext cx="150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I’v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hanged!!!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29200" y="3581280"/>
              <a:ext cx="914400" cy="914400"/>
            </a:xfrm>
            <a:prstGeom prst="lightningBol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47920" y="3521160"/>
              <a:ext cx="150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I’v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hanged!!!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666160" y="3581280"/>
              <a:ext cx="838440" cy="914400"/>
            </a:xfrm>
            <a:prstGeom prst="lightningBol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200400" y="2666880"/>
            <a:ext cx="213372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268440" y="3809520"/>
            <a:ext cx="1002960" cy="1146600"/>
            <a:chOff x="3268440" y="3809520"/>
            <a:chExt cx="1002960" cy="1146600"/>
          </a:xfrm>
        </p:grpSpPr>
        <p:cxnSp>
          <p:nvCxnSpPr>
            <p:cNvPr id="104" name=""/>
            <p:cNvCxnSpPr>
              <a:stCxn id="95" idx="7"/>
              <a:endCxn id="102" idx="4"/>
            </p:cNvCxnSpPr>
            <p:nvPr/>
          </p:nvCxnSpPr>
          <p:spPr>
            <a:xfrm flipV="1">
              <a:off x="3268440" y="3809520"/>
              <a:ext cx="999000" cy="929520"/>
            </a:xfrm>
            <a:prstGeom prst="straightConnector1">
              <a:avLst/>
            </a:prstGeom>
            <a:ln w="3168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05" name=""/>
            <p:cNvSpPr/>
            <p:nvPr/>
          </p:nvSpPr>
          <p:spPr>
            <a:xfrm>
              <a:off x="3581640" y="4130640"/>
              <a:ext cx="68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580560" y="3809520"/>
            <a:ext cx="2066040" cy="2238840"/>
            <a:chOff x="3580560" y="3809520"/>
            <a:chExt cx="2066040" cy="2238840"/>
          </a:xfrm>
        </p:grpSpPr>
        <p:cxnSp>
          <p:nvCxnSpPr>
            <p:cNvPr id="107" name=""/>
            <p:cNvCxnSpPr>
              <a:stCxn id="96" idx="2"/>
              <a:endCxn id="95" idx="6"/>
            </p:cNvCxnSpPr>
            <p:nvPr/>
          </p:nvCxnSpPr>
          <p:spPr>
            <a:xfrm flipH="1">
              <a:off x="3580560" y="5143320"/>
              <a:ext cx="1753560" cy="1080"/>
            </a:xfrm>
            <a:prstGeom prst="straightConnector1">
              <a:avLst/>
            </a:prstGeom>
            <a:ln w="3168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96" idx="1"/>
              <a:endCxn id="102" idx="4"/>
            </p:cNvCxnSpPr>
            <p:nvPr/>
          </p:nvCxnSpPr>
          <p:spPr>
            <a:xfrm flipH="1" flipV="1">
              <a:off x="4266720" y="3809520"/>
              <a:ext cx="1380240" cy="929520"/>
            </a:xfrm>
            <a:prstGeom prst="straightConnector1">
              <a:avLst/>
            </a:prstGeom>
            <a:ln w="3168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09" name=""/>
            <p:cNvSpPr/>
            <p:nvPr/>
          </p:nvSpPr>
          <p:spPr>
            <a:xfrm>
              <a:off x="4106880" y="5222880"/>
              <a:ext cx="1165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47360" y="4359240"/>
              <a:ext cx="106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Upd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ions and MV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572000"/>
            <a:ext cx="213336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4572000"/>
            <a:ext cx="213336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1676520"/>
            <a:ext cx="213372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3200400"/>
            <a:ext cx="2133720" cy="1143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4" idx="2"/>
            <a:endCxn id="112" idx="1"/>
          </p:cNvCxnSpPr>
          <p:nvPr/>
        </p:nvCxnSpPr>
        <p:spPr>
          <a:xfrm flipV="1" rot="10800000">
            <a:off x="1760400" y="2246760"/>
            <a:ext cx="1440360" cy="2491560"/>
          </a:xfrm>
          <a:prstGeom prst="curved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4" idx="6"/>
            <a:endCxn id="113" idx="7"/>
          </p:cNvCxnSpPr>
          <p:nvPr/>
        </p:nvCxnSpPr>
        <p:spPr>
          <a:xfrm>
            <a:off x="5334120" y="2247480"/>
            <a:ext cx="1821600" cy="2491560"/>
          </a:xfrm>
          <a:prstGeom prst="curved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5" idx="0"/>
            <a:endCxn id="114" idx="4"/>
          </p:cNvCxnSpPr>
          <p:nvPr/>
        </p:nvCxnSpPr>
        <p:spPr>
          <a:xfrm flipV="1">
            <a:off x="4266720" y="2819160"/>
            <a:ext cx="1080" cy="381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3" idx="1"/>
            <a:endCxn id="115" idx="5"/>
          </p:cNvCxnSpPr>
          <p:nvPr/>
        </p:nvCxnSpPr>
        <p:spPr>
          <a:xfrm flipH="1" flipV="1">
            <a:off x="5020560" y="4176000"/>
            <a:ext cx="626040" cy="5626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5" idx="3"/>
            <a:endCxn id="112" idx="7"/>
          </p:cNvCxnSpPr>
          <p:nvPr/>
        </p:nvCxnSpPr>
        <p:spPr>
          <a:xfrm flipH="1">
            <a:off x="3268440" y="4176360"/>
            <a:ext cx="244800" cy="5626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2" idx="0"/>
            <a:endCxn id="114" idx="3"/>
          </p:cNvCxnSpPr>
          <p:nvPr/>
        </p:nvCxnSpPr>
        <p:spPr>
          <a:xfrm flipV="1">
            <a:off x="2514600" y="2652120"/>
            <a:ext cx="999000" cy="19198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3352680" y="42670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77160" y="40384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90920" y="2209680"/>
            <a:ext cx="15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’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d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05920" y="2206800"/>
            <a:ext cx="15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’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d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10040" y="3200400"/>
            <a:ext cx="68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9080" y="28195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4" idx="6"/>
            <a:endCxn id="115" idx="6"/>
          </p:cNvCxnSpPr>
          <p:nvPr/>
        </p:nvCxnSpPr>
        <p:spPr>
          <a:xfrm>
            <a:off x="5334120" y="2247840"/>
            <a:ext cx="2160" cy="1524960"/>
          </a:xfrm>
          <a:prstGeom prst="curvedConnector5">
            <a:avLst>
              <a:gd name="adj1" fmla="val 14400000"/>
              <a:gd name="adj2" fmla="val 49988"/>
              <a:gd name="adj3" fmla="val 1440000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5499000" y="32004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3" idx="2"/>
            <a:endCxn id="112" idx="6"/>
          </p:cNvCxnSpPr>
          <p:nvPr/>
        </p:nvCxnSpPr>
        <p:spPr>
          <a:xfrm flipH="1">
            <a:off x="3580560" y="5143320"/>
            <a:ext cx="17535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3946680" y="51465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ample A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class AddAc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extends AbstractAction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// property AddressBookModel 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// property AddressDataModel dat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AddAction(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super("Add", addIcon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public void actionPerformed(ActionEvent e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odel.add(data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7T06:31:12Z</dcterms:created>
  <dc:creator>Scott Stanchfield</dc:creator>
  <dc:description/>
  <dc:language>en-US</dc:language>
  <cp:lastModifiedBy>Scott Stanchfield</cp:lastModifiedBy>
  <dcterms:modified xsi:type="dcterms:W3CDTF">2000-06-08T00:10:18Z</dcterms:modified>
  <cp:revision>21</cp:revision>
  <dc:subject/>
  <dc:title>MVC for You and Me</dc:title>
</cp:coreProperties>
</file>